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5603200" cy="4023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874-1BC5-4B07-8B17-06C2AC0E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21761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20960" y="24232320"/>
            <a:ext cx="21761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05A-4030-49AD-B8D8-446938AA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20960" y="2423232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071600" y="2423232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119-1E8C-49D6-8B4D-7989F241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278640" y="1162368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636680" y="1162368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20960" y="2423232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278640" y="2423232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636680" y="2423232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704-4747-4C9E-ACF2-3E355C49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20960" y="11623680"/>
            <a:ext cx="21761280" cy="241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FE7-D653-4759-8CCA-69D80BCD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21761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FB0-E4E9-49C9-AD9E-A8F39FBD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A45-1092-47D0-8A86-6AAE110D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795-D089-46AF-9D7E-3768F6CE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0960" y="3576240"/>
            <a:ext cx="21761280" cy="310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0DC-D363-45CA-B72C-CA768502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20960" y="2423232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AD8-DB47-4A36-9DA6-D111CA9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071600" y="2423232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097-9D84-4FEA-86AF-4E3944E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20960" y="24232320"/>
            <a:ext cx="21761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18F-9B16-4CB6-9C8E-A5013C1E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0960" y="11623680"/>
            <a:ext cx="21761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 fontScale="98000"/>
          </a:bodyPr>
          <a:p>
            <a:pPr marL="1382760" indent="-1382760">
              <a:spcBef>
                <a:spcPts val="3300"/>
              </a:spcBef>
              <a:buClr>
                <a:srgbClr val="000000"/>
              </a:buClr>
              <a:buFont typeface="Times New Roman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994840" indent="-1150920">
              <a:spcBef>
                <a:spcPts val="3300"/>
              </a:spcBef>
              <a:buClr>
                <a:srgbClr val="000000"/>
              </a:buClr>
              <a:buFont typeface="Times New Roman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608000" indent="-920880">
              <a:spcBef>
                <a:spcPts val="3300"/>
              </a:spcBef>
              <a:buClr>
                <a:srgbClr val="000000"/>
              </a:buClr>
              <a:buFont typeface="Times New Roman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51560" indent="-920520">
              <a:spcBef>
                <a:spcPts val="3300"/>
              </a:spcBef>
              <a:buClr>
                <a:srgbClr val="000000"/>
              </a:buClr>
              <a:buFont typeface="Times New Roman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4" marL="8295120" indent="-920880">
              <a:spcBef>
                <a:spcPts val="3300"/>
              </a:spcBef>
              <a:buClr>
                <a:srgbClr val="000000"/>
              </a:buClr>
              <a:buFont typeface="Times New Roman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5" marL="8295120" indent="-920880">
              <a:spcBef>
                <a:spcPts val="3300"/>
              </a:spcBef>
              <a:buClr>
                <a:srgbClr val="000000"/>
              </a:buClr>
              <a:buFont typeface="Times New Roman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6" marL="8295120" indent="-920880">
              <a:spcBef>
                <a:spcPts val="3300"/>
              </a:spcBef>
              <a:buClr>
                <a:srgbClr val="000000"/>
              </a:buClr>
              <a:buFont typeface="Times New Roman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20960" y="36657000"/>
            <a:ext cx="5333760" cy="2682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>
              <a:buNone/>
              <a:tabLst>
                <a:tab algn="l" pos="0"/>
                <a:tab algn="l" pos="3762360"/>
                <a:tab algn="l" pos="7524720"/>
              </a:tabLst>
              <a:defRPr b="0" lang="en-US" sz="5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747280" y="36657000"/>
            <a:ext cx="8108640" cy="2682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ctr">
              <a:buNone/>
              <a:tabLst>
                <a:tab algn="l" pos="0"/>
                <a:tab algn="l" pos="3762360"/>
                <a:tab algn="l" pos="7524720"/>
              </a:tabLst>
              <a:defRPr b="0" lang="en-US" sz="5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348480" y="36657000"/>
            <a:ext cx="5333760" cy="2682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r">
              <a:buNone/>
              <a:tabLst>
                <a:tab algn="l" pos="0"/>
                <a:tab algn="l" pos="3762360"/>
                <a:tab algn="l" pos="7524720"/>
              </a:tabLst>
              <a:defRPr b="0" lang="en-US" sz="5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62360"/>
                <a:tab algn="l" pos="7524720"/>
              </a:tabLst>
            </a:pPr>
            <a:fld id="{DBC4EED1-DF2E-4DA1-9BA1-6DCF627A82A8}" type="slidenum"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143000"/>
            <a:ext cx="17220960" cy="4483080"/>
          </a:xfrm>
          <a:prstGeom prst="rect">
            <a:avLst/>
          </a:prstGeom>
          <a:noFill/>
          <a:ln w="0">
            <a:noFill/>
          </a:ln>
          <a:effectLst>
            <a:outerShdw dist="162651" dir="231721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Comic Sans MS"/>
              </a:rPr>
              <a:t>A Distributed Database Server for Continuous Medi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191120"/>
            <a:ext cx="235458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2200"/>
                </a:solidFill>
                <a:latin typeface="Comic Sans MS"/>
              </a:rPr>
              <a:t>Search and Discovery for Digital Video Librar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8229600" y="22630680"/>
            <a:ext cx="685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5920" y="226314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445200">
            <a:off x="8453160" y="22563000"/>
            <a:ext cx="533160" cy="100080"/>
          </a:xfrm>
          <a:prstGeom prst="rect">
            <a:avLst/>
          </a:prstGeom>
          <a:solidFill>
            <a:srgbClr val="d3d3d3"/>
          </a:solidFill>
          <a:ln w="936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79200">
            <a:off x="12953520" y="257554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0200" y="2590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335120" y="259081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258800" y="2590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35120" y="27279720"/>
            <a:ext cx="533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3258800" y="272793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5120" y="31165920"/>
            <a:ext cx="10666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325480" y="313182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249520" y="3139452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4249520" y="311659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44600" y="325375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6520" y="5638680"/>
            <a:ext cx="22097880" cy="4724280"/>
            <a:chOff x="1676520" y="5638680"/>
            <a:chExt cx="22097880" cy="4724280"/>
          </a:xfrm>
        </p:grpSpPr>
        <p:sp>
          <p:nvSpPr>
            <p:cNvPr id="58" name=""/>
            <p:cNvSpPr/>
            <p:nvPr/>
          </p:nvSpPr>
          <p:spPr>
            <a:xfrm>
              <a:off x="1676520" y="6172200"/>
              <a:ext cx="2209788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3366"/>
                  </a:solidFill>
                  <a:latin typeface="Comic Sans MS"/>
                </a:rPr>
                <a:t>Indiana Center for Database Systems (ICDS)</a:t>
              </a:r>
              <a:r>
                <a:rPr b="0" lang="en-US" sz="6000" spc="-1" strike="noStrike">
                  <a:solidFill>
                    <a:srgbClr val="003366"/>
                  </a:solidFill>
                  <a:latin typeface="Comic Sans MS"/>
                </a:rPr>
                <a:t>          Advanced Video Database Technolo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66"/>
                  </a:solidFill>
                  <a:latin typeface="Comic Sans MS"/>
                </a:rPr>
                <a:t>supporting complete and efficient database functionality for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66"/>
                  </a:solidFill>
                  <a:latin typeface="Comic Sans MS"/>
                </a:rPr>
                <a:t>the video as a fundamental database object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1080" y="5638680"/>
              <a:ext cx="21641040" cy="457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232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337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194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050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66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910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2584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6728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0886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520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931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788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644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30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070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3572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7970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564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540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3094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0664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68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277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6990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6258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4812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42972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8440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6010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1866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9512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4559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114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82332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38272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7252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46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153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340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7722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4212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0401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500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9683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2376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807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4089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2136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248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3964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870320" y="56386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905120" y="9905760"/>
              <a:ext cx="21640680" cy="457200"/>
              <a:chOff x="1905120" y="9905760"/>
              <a:chExt cx="216406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1905120" y="9905760"/>
                <a:ext cx="21640680" cy="457200"/>
              </a:xfrm>
              <a:prstGeom prst="rect">
                <a:avLst/>
              </a:prstGeom>
              <a:solidFill>
                <a:srgbClr val="ffffff"/>
              </a:solidFill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600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574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430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287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003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47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1821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5964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0122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5757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168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5024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881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166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306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940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7207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2801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4776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2331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9900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005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514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6227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5494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7180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35340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7677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5246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1103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81880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3796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1351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74700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30640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489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2083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9390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03708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6959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86580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9638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737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8920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1613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044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3326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4504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8616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06332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94000" y="9905760"/>
                <a:ext cx="0" cy="4572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7467480" y="30480120"/>
            <a:ext cx="160020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16382880"/>
            <a:ext cx="11582640" cy="7391520"/>
          </a:xfrm>
          <a:custGeom>
            <a:avLst/>
            <a:gdLst>
              <a:gd name="textAreaLeft" fmla="*/ 1551600 w 11582640"/>
              <a:gd name="textAreaRight" fmla="*/ 10031040 w 11582640"/>
              <a:gd name="textAreaTop" fmla="*/ 1312920 h 7391520"/>
              <a:gd name="textAreaBottom" fmla="*/ 533880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74" stAng="-5400000" swAng="-5400000"/>
                <a:lnTo>
                  <a:pt x="0" y="11765"/>
                </a:lnTo>
                <a:arcTo wR="21600" hR="7674" stAng="10800000" swAng="-2457406"/>
                <a:lnTo>
                  <a:pt x="13418" y="21028"/>
                </a:lnTo>
                <a:lnTo>
                  <a:pt x="21600" y="17393"/>
                </a:lnTo>
                <a:lnTo>
                  <a:pt x="13418" y="12613"/>
                </a:lnTo>
                <a:lnTo>
                  <a:pt x="13418" y="14775"/>
                </a:lnTo>
                <a:arcTo wR="21600" hR="7674" stAng="8342594" swAng="2120713"/>
                <a:lnTo>
                  <a:pt x="782" y="9719"/>
                </a:lnTo>
                <a:arcTo wR="21600" hR="7674" stAng="-10463307" swAng="5063307"/>
                <a:close/>
              </a:path>
              <a:path fill="darkenLess" w="21600" h="21600">
                <a:moveTo>
                  <a:pt x="21600" y="0"/>
                </a:moveTo>
                <a:arcTo wR="21600" hR="7674" stAng="-5400000" swAng="-5400000"/>
                <a:lnTo>
                  <a:pt x="0" y="7674"/>
                </a:lnTo>
                <a:arcTo wR="21600" hR="7674" stAng="10800000" swAng="-336693"/>
                <a:lnTo>
                  <a:pt x="782" y="9719"/>
                </a:lnTo>
                <a:arcTo wR="21600" hR="7674" stAng="-10463307" swAng="5063307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10480" y="20421720"/>
            <a:ext cx="419112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249520" y="30708720"/>
            <a:ext cx="2286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258800" y="31241880"/>
            <a:ext cx="9448920" cy="7010640"/>
          </a:xfrm>
          <a:custGeom>
            <a:avLst/>
            <a:gdLst>
              <a:gd name="textAreaLeft" fmla="*/ 1265760 w 9448920"/>
              <a:gd name="textAreaRight" fmla="*/ 8183160 w 9448920"/>
              <a:gd name="textAreaTop" fmla="*/ 1191240 h 7010640"/>
              <a:gd name="textAreaBottom" fmla="*/ 5231880 h 701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41" stAng="-5400000" swAng="5400000"/>
                <a:lnTo>
                  <a:pt x="21600" y="12450"/>
                </a:lnTo>
                <a:arcTo wR="21600" hR="7341" stAng="0" swAng="2632010"/>
                <a:lnTo>
                  <a:pt x="7200" y="21180"/>
                </a:lnTo>
                <a:lnTo>
                  <a:pt x="0" y="17236"/>
                </a:lnTo>
                <a:lnTo>
                  <a:pt x="7200" y="12451"/>
                </a:lnTo>
                <a:lnTo>
                  <a:pt x="7200" y="14261"/>
                </a:lnTo>
                <a:arcTo wR="21600" hR="7341" stAng="2632010" swAng="-2200620"/>
                <a:lnTo>
                  <a:pt x="20250" y="9895"/>
                </a:lnTo>
                <a:arcTo wR="21600" hR="7341" stAng="-431389" swAng="-4968611"/>
                <a:close/>
              </a:path>
              <a:path fill="darkenLess" w="21600" h="21600">
                <a:moveTo>
                  <a:pt x="0" y="0"/>
                </a:moveTo>
                <a:arcTo wR="21600" hR="7341" stAng="-5400000" swAng="5400000"/>
                <a:lnTo>
                  <a:pt x="21600" y="12450"/>
                </a:lnTo>
                <a:arcTo wR="21600" hR="7341" stAng="0" swAng="-431389"/>
                <a:lnTo>
                  <a:pt x="20250" y="9895"/>
                </a:lnTo>
                <a:arcTo wR="21600" hR="7341" stAng="-431389" swAng="-4968611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2120" y="34975800"/>
            <a:ext cx="716256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1259800"/>
            <a:ext cx="9677520" cy="7238880"/>
          </a:xfrm>
          <a:custGeom>
            <a:avLst/>
            <a:gdLst>
              <a:gd name="textAreaLeft" fmla="*/ 1296360 w 9677520"/>
              <a:gd name="textAreaRight" fmla="*/ 8381160 w 9677520"/>
              <a:gd name="textAreaTop" fmla="*/ 1266840 h 7238880"/>
              <a:gd name="textAreaBottom" fmla="*/ 5248440 h 723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67680" y="24841080"/>
            <a:ext cx="41911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25908120"/>
            <a:ext cx="11734920" cy="7848360"/>
          </a:xfrm>
          <a:custGeom>
            <a:avLst/>
            <a:gdLst>
              <a:gd name="textAreaLeft" fmla="*/ 1572120 w 11734920"/>
              <a:gd name="textAreaRight" fmla="*/ 10162800 w 11734920"/>
              <a:gd name="textAreaTop" fmla="*/ 1373400 h 7848360"/>
              <a:gd name="textAreaBottom" fmla="*/ 5689080 h 78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1" stAng="-5400000" swAng="-5400000"/>
                <a:lnTo>
                  <a:pt x="0" y="11877"/>
                </a:lnTo>
                <a:arcTo wR="21600" hR="7561" stAng="10800000" swAng="-2682865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90"/>
                </a:lnTo>
                <a:arcTo wR="21600" hR="7561" stAng="8117135" swAng="2325792"/>
                <a:lnTo>
                  <a:pt x="898" y="9719"/>
                </a:lnTo>
                <a:arcTo wR="21600" hR="7561" stAng="-10442927" swAng="5042927"/>
                <a:close/>
              </a:path>
              <a:path fill="darkenLess" w="21600" h="21600">
                <a:moveTo>
                  <a:pt x="21600" y="0"/>
                </a:moveTo>
                <a:arcTo wR="21600" hR="7561" stAng="-5400000" swAng="-5400000"/>
                <a:lnTo>
                  <a:pt x="0" y="7561"/>
                </a:lnTo>
                <a:arcTo wR="21600" hR="7561" stAng="10800000" swAng="-357073"/>
                <a:lnTo>
                  <a:pt x="898" y="9719"/>
                </a:lnTo>
                <a:arcTo wR="21600" hR="7561" stAng="-10442927" swAng="5042927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839080" y="30251520"/>
            <a:ext cx="419112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3800" y="30556080"/>
            <a:ext cx="167652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49400">
            <a:off x="7464240" y="31162320"/>
            <a:ext cx="6854760" cy="15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vdbms-2" descr=""/>
          <p:cNvPicPr/>
          <p:nvPr/>
        </p:nvPicPr>
        <p:blipFill>
          <a:blip r:embed="rId1"/>
          <a:stretch/>
        </p:blipFill>
        <p:spPr>
          <a:xfrm>
            <a:off x="12496680" y="10667880"/>
            <a:ext cx="11811240" cy="7777440"/>
          </a:xfrm>
          <a:prstGeom prst="rect">
            <a:avLst/>
          </a:prstGeom>
          <a:ln w="57240">
            <a:solidFill>
              <a:srgbClr val="003366"/>
            </a:solidFill>
            <a:miter/>
          </a:ln>
          <a:effectLst>
            <a:outerShdw dist="179718" dir="2700000" blurRad="0" rotWithShape="0">
              <a:srgbClr val="b2b2b2"/>
            </a:outerShdw>
          </a:effectLst>
        </p:spPr>
      </p:pic>
      <p:sp>
        <p:nvSpPr>
          <p:cNvPr id="177" name=""/>
          <p:cNvSpPr/>
          <p:nvPr/>
        </p:nvSpPr>
        <p:spPr>
          <a:xfrm>
            <a:off x="7467480" y="31013280"/>
            <a:ext cx="0" cy="1524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31089600"/>
            <a:ext cx="0" cy="1523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1035400">
            <a:off x="7238880" y="17068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Pre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403600">
            <a:off x="3429360" y="179830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Vide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703600">
            <a:off x="5410080" y="1744956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Sho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1207000">
            <a:off x="8763120" y="16764120"/>
            <a:ext cx="39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proce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10667880"/>
            <a:ext cx="967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Innovative algorithms for shot detection with automatic threshold computation for shot cut determin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13944600"/>
            <a:ext cx="1051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MPEG-7 standards for descriptors using XML-like format to represent semantic and image-based video content descri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8516600"/>
            <a:ext cx="9220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Automatic keyframe extraction to identify shots for query results and fast brows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316200" y="18592920"/>
            <a:ext cx="9296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Novel image-processing techniques for extracting low-level visual features like color, texture and camera motion from each fr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99800">
            <a:off x="9372240" y="215643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21259800"/>
            <a:ext cx="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362400">
            <a:off x="10896120" y="217170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Que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720600">
            <a:off x="13249080" y="22317480"/>
            <a:ext cx="373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Proce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433800">
            <a:off x="6120360" y="21330720"/>
            <a:ext cx="30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Index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273800">
            <a:off x="3279600" y="205459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563720" y="27355680"/>
            <a:ext cx="11353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Multi-dimensional indexing structure to handle high-dimensional feature vectors for significantly improved query and retrieval – using the GiST  implementation of the SR-tree as the index access pa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5880" y="22555080"/>
            <a:ext cx="6782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Implementation of nearest neighbor queries to the high-dimensional access path for image similarity sear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3240880"/>
            <a:ext cx="13334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New rank-join query operator using optimal aggregate raking for effectively performing complex searches with multiple features or multiple image exam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0435400">
            <a:off x="1905480" y="2750796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Streaming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0986200">
            <a:off x="5791320" y="265939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Storag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1461400">
            <a:off x="8839080" y="262126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and Buff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80414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Search-based buffer management techniques to support continuous media strea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32842080"/>
            <a:ext cx="11048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Implementation of a stream manager layer above the buffer manager to serve (1) concurrent streams, (2) rate-specific streaming to user, and (3) guiding of the underlying buffer replacement and pre-fetching polic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335120" y="25831800"/>
            <a:ext cx="0" cy="1752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1058800">
            <a:off x="12713760" y="2582676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Manage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315800">
            <a:off x="1751760" y="3025116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Terti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98400">
            <a:off x="4647960" y="3108924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Stor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325480" y="31394520"/>
            <a:ext cx="0" cy="1447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658600" y="3352788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Different caching levels on buffer and disk storage to enhance access for frequently accessed d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77320" y="37414080"/>
            <a:ext cx="1661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Novel methods for managing video storage hierarchies: buffer, disk, tertiary storage and the Intern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59600">
            <a:off x="10285200" y="31549680"/>
            <a:ext cx="26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Query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2600">
            <a:off x="7772400" y="31241880"/>
            <a:ext cx="1905120" cy="129564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67020e"/>
              </a:gs>
              <a:gs pos="50000">
                <a:srgbClr val="ba041a"/>
              </a:gs>
              <a:gs pos="100000">
                <a:srgbClr val="67020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409800">
            <a:off x="15773040" y="319276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Searc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745800">
            <a:off x="18897120" y="3253716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Retriev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014800">
            <a:off x="19964880" y="3505176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Stre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325480" y="313182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182480" y="31089600"/>
            <a:ext cx="144792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030200" y="312418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106520" y="328420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23600">
            <a:off x="12862800" y="3169836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41a"/>
                </a:solidFill>
                <a:latin typeface="Comic Sans MS"/>
              </a:rPr>
              <a:t>Brows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15:57:05Z</dcterms:created>
  <dc:creator>acc</dc:creator>
  <dc:description/>
  <dc:language>en-US</dc:language>
  <cp:lastModifiedBy>acc</cp:lastModifiedBy>
  <dcterms:modified xsi:type="dcterms:W3CDTF">2001-10-30T16:53:11Z</dcterms:modified>
  <cp:revision>16</cp:revision>
  <dc:subject/>
  <dc:title>PowerPoint Presentation</dc:title>
</cp:coreProperties>
</file>