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5603200" cy="4023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524-4F5D-4301-A0EC-1072C2A3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20960" y="11623680"/>
            <a:ext cx="21761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20960" y="24232320"/>
            <a:ext cx="21761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84B-9B32-4669-874B-1DEB32AF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20960" y="1162368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071600" y="1162368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20960" y="2423232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071600" y="2423232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AB4-3CB7-4579-960B-111ADE30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20960" y="11623680"/>
            <a:ext cx="700704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278640" y="11623680"/>
            <a:ext cx="700704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636680" y="11623680"/>
            <a:ext cx="700704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20960" y="24232320"/>
            <a:ext cx="700704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278640" y="24232320"/>
            <a:ext cx="700704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6636680" y="24232320"/>
            <a:ext cx="700704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755-AFCC-4D79-B426-033284ED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20960" y="11623680"/>
            <a:ext cx="21761280" cy="241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03F5-F50A-4873-958C-4C5DE51F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20960" y="11623680"/>
            <a:ext cx="21761280" cy="241394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24D-2566-4D49-B155-3843BDAF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20960" y="11623680"/>
            <a:ext cx="10619280" cy="241394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071600" y="11623680"/>
            <a:ext cx="10619280" cy="241394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36E-0314-417B-A452-21CF9CAB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F57-4BC8-455F-8C0C-5EE46745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0960" y="3576240"/>
            <a:ext cx="21761280" cy="310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971-2848-4FA7-A870-1E4E4F02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20960" y="1162368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071600" y="11623680"/>
            <a:ext cx="10619280" cy="241394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20960" y="2423232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BC8-1EC8-44C1-B6C4-7F14E1D1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20960" y="11623680"/>
            <a:ext cx="10619280" cy="241394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071600" y="1162368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071600" y="2423232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D52-8444-4BAC-A0E6-50B29D86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20960" y="1162368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071600" y="11623680"/>
            <a:ext cx="10619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20960" y="24232320"/>
            <a:ext cx="21761280" cy="115142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CD9-E4A2-4E01-8261-91F34E7B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0960" y="357624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18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20960" y="11623680"/>
            <a:ext cx="21761280" cy="241394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 fontScale="98000"/>
          </a:bodyPr>
          <a:p>
            <a:pPr marL="1382760" indent="-1382760">
              <a:spcBef>
                <a:spcPts val="3300"/>
              </a:spcBef>
              <a:buClr>
                <a:srgbClr val="000000"/>
              </a:buClr>
              <a:buFont typeface="Times New Roman"/>
              <a:buChar char="•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994840" indent="-1150920">
              <a:spcBef>
                <a:spcPts val="3300"/>
              </a:spcBef>
              <a:buClr>
                <a:srgbClr val="000000"/>
              </a:buClr>
              <a:buFont typeface="Times New Roman"/>
              <a:buChar char="–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608000" indent="-920880">
              <a:spcBef>
                <a:spcPts val="3300"/>
              </a:spcBef>
              <a:buClr>
                <a:srgbClr val="000000"/>
              </a:buClr>
              <a:buFont typeface="Times New Roman"/>
              <a:buChar char="•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  <a:p>
            <a:pPr lvl="3" marL="6451560" indent="-920520">
              <a:spcBef>
                <a:spcPts val="3300"/>
              </a:spcBef>
              <a:buClr>
                <a:srgbClr val="000000"/>
              </a:buClr>
              <a:buFont typeface="Times New Roman"/>
              <a:buChar char="–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  <a:p>
            <a:pPr lvl="4" marL="8295120" indent="-920880">
              <a:spcBef>
                <a:spcPts val="3300"/>
              </a:spcBef>
              <a:buClr>
                <a:srgbClr val="000000"/>
              </a:buClr>
              <a:buFont typeface="Times New Roman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  <a:p>
            <a:pPr lvl="5" marL="8295120" indent="-920880">
              <a:spcBef>
                <a:spcPts val="3300"/>
              </a:spcBef>
              <a:buClr>
                <a:srgbClr val="000000"/>
              </a:buClr>
              <a:buFont typeface="Times New Roman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  <a:p>
            <a:pPr lvl="6" marL="8295120" indent="-920880">
              <a:spcBef>
                <a:spcPts val="3300"/>
              </a:spcBef>
              <a:buClr>
                <a:srgbClr val="000000"/>
              </a:buClr>
              <a:buFont typeface="Times New Roman"/>
              <a:buChar char="»"/>
              <a:tabLst>
                <a:tab algn="l" pos="3762360"/>
                <a:tab algn="l" pos="752472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20960" y="36657000"/>
            <a:ext cx="5333760" cy="2682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lstStyle>
            <a:lvl1pPr indent="0">
              <a:buNone/>
              <a:tabLst>
                <a:tab algn="l" pos="0"/>
                <a:tab algn="l" pos="3762360"/>
                <a:tab algn="l" pos="7524720"/>
              </a:tabLst>
              <a:defRPr b="0" lang="en-US" sz="5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747280" y="36657000"/>
            <a:ext cx="8108640" cy="2682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lstStyle>
            <a:lvl1pPr indent="0" algn="ctr">
              <a:buNone/>
              <a:tabLst>
                <a:tab algn="l" pos="0"/>
                <a:tab algn="l" pos="3762360"/>
                <a:tab algn="l" pos="7524720"/>
              </a:tabLst>
              <a:defRPr b="0" lang="en-US" sz="5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348480" y="36657000"/>
            <a:ext cx="5333760" cy="2682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lstStyle>
            <a:lvl1pPr indent="0" algn="r">
              <a:buNone/>
              <a:tabLst>
                <a:tab algn="l" pos="0"/>
                <a:tab algn="l" pos="3762360"/>
                <a:tab algn="l" pos="7524720"/>
              </a:tabLst>
              <a:defRPr b="0" lang="en-US" sz="5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62360"/>
                <a:tab algn="l" pos="7524720"/>
              </a:tabLst>
            </a:pPr>
            <a:fld id="{F3B33A68-649A-4C48-A017-B8A15A5DB3DB}" type="slidenum"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752480"/>
            <a:ext cx="21031200" cy="2684880"/>
          </a:xfrm>
          <a:prstGeom prst="rect">
            <a:avLst/>
          </a:prstGeom>
          <a:noFill/>
          <a:ln w="0">
            <a:noFill/>
          </a:ln>
          <a:effectLst>
            <a:outerShdw dist="162651" dir="2317211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Comic Sans MS"/>
              </a:rPr>
              <a:t>EduM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66"/>
                </a:solidFill>
                <a:latin typeface="Comic Sans MS"/>
              </a:rPr>
              <a:t>WebVideo for Medical Educatio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4800600"/>
            <a:ext cx="235458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22200"/>
                </a:solidFill>
                <a:latin typeface="Comic Sans MS"/>
              </a:rPr>
              <a:t>Query and Retrieval for Medical Video Archiv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6934320"/>
            <a:ext cx="22402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Combining research in distributed multimedia database systems with partnerships in industry &amp; the healthcare community - to build applications that serve medical education, medical research and the practice of medic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81080" y="6248520"/>
            <a:ext cx="21641040" cy="457200"/>
            <a:chOff x="1981080" y="6248520"/>
            <a:chExt cx="21641040" cy="457200"/>
          </a:xfrm>
        </p:grpSpPr>
        <p:sp>
          <p:nvSpPr>
            <p:cNvPr id="45" name=""/>
            <p:cNvSpPr/>
            <p:nvPr/>
          </p:nvSpPr>
          <p:spPr>
            <a:xfrm>
              <a:off x="1981080" y="6248520"/>
              <a:ext cx="21641040" cy="457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36232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3376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1940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0504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668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9104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25844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67280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08860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65204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99316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7880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16444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300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0700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3572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79708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35648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55400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30948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06640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7684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52776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69904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62580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4812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2972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84408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60100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18664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89512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45596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21144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82332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38272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72528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28468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01536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11340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77228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94212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4016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5008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96836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23768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48076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40896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136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6248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13964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870320" y="624852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981080" y="10896480"/>
            <a:ext cx="21641040" cy="457200"/>
            <a:chOff x="1981080" y="10896480"/>
            <a:chExt cx="21641040" cy="457200"/>
          </a:xfrm>
        </p:grpSpPr>
        <p:sp>
          <p:nvSpPr>
            <p:cNvPr id="98" name=""/>
            <p:cNvSpPr/>
            <p:nvPr/>
          </p:nvSpPr>
          <p:spPr>
            <a:xfrm>
              <a:off x="1981080" y="10896480"/>
              <a:ext cx="21641040" cy="457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6232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3376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1940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0504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7668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9104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25844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67280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08860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65204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9316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7880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6444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300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0700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3572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79708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5648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55400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30948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06640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7684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52776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69904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62580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812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42972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84408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60100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18664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89512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45596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1144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82332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38272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72528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28468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01536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11340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77228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94212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4016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5008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96836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23768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48076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40896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2136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6248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13964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0320" y="10896480"/>
              <a:ext cx="0" cy="45720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209680" y="16382880"/>
            <a:ext cx="11582640" cy="7391520"/>
          </a:xfrm>
          <a:custGeom>
            <a:avLst/>
            <a:gdLst>
              <a:gd name="textAreaLeft" fmla="*/ 1551600 w 11582640"/>
              <a:gd name="textAreaRight" fmla="*/ 10031040 w 11582640"/>
              <a:gd name="textAreaTop" fmla="*/ 1312920 h 7391520"/>
              <a:gd name="textAreaBottom" fmla="*/ 5338800 h 739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74" stAng="-5400000" swAng="-5400000"/>
                <a:lnTo>
                  <a:pt x="0" y="11765"/>
                </a:lnTo>
                <a:arcTo wR="21600" hR="7674" stAng="10800000" swAng="-2457406"/>
                <a:lnTo>
                  <a:pt x="13418" y="21028"/>
                </a:lnTo>
                <a:lnTo>
                  <a:pt x="21600" y="17393"/>
                </a:lnTo>
                <a:lnTo>
                  <a:pt x="13418" y="12613"/>
                </a:lnTo>
                <a:lnTo>
                  <a:pt x="13418" y="14775"/>
                </a:lnTo>
                <a:arcTo wR="21600" hR="7674" stAng="8342594" swAng="2120713"/>
                <a:lnTo>
                  <a:pt x="782" y="9719"/>
                </a:lnTo>
                <a:arcTo wR="21600" hR="7674" stAng="-10463307" swAng="5063307"/>
                <a:close/>
              </a:path>
              <a:path fill="darkenLess" w="21600" h="21600">
                <a:moveTo>
                  <a:pt x="21600" y="0"/>
                </a:moveTo>
                <a:arcTo wR="21600" hR="7674" stAng="-5400000" swAng="-5400000"/>
                <a:lnTo>
                  <a:pt x="0" y="7674"/>
                </a:lnTo>
                <a:arcTo wR="21600" hR="7674" stAng="10800000" swAng="-336693"/>
                <a:lnTo>
                  <a:pt x="782" y="9719"/>
                </a:lnTo>
                <a:arcTo wR="21600" hR="7674" stAng="-10463307" swAng="5063307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20345400"/>
            <a:ext cx="41911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21259800"/>
            <a:ext cx="9677520" cy="7238880"/>
          </a:xfrm>
          <a:custGeom>
            <a:avLst/>
            <a:gdLst>
              <a:gd name="textAreaLeft" fmla="*/ 1296360 w 9677520"/>
              <a:gd name="textAreaRight" fmla="*/ 8381160 w 9677520"/>
              <a:gd name="textAreaTop" fmla="*/ 1266840 h 7238880"/>
              <a:gd name="textAreaBottom" fmla="*/ 5248440 h 723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1880" y="24841080"/>
            <a:ext cx="41911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5908120"/>
            <a:ext cx="11734920" cy="7848360"/>
          </a:xfrm>
          <a:custGeom>
            <a:avLst/>
            <a:gdLst>
              <a:gd name="textAreaLeft" fmla="*/ 1572120 w 11734920"/>
              <a:gd name="textAreaRight" fmla="*/ 10162800 w 11734920"/>
              <a:gd name="textAreaTop" fmla="*/ 1373400 h 7848360"/>
              <a:gd name="textAreaBottom" fmla="*/ 5689080 h 78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1" stAng="-5400000" swAng="-5400000"/>
                <a:lnTo>
                  <a:pt x="0" y="11877"/>
                </a:lnTo>
                <a:arcTo wR="21600" hR="7561" stAng="10800000" swAng="-2682865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90"/>
                </a:lnTo>
                <a:arcTo wR="21600" hR="7561" stAng="8117135" swAng="2325792"/>
                <a:lnTo>
                  <a:pt x="898" y="9719"/>
                </a:lnTo>
                <a:arcTo wR="21600" hR="7561" stAng="-10442927" swAng="5042927"/>
                <a:close/>
              </a:path>
              <a:path fill="darkenLess" w="21600" h="21600">
                <a:moveTo>
                  <a:pt x="21600" y="0"/>
                </a:moveTo>
                <a:arcTo wR="21600" hR="7561" stAng="-5400000" swAng="-5400000"/>
                <a:lnTo>
                  <a:pt x="0" y="7561"/>
                </a:lnTo>
                <a:arcTo wR="21600" hR="7561" stAng="10800000" swAng="-357073"/>
                <a:lnTo>
                  <a:pt x="898" y="9719"/>
                </a:lnTo>
                <a:arcTo wR="21600" hR="7561" stAng="-10442927" swAng="5042927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610480" y="30403800"/>
            <a:ext cx="160020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9880" y="31699080"/>
            <a:ext cx="9448920" cy="7010640"/>
          </a:xfrm>
          <a:custGeom>
            <a:avLst/>
            <a:gdLst>
              <a:gd name="textAreaLeft" fmla="*/ 1265760 w 9448920"/>
              <a:gd name="textAreaRight" fmla="*/ 8183160 w 9448920"/>
              <a:gd name="textAreaTop" fmla="*/ 1191240 h 7010640"/>
              <a:gd name="textAreaBottom" fmla="*/ 5231880 h 701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341" stAng="-5400000" swAng="5400000"/>
                <a:lnTo>
                  <a:pt x="21600" y="12450"/>
                </a:lnTo>
                <a:arcTo wR="21600" hR="7341" stAng="0" swAng="2632010"/>
                <a:lnTo>
                  <a:pt x="7200" y="21180"/>
                </a:lnTo>
                <a:lnTo>
                  <a:pt x="0" y="17236"/>
                </a:lnTo>
                <a:lnTo>
                  <a:pt x="7200" y="12451"/>
                </a:lnTo>
                <a:lnTo>
                  <a:pt x="7200" y="14261"/>
                </a:lnTo>
                <a:arcTo wR="21600" hR="7341" stAng="2632010" swAng="-2200620"/>
                <a:lnTo>
                  <a:pt x="20250" y="9895"/>
                </a:lnTo>
                <a:arcTo wR="21600" hR="7341" stAng="-431389" swAng="-4968611"/>
                <a:close/>
              </a:path>
              <a:path fill="darkenLess" w="21600" h="21600">
                <a:moveTo>
                  <a:pt x="0" y="0"/>
                </a:moveTo>
                <a:arcTo wR="21600" hR="7341" stAng="-5400000" swAng="5400000"/>
                <a:lnTo>
                  <a:pt x="21600" y="12450"/>
                </a:lnTo>
                <a:arcTo wR="21600" hR="7341" stAng="0" swAng="-431389"/>
                <a:lnTo>
                  <a:pt x="20250" y="9895"/>
                </a:lnTo>
                <a:arcTo wR="21600" hR="7341" stAng="-431389" swAng="-4968611"/>
                <a:close/>
              </a:path>
            </a:pathLst>
          </a:custGeom>
          <a:solidFill>
            <a:srgbClr val="ece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829800" y="34594920"/>
            <a:ext cx="952488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db_talk2" descr=""/>
          <p:cNvPicPr/>
          <p:nvPr/>
        </p:nvPicPr>
        <p:blipFill>
          <a:blip r:embed="rId1"/>
          <a:stretch/>
        </p:blipFill>
        <p:spPr>
          <a:xfrm>
            <a:off x="12420720" y="11582280"/>
            <a:ext cx="11658600" cy="7445520"/>
          </a:xfrm>
          <a:prstGeom prst="rect">
            <a:avLst/>
          </a:prstGeom>
          <a:ln w="0">
            <a:noFill/>
          </a:ln>
          <a:effectLst>
            <a:outerShdw dist="208455" dir="2253753" blurRad="0" rotWithShape="0">
              <a:srgbClr val="b2b2b2">
                <a:alpha val="50000"/>
              </a:srgbClr>
            </a:outerShdw>
          </a:effectLst>
        </p:spPr>
      </p:pic>
      <p:sp>
        <p:nvSpPr>
          <p:cNvPr id="159" name=""/>
          <p:cNvSpPr/>
          <p:nvPr/>
        </p:nvSpPr>
        <p:spPr>
          <a:xfrm>
            <a:off x="8229600" y="30098880"/>
            <a:ext cx="0" cy="1295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11963520"/>
            <a:ext cx="830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Comic Sans MS"/>
              </a:rPr>
              <a:t>Industry Partner Micro Database Systems, Inc. Collaborating to develop video-enhanced capability for their flagship TITANIUM datab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2301228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a041a"/>
                </a:solidFill>
                <a:latin typeface="Comic Sans MS"/>
              </a:rPr>
              <a:t>Medical Education Partner IU School of Medicine. Providing medical expertise and faculty user require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230600" y="19278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a041a"/>
                </a:solidFill>
                <a:latin typeface="Comic Sans MS"/>
              </a:rPr>
              <a:t>Education Partner IU School of Medicine Creative Services. Providing hundreds of hours of high quality medical videos and compression servi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8592920"/>
            <a:ext cx="9601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Comic Sans MS"/>
              </a:rPr>
              <a:t>Research Partner ICDS. Providing world class distributed multimedia database resear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21066600">
            <a:off x="5562720" y="1706868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Technolo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21417000">
            <a:off x="9220320" y="1676376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Transf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754480" y="24231600"/>
            <a:ext cx="7086600" cy="521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Comic Sans MS"/>
              </a:rPr>
              <a:t>The Partnership:       Producing a significant and commercially viable product that offers valuable services to medical faculty and students</a:t>
            </a:r>
            <a:r>
              <a:rPr b="0" lang="en-US" sz="4800" spc="-1" strike="noStrike">
                <a:solidFill>
                  <a:srgbClr val="ba041a"/>
                </a:solidFill>
                <a:latin typeface="Comic Sans MS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725400">
            <a:off x="3504960" y="209545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041a"/>
                </a:solidFill>
                <a:latin typeface="Comic Sans MS"/>
              </a:rPr>
              <a:t>Transf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346200">
            <a:off x="8534160" y="21640680"/>
            <a:ext cx="332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041a"/>
                </a:solidFill>
                <a:latin typeface="Comic Sans MS"/>
              </a:rPr>
              <a:t>Medic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71200">
            <a:off x="11582640" y="22091400"/>
            <a:ext cx="387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041a"/>
                </a:solidFill>
                <a:latin typeface="Comic Sans MS"/>
              </a:rPr>
              <a:t>Edu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0744400">
            <a:off x="3225240" y="27038160"/>
            <a:ext cx="348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Advanc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9943400">
            <a:off x="1143360" y="27965160"/>
            <a:ext cx="18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Wi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21280200">
            <a:off x="6591240" y="2651580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Multimed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20366400">
            <a:off x="13555800" y="2542428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Technolo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20335200">
            <a:off x="2586600" y="1787940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Promoting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563720" y="33985080"/>
            <a:ext cx="5562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Comic Sans MS"/>
              </a:rPr>
              <a:t>Rapid classroom access to online interactive medical video clips for teaching, learning and medical resear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3410720" y="33299280"/>
            <a:ext cx="1752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534520" y="31089600"/>
            <a:ext cx="35049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db_talk3" descr=""/>
          <p:cNvPicPr/>
          <p:nvPr/>
        </p:nvPicPr>
        <p:blipFill>
          <a:blip r:embed="rId2"/>
          <a:stretch/>
        </p:blipFill>
        <p:spPr>
          <a:xfrm>
            <a:off x="1600200" y="31775400"/>
            <a:ext cx="11810880" cy="7605720"/>
          </a:xfrm>
          <a:prstGeom prst="rect">
            <a:avLst/>
          </a:prstGeom>
          <a:ln w="0">
            <a:noFill/>
          </a:ln>
          <a:effectLst>
            <a:outerShdw dist="197537" dir="2700000" blurRad="0" rotWithShape="0">
              <a:srgbClr val="b2b2b2"/>
            </a:outerShdw>
          </a:effectLst>
        </p:spPr>
      </p:pic>
      <p:sp>
        <p:nvSpPr>
          <p:cNvPr id="179" name=""/>
          <p:cNvSpPr/>
          <p:nvPr/>
        </p:nvSpPr>
        <p:spPr>
          <a:xfrm>
            <a:off x="5791320" y="27736920"/>
            <a:ext cx="12648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Comic Sans MS"/>
              </a:rPr>
              <a:t>Interactive preparation and delivery of instruction and  assignments through the secure content-based access, query, search, retrieval and presentation (streaming) of medical video clip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8457840" y="31241880"/>
            <a:ext cx="6705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352680" y="30708720"/>
            <a:ext cx="5105160" cy="4800600"/>
            <a:chOff x="3352680" y="30708720"/>
            <a:chExt cx="5105160" cy="4800600"/>
          </a:xfrm>
        </p:grpSpPr>
        <p:sp>
          <p:nvSpPr>
            <p:cNvPr id="182" name=""/>
            <p:cNvSpPr/>
            <p:nvPr/>
          </p:nvSpPr>
          <p:spPr>
            <a:xfrm rot="5400000">
              <a:off x="6514920" y="34480800"/>
              <a:ext cx="1295280" cy="761760"/>
            </a:xfrm>
            <a:custGeom>
              <a:avLst/>
              <a:gdLst>
                <a:gd name="textAreaLeft" fmla="*/ 202320 w 1295280"/>
                <a:gd name="textAreaRight" fmla="*/ 1133640 w 129528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52680" y="30708720"/>
              <a:ext cx="510516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21figure14" descr=""/>
            <p:cNvPicPr/>
            <p:nvPr/>
          </p:nvPicPr>
          <p:blipFill>
            <a:blip r:embed="rId4"/>
            <a:stretch/>
          </p:blipFill>
          <p:spPr>
            <a:xfrm>
              <a:off x="3665160" y="31089960"/>
              <a:ext cx="44802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511240" y="33528240"/>
              <a:ext cx="264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Comic Sans MS"/>
                </a:rPr>
                <a:t>Query Resul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2649320" y="258318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212598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21308400">
            <a:off x="10287000" y="262126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Databa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9880" y="31623120"/>
            <a:ext cx="0" cy="1752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618600">
            <a:off x="6623640" y="21404520"/>
            <a:ext cx="190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041a"/>
                </a:solidFill>
                <a:latin typeface="Comic Sans MS"/>
              </a:rPr>
              <a:t>m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15:57:05Z</dcterms:created>
  <dc:creator>acc</dc:creator>
  <dc:description/>
  <dc:language>en-US</dc:language>
  <cp:lastModifiedBy>acc</cp:lastModifiedBy>
  <dcterms:modified xsi:type="dcterms:W3CDTF">2001-10-30T16:53:03Z</dcterms:modified>
  <cp:revision>18</cp:revision>
  <dc:subject/>
  <dc:title>PowerPoint Presentation</dc:title>
</cp:coreProperties>
</file>