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5.wmf" ContentType="image/x-wmf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971640" y="4559040"/>
            <a:ext cx="537192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ldImg"/>
          </p:nvPr>
        </p:nvSpPr>
        <p:spPr>
          <a:xfrm>
            <a:off x="1266840" y="721800"/>
            <a:ext cx="4788000" cy="359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above PCR models, a predictor might be declared significant only because of its high correlation with other important predi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266840" y="72216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71640" y="4559040"/>
            <a:ext cx="537192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minimal model covers all known mechanisms of activation of G-CSF and highlights a potential role for p38 in its posttranscriptional reg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L-1a, besides all known activators, IFNg and IL-4 are identified as potential novel independent activa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L-6, four predictors were confirmed by literature data whereas cAMP and IL-4 may be false positives although the effect of IL-4 is controvers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10 was the least convincing model with a misidentification of NF-kB and a lack of identification of p38 and cAMP as positive predi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obvious missing predictor was NF-kB for MIP-1a. However, in this model, all other important signaling pathways were represen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RANTES, all known mechanisms of activation were f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, all known signaling pathways with the exception of ERK were found for TNFa. This last minimal model also identified a potentially new M-CSF specific pathway for the activation of TNF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ed with a large data set and applied to it different bioinformatics proced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su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near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rrelation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end up with a collection of hypothesis to could be te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we have to go in the lab, design in vitro assays to test the hypo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correlation coefficients between cytokines and signaling proteins do not take into account correlation among signaling proteins themse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CR model for the jth output for a chosen number of latent variables, sa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s:  ( is the column vector corresponding to jth output (normalized, zero-mean)), and  is the column vector of the coefficients of the predictors f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821520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120" y="3450960"/>
            <a:ext cx="821520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196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2120" y="34509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701960" y="34509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69520" y="72720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47280" y="72720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120" y="345096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69520" y="345096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47280" y="345096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92120" y="727200"/>
            <a:ext cx="82152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821520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01960" y="72720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190440"/>
            <a:ext cx="7770960" cy="16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1960" y="72720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92120" y="34509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92120" y="727200"/>
            <a:ext cx="82152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196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01960" y="34509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196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2120" y="3450960"/>
            <a:ext cx="821520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821520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120" y="3450960"/>
            <a:ext cx="821520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196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2120" y="34509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01960" y="34509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69520" y="72720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47280" y="72720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120" y="345096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69520" y="345096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47280" y="345096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C1B59-BF0D-4715-B40D-9B82DDD981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92120" y="727200"/>
            <a:ext cx="82152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B0875-C4CB-4401-BB9D-2A3B2E0366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821520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4EB7-8A87-4AC0-9A40-C1C1314EE4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01960" y="72720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7CFD7-A159-4981-8B7B-4F1737FA93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67626-10E8-4158-B0AB-25EDD57824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821520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87240" y="190440"/>
            <a:ext cx="7770960" cy="16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E6BBA-E518-4341-857F-5CDB6800EC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1960" y="72720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2120" y="34509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7A472-800C-4757-B688-9D088168DD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196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701960" y="34509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32050-14C4-419D-9ED3-04BF2C9CCC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196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2120" y="3450960"/>
            <a:ext cx="821520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D4D7B-B6AF-4B50-A7DC-BAADC40477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821520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2120" y="3450960"/>
            <a:ext cx="821520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A289-1AD3-4BD1-B730-202B532CAF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0196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2120" y="34509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701960" y="34509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A2318-C03D-4491-A46D-7D05929DB1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69520" y="72720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47280" y="72720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120" y="345096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69520" y="345096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47280" y="345096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F2438-172C-4538-923A-4B2D97EFAC6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F3872-0697-4F9C-B6CF-AF78EE95FBA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92120" y="727200"/>
            <a:ext cx="82152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1A746-2EB2-4532-8689-219B9EBCF2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821520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F9EF7-B0EF-479F-AA8F-115FE7F4E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701960" y="72720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01960" y="72720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4ABB7-378C-4CE9-ABE0-36E37657621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87BD5-6BB3-4D9F-8AEC-0B774157CBB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7240" y="190440"/>
            <a:ext cx="7770960" cy="16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A975C-A92D-44BC-B545-C40E53DDA73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01960" y="72720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2120" y="34509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E48A5-CAD2-4360-A2CB-C886639E3B3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0196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01960" y="34509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21BEB-5BC5-4CDE-BB5B-344C011B1B6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0196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2120" y="3450960"/>
            <a:ext cx="821520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EF4BF-D729-42D9-B98C-28F15C29B30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821520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2120" y="3450960"/>
            <a:ext cx="821520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9CB0D-B980-4E78-A80E-9BC18762B89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196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2120" y="34509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01960" y="34509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DDA4A-FB90-4A64-8068-A382B1DD925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69520" y="72720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47280" y="72720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2120" y="345096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69520" y="345096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47280" y="345096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B5DE8-2F9E-4D38-9639-AE0C1C824D3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92120" y="727200"/>
            <a:ext cx="82152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821520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1960" y="72720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7240" y="190440"/>
            <a:ext cx="7770960" cy="16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01960" y="72720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92120" y="34509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0196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01960" y="34509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0196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92120" y="3450960"/>
            <a:ext cx="821520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821520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2120" y="3450960"/>
            <a:ext cx="821520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0196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92120" y="34509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701960" y="34509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87240" y="190440"/>
            <a:ext cx="7770960" cy="16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69520" y="72720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47280" y="72720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92120" y="345096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69520" y="345096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47280" y="345096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92120" y="727200"/>
            <a:ext cx="82152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821520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01960" y="72720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7240" y="190440"/>
            <a:ext cx="7770960" cy="16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01960" y="72720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92120" y="34509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0196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01960" y="34509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196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92120" y="3450960"/>
            <a:ext cx="821520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1960" y="72720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92120" y="34509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821520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2120" y="3450960"/>
            <a:ext cx="821520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196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92120" y="34509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01960" y="34509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69520" y="72720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47280" y="72720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92120" y="345096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69520" y="345096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47280" y="3450960"/>
            <a:ext cx="264492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196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701960" y="34509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7240" y="90720"/>
            <a:ext cx="7770960" cy="561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212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1960" y="72720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120" y="3450960"/>
            <a:ext cx="8215200" cy="24872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Line 13"/>
          <p:cNvSpPr/>
          <p:nvPr/>
        </p:nvSpPr>
        <p:spPr>
          <a:xfrm>
            <a:off x="430200" y="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492120" y="727200"/>
            <a:ext cx="821520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0000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675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687240" y="190440"/>
            <a:ext cx="7770960" cy="3621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92120" y="727200"/>
            <a:ext cx="821520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marL="289080" indent="-289080"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1" marL="620640" indent="-237960">
              <a:spcBef>
                <a:spcPts val="675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2" marL="957240" indent="-192240">
              <a:spcBef>
                <a:spcPts val="675"/>
              </a:spcBef>
              <a:buClr>
                <a:srgbClr val="0000cc"/>
              </a:buClr>
              <a:buSzPct val="60000"/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3" marL="1339920" indent="-192240">
              <a:spcBef>
                <a:spcPts val="675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4" marL="1724040" indent="-190440">
              <a:spcBef>
                <a:spcPts val="675"/>
              </a:spcBef>
              <a:buClr>
                <a:srgbClr val="ff3300"/>
              </a:buClr>
              <a:buFont typeface="Arial"/>
              <a:buChar char="»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5" marL="1724040" indent="-1904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6" marL="1724040" indent="-1904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87240" y="190440"/>
            <a:ext cx="7770960" cy="3621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1"/>
          </p:nvPr>
        </p:nvSpPr>
        <p:spPr>
          <a:xfrm>
            <a:off x="12240" y="6635520"/>
            <a:ext cx="6397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4675AD55-3366-425D-BC38-8A0C2CC190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2"/>
          <p:cNvSpPr/>
          <p:nvPr/>
        </p:nvSpPr>
        <p:spPr>
          <a:xfrm>
            <a:off x="7304040" y="6576840"/>
            <a:ext cx="178128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760" rIns="14760" tIns="14760" bIns="14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Mano Ram Maurya, 2011</a:t>
            </a:r>
            <a:endParaRPr b="0" lang="en-US" sz="13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430200" y="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8160" y="635040"/>
            <a:ext cx="9077400" cy="61920"/>
          </a:xfrm>
          <a:prstGeom prst="rect">
            <a:avLst/>
          </a:prstGeom>
          <a:gradFill rotWithShape="0">
            <a:gsLst>
              <a:gs pos="0">
                <a:srgbClr val="494a13"/>
              </a:gs>
              <a:gs pos="50000">
                <a:srgbClr val="dbdf39"/>
              </a:gs>
              <a:gs pos="100000">
                <a:srgbClr val="494a13"/>
              </a:gs>
            </a:gsLst>
            <a:lin ang="5400000"/>
          </a:gra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492120" y="727200"/>
            <a:ext cx="821520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marL="289080" indent="-289080"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1" marL="620640" indent="-237960">
              <a:spcBef>
                <a:spcPts val="675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2" marL="957240" indent="-192240">
              <a:spcBef>
                <a:spcPts val="675"/>
              </a:spcBef>
              <a:buClr>
                <a:srgbClr val="0000cc"/>
              </a:buClr>
              <a:buSzPct val="60000"/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3" marL="1339920" indent="-192240">
              <a:spcBef>
                <a:spcPts val="675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4" marL="1724040" indent="-190440">
              <a:spcBef>
                <a:spcPts val="675"/>
              </a:spcBef>
              <a:buClr>
                <a:srgbClr val="ff3300"/>
              </a:buClr>
              <a:buFont typeface="Arial"/>
              <a:buChar char="»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5" marL="1724040" indent="-1904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6" marL="1724040" indent="-1904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87240" y="190440"/>
            <a:ext cx="7770960" cy="3621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2"/>
          </p:nvPr>
        </p:nvSpPr>
        <p:spPr>
          <a:xfrm>
            <a:off x="12240" y="6635520"/>
            <a:ext cx="6397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F013A128-6815-4453-98C8-E3E3E81DC4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492120" y="727200"/>
            <a:ext cx="821520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marL="289080" indent="-289080"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1" marL="620640" indent="-237960">
              <a:spcBef>
                <a:spcPts val="675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2" marL="957240" indent="-192240">
              <a:spcBef>
                <a:spcPts val="675"/>
              </a:spcBef>
              <a:buClr>
                <a:srgbClr val="0000cc"/>
              </a:buClr>
              <a:buSzPct val="60000"/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3" marL="1339920" indent="-192240">
              <a:spcBef>
                <a:spcPts val="675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4" marL="1724040" indent="-190440">
              <a:spcBef>
                <a:spcPts val="675"/>
              </a:spcBef>
              <a:buClr>
                <a:srgbClr val="ff3300"/>
              </a:buClr>
              <a:buFont typeface="Arial"/>
              <a:buChar char="»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5" marL="1724040" indent="-1904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6" marL="1724040" indent="-1904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7240" y="190440"/>
            <a:ext cx="7770960" cy="3621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Line 8"/>
          <p:cNvSpPr/>
          <p:nvPr/>
        </p:nvSpPr>
        <p:spPr>
          <a:xfrm>
            <a:off x="430200" y="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92120" y="727200"/>
            <a:ext cx="8215200" cy="5214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marL="289080" indent="-289080"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1" marL="620640" indent="-237960">
              <a:spcBef>
                <a:spcPts val="675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2" marL="957240" indent="-192240">
              <a:spcBef>
                <a:spcPts val="675"/>
              </a:spcBef>
              <a:buClr>
                <a:srgbClr val="0000cc"/>
              </a:buClr>
              <a:buSzPct val="60000"/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3" marL="1339920" indent="-192240">
              <a:spcBef>
                <a:spcPts val="675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4" marL="1724040" indent="-190440">
              <a:spcBef>
                <a:spcPts val="675"/>
              </a:spcBef>
              <a:buClr>
                <a:srgbClr val="ff3300"/>
              </a:buClr>
              <a:buFont typeface="Arial"/>
              <a:buChar char="»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5" marL="1724040" indent="-1904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6" marL="1724040" indent="-1904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687240" y="190440"/>
            <a:ext cx="7770960" cy="3621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0" y="544680"/>
            <a:ext cx="9144000" cy="27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37080" bIns="37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 Principal Component Regression-based Approach for Data-Driven Network Reconstruction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0" y="3192480"/>
            <a:ext cx="914400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7080" bIns="3708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9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February 11, 2011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Mano Ram Maurya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Sylvain Pradervand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Shankar Subramaniam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4"/>
          <p:cNvSpPr/>
          <p:nvPr/>
        </p:nvSpPr>
        <p:spPr>
          <a:xfrm>
            <a:off x="0" y="6607080"/>
            <a:ext cx="63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28D3FCB-B6CF-424B-8FFD-F7BC4A28B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0" y="190440"/>
            <a:ext cx="9144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7080" bIns="370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acrophages: Cells of the Immune System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362" name="Group 64"/>
          <p:cNvGrpSpPr/>
          <p:nvPr/>
        </p:nvGrpSpPr>
        <p:grpSpPr>
          <a:xfrm>
            <a:off x="2019240" y="744480"/>
            <a:ext cx="7080480" cy="5950080"/>
            <a:chOff x="2019240" y="744480"/>
            <a:chExt cx="7080480" cy="5950080"/>
          </a:xfrm>
        </p:grpSpPr>
        <p:pic>
          <p:nvPicPr>
            <p:cNvPr id="363" name="Picture 29" descr="8"/>
            <p:cNvPicPr/>
            <p:nvPr/>
          </p:nvPicPr>
          <p:blipFill>
            <a:blip r:embed="rId1"/>
            <a:stretch/>
          </p:blipFill>
          <p:spPr>
            <a:xfrm>
              <a:off x="2019240" y="887040"/>
              <a:ext cx="6343920" cy="580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Rectangle 6"/>
            <p:cNvSpPr/>
            <p:nvPr/>
          </p:nvSpPr>
          <p:spPr>
            <a:xfrm>
              <a:off x="2790360" y="744480"/>
              <a:ext cx="10051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Bone graft</a:t>
              </a:r>
              <a:endParaRPr b="0" lang="en-US" sz="1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65" name="Rectangle 7"/>
            <p:cNvSpPr/>
            <p:nvPr/>
          </p:nvSpPr>
          <p:spPr>
            <a:xfrm>
              <a:off x="3360960" y="3594240"/>
              <a:ext cx="136188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Multipotential</a:t>
              </a:r>
              <a:endParaRPr b="0" lang="en-US" sz="1400" spc="-1" strike="noStrike">
                <a:solidFill>
                  <a:srgbClr val="0000ff"/>
                </a:solidFill>
                <a:latin typeface="Arial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stem cell</a:t>
              </a:r>
              <a:endParaRPr b="0" lang="en-US" sz="1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66" name="Rectangle 8"/>
            <p:cNvSpPr/>
            <p:nvPr/>
          </p:nvSpPr>
          <p:spPr>
            <a:xfrm>
              <a:off x="2365560" y="3008160"/>
              <a:ext cx="132084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Hematopoietic</a:t>
              </a:r>
              <a:br>
                <a:rPr sz="1400"/>
              </a:b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stem cell</a:t>
              </a:r>
              <a:endParaRPr b="0" lang="en-US" sz="1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67" name="Rectangle 9"/>
            <p:cNvSpPr/>
            <p:nvPr/>
          </p:nvSpPr>
          <p:spPr>
            <a:xfrm>
              <a:off x="7925040" y="4338720"/>
              <a:ext cx="8665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Platelets</a:t>
              </a:r>
              <a:endParaRPr b="0" lang="en-US" sz="1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3895920" y="963360"/>
              <a:ext cx="11714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Macrophage</a:t>
              </a:r>
              <a:endParaRPr b="0" lang="en-US" sz="1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69" name="Rectangle 11"/>
            <p:cNvSpPr/>
            <p:nvPr/>
          </p:nvSpPr>
          <p:spPr>
            <a:xfrm>
              <a:off x="4699800" y="1715760"/>
              <a:ext cx="11757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Erythrocytes</a:t>
              </a:r>
              <a:endParaRPr b="0" lang="en-US" sz="1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5690520" y="1482480"/>
              <a:ext cx="10036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Eosinophil</a:t>
              </a:r>
              <a:endParaRPr b="0" lang="en-US" sz="1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6242760" y="3944880"/>
              <a:ext cx="9928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Neutrophil</a:t>
              </a:r>
              <a:endParaRPr b="0" lang="en-US" sz="1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2" name="Rectangle 14"/>
            <p:cNvSpPr/>
            <p:nvPr/>
          </p:nvSpPr>
          <p:spPr>
            <a:xfrm>
              <a:off x="7707240" y="2531880"/>
              <a:ext cx="13924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Megakaryocyte</a:t>
              </a:r>
              <a:endParaRPr b="0" lang="en-US" sz="1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3" name="Rectangle 15"/>
            <p:cNvSpPr/>
            <p:nvPr/>
          </p:nvSpPr>
          <p:spPr>
            <a:xfrm>
              <a:off x="8211960" y="1115640"/>
              <a:ext cx="886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Mast cell</a:t>
              </a:r>
              <a:endParaRPr b="0" lang="en-US" sz="1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4" name="Rectangle 16"/>
            <p:cNvSpPr/>
            <p:nvPr/>
          </p:nvSpPr>
          <p:spPr>
            <a:xfrm>
              <a:off x="7315920" y="1847880"/>
              <a:ext cx="8650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Basophil</a:t>
              </a:r>
              <a:endParaRPr b="0" lang="en-US" sz="1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5" name="Rectangle 17"/>
            <p:cNvSpPr/>
            <p:nvPr/>
          </p:nvSpPr>
          <p:spPr>
            <a:xfrm>
              <a:off x="3830400" y="5249880"/>
              <a:ext cx="12430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T lymphocyte</a:t>
              </a:r>
              <a:endParaRPr b="0" lang="en-US" sz="1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6" name="Rectangle 18"/>
            <p:cNvSpPr/>
            <p:nvPr/>
          </p:nvSpPr>
          <p:spPr>
            <a:xfrm>
              <a:off x="3528000" y="6390000"/>
              <a:ext cx="14914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Natural killer cell</a:t>
              </a:r>
              <a:endParaRPr b="0" lang="en-US" sz="1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7" name="Rectangle 19"/>
            <p:cNvSpPr/>
            <p:nvPr/>
          </p:nvSpPr>
          <p:spPr>
            <a:xfrm>
              <a:off x="7538040" y="5173920"/>
              <a:ext cx="12034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Dendritic cell</a:t>
              </a:r>
              <a:endParaRPr b="0" lang="en-US" sz="1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8" name="Rectangle 20"/>
            <p:cNvSpPr/>
            <p:nvPr/>
          </p:nvSpPr>
          <p:spPr>
            <a:xfrm>
              <a:off x="6394680" y="6215400"/>
              <a:ext cx="12535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B lymphocyte</a:t>
              </a:r>
              <a:endParaRPr b="0" lang="en-US" sz="1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9" name="Rectangle 21"/>
            <p:cNvSpPr/>
            <p:nvPr/>
          </p:nvSpPr>
          <p:spPr>
            <a:xfrm>
              <a:off x="3526560" y="4726080"/>
              <a:ext cx="21254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Lymphoid progenitor cell</a:t>
              </a:r>
              <a:endParaRPr b="0" lang="en-US" sz="1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0" name="Rectangle 22"/>
            <p:cNvSpPr/>
            <p:nvPr/>
          </p:nvSpPr>
          <p:spPr>
            <a:xfrm>
              <a:off x="5134320" y="3719520"/>
              <a:ext cx="114300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Myeloid progenitor cell</a:t>
              </a:r>
              <a:endParaRPr b="0" lang="en-US" sz="1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1" name="Rectangle 23"/>
            <p:cNvSpPr/>
            <p:nvPr/>
          </p:nvSpPr>
          <p:spPr>
            <a:xfrm>
              <a:off x="4257000" y="2512800"/>
              <a:ext cx="9550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Monocyte</a:t>
              </a:r>
              <a:endParaRPr b="0" lang="en-US" sz="1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2" name="Rectangle 24"/>
            <p:cNvSpPr/>
            <p:nvPr/>
          </p:nvSpPr>
          <p:spPr>
            <a:xfrm>
              <a:off x="3756600" y="1801800"/>
              <a:ext cx="7736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Marrow</a:t>
              </a:r>
              <a:endParaRPr b="0" lang="en-US" sz="1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3" name="Rectangle 25"/>
            <p:cNvSpPr/>
            <p:nvPr/>
          </p:nvSpPr>
          <p:spPr>
            <a:xfrm>
              <a:off x="2027880" y="2676600"/>
              <a:ext cx="5968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Bone</a:t>
              </a:r>
              <a:endParaRPr b="0" lang="en-US" sz="1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4" name="Freeform 28"/>
            <p:cNvSpPr/>
            <p:nvPr/>
          </p:nvSpPr>
          <p:spPr>
            <a:xfrm rot="18766800">
              <a:off x="4436280" y="3086640"/>
              <a:ext cx="90360" cy="5331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608" h="1152">
                  <a:moveTo>
                    <a:pt x="0" y="0"/>
                  </a:moveTo>
                  <a:cubicBezTo>
                    <a:pt x="224" y="144"/>
                    <a:pt x="448" y="288"/>
                    <a:pt x="528" y="480"/>
                  </a:cubicBezTo>
                  <a:cubicBezTo>
                    <a:pt x="608" y="672"/>
                    <a:pt x="544" y="912"/>
                    <a:pt x="480" y="115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5" name="Line 31"/>
            <p:cNvSpPr/>
            <p:nvPr/>
          </p:nvSpPr>
          <p:spPr>
            <a:xfrm>
              <a:off x="3381480" y="1944720"/>
              <a:ext cx="3808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6" name="Freeform 32"/>
            <p:cNvSpPr/>
            <p:nvPr/>
          </p:nvSpPr>
          <p:spPr>
            <a:xfrm flipH="1" rot="18676200">
              <a:off x="5412600" y="3788280"/>
              <a:ext cx="214200" cy="1174680"/>
            </a:xfrm>
            <a:custGeom>
              <a:avLst/>
              <a:gdLst>
                <a:gd name="textAreaLeft" fmla="*/ -360 w 214200"/>
                <a:gd name="textAreaRight" fmla="*/ 214200 w 21420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608" h="1152">
                  <a:moveTo>
                    <a:pt x="0" y="0"/>
                  </a:moveTo>
                  <a:cubicBezTo>
                    <a:pt x="224" y="144"/>
                    <a:pt x="448" y="288"/>
                    <a:pt x="528" y="480"/>
                  </a:cubicBezTo>
                  <a:cubicBezTo>
                    <a:pt x="608" y="672"/>
                    <a:pt x="544" y="912"/>
                    <a:pt x="480" y="115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7" name="Freeform 33"/>
            <p:cNvSpPr/>
            <p:nvPr/>
          </p:nvSpPr>
          <p:spPr>
            <a:xfrm rot="2797200">
              <a:off x="5837040" y="5332320"/>
              <a:ext cx="152280" cy="546120"/>
            </a:xfrm>
            <a:custGeom>
              <a:avLst/>
              <a:gdLst>
                <a:gd name="textAreaLeft" fmla="*/ 0 w 152280"/>
                <a:gd name="textAreaRight" fmla="*/ 152280 w 1522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608" h="1152">
                  <a:moveTo>
                    <a:pt x="0" y="0"/>
                  </a:moveTo>
                  <a:cubicBezTo>
                    <a:pt x="224" y="144"/>
                    <a:pt x="448" y="288"/>
                    <a:pt x="528" y="480"/>
                  </a:cubicBezTo>
                  <a:cubicBezTo>
                    <a:pt x="608" y="672"/>
                    <a:pt x="544" y="912"/>
                    <a:pt x="480" y="115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8" name="Freeform 34"/>
            <p:cNvSpPr/>
            <p:nvPr/>
          </p:nvSpPr>
          <p:spPr>
            <a:xfrm flipH="1" rot="18802800">
              <a:off x="6155280" y="5324760"/>
              <a:ext cx="90000" cy="457200"/>
            </a:xfrm>
            <a:custGeom>
              <a:avLst/>
              <a:gdLst>
                <a:gd name="textAreaLeft" fmla="*/ 360 w 90000"/>
                <a:gd name="textAreaRight" fmla="*/ 90720 w 90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608" h="1152">
                  <a:moveTo>
                    <a:pt x="0" y="0"/>
                  </a:moveTo>
                  <a:cubicBezTo>
                    <a:pt x="224" y="144"/>
                    <a:pt x="448" y="288"/>
                    <a:pt x="528" y="480"/>
                  </a:cubicBezTo>
                  <a:cubicBezTo>
                    <a:pt x="608" y="672"/>
                    <a:pt x="544" y="912"/>
                    <a:pt x="480" y="115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9" name="Freeform 35"/>
            <p:cNvSpPr/>
            <p:nvPr/>
          </p:nvSpPr>
          <p:spPr>
            <a:xfrm flipH="1" rot="15511200">
              <a:off x="6396120" y="4948560"/>
              <a:ext cx="169560" cy="83808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608" h="1152">
                  <a:moveTo>
                    <a:pt x="0" y="0"/>
                  </a:moveTo>
                  <a:cubicBezTo>
                    <a:pt x="224" y="144"/>
                    <a:pt x="448" y="288"/>
                    <a:pt x="528" y="480"/>
                  </a:cubicBezTo>
                  <a:cubicBezTo>
                    <a:pt x="608" y="672"/>
                    <a:pt x="544" y="912"/>
                    <a:pt x="480" y="115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0" name="Freeform 36"/>
            <p:cNvSpPr/>
            <p:nvPr/>
          </p:nvSpPr>
          <p:spPr>
            <a:xfrm rot="4906200">
              <a:off x="5840640" y="5259240"/>
              <a:ext cx="90360" cy="3571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608" h="1152">
                  <a:moveTo>
                    <a:pt x="0" y="0"/>
                  </a:moveTo>
                  <a:cubicBezTo>
                    <a:pt x="224" y="144"/>
                    <a:pt x="448" y="288"/>
                    <a:pt x="528" y="480"/>
                  </a:cubicBezTo>
                  <a:cubicBezTo>
                    <a:pt x="608" y="672"/>
                    <a:pt x="544" y="912"/>
                    <a:pt x="480" y="115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1" name="Freeform 37"/>
            <p:cNvSpPr/>
            <p:nvPr/>
          </p:nvSpPr>
          <p:spPr>
            <a:xfrm rot="9174000">
              <a:off x="4758840" y="1556640"/>
              <a:ext cx="214200" cy="11746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608" h="1152">
                  <a:moveTo>
                    <a:pt x="0" y="0"/>
                  </a:moveTo>
                  <a:cubicBezTo>
                    <a:pt x="224" y="144"/>
                    <a:pt x="448" y="288"/>
                    <a:pt x="528" y="480"/>
                  </a:cubicBezTo>
                  <a:cubicBezTo>
                    <a:pt x="608" y="672"/>
                    <a:pt x="544" y="912"/>
                    <a:pt x="480" y="115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2" name="Freeform 38"/>
            <p:cNvSpPr/>
            <p:nvPr/>
          </p:nvSpPr>
          <p:spPr>
            <a:xfrm rot="13693200">
              <a:off x="6417360" y="2173680"/>
              <a:ext cx="160200" cy="105732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608" h="1152">
                  <a:moveTo>
                    <a:pt x="0" y="0"/>
                  </a:moveTo>
                  <a:cubicBezTo>
                    <a:pt x="224" y="144"/>
                    <a:pt x="448" y="288"/>
                    <a:pt x="528" y="480"/>
                  </a:cubicBezTo>
                  <a:cubicBezTo>
                    <a:pt x="608" y="672"/>
                    <a:pt x="544" y="912"/>
                    <a:pt x="480" y="115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3" name="Freeform 50"/>
            <p:cNvSpPr/>
            <p:nvPr/>
          </p:nvSpPr>
          <p:spPr>
            <a:xfrm rot="21120600">
              <a:off x="6245280" y="2862360"/>
              <a:ext cx="404640" cy="7156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288" h="504">
                  <a:moveTo>
                    <a:pt x="0" y="72"/>
                  </a:moveTo>
                  <a:cubicBezTo>
                    <a:pt x="72" y="36"/>
                    <a:pt x="144" y="0"/>
                    <a:pt x="192" y="72"/>
                  </a:cubicBezTo>
                  <a:cubicBezTo>
                    <a:pt x="240" y="144"/>
                    <a:pt x="264" y="324"/>
                    <a:pt x="288" y="50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4" name="Freeform 51"/>
            <p:cNvSpPr/>
            <p:nvPr/>
          </p:nvSpPr>
          <p:spPr>
            <a:xfrm flipH="1" rot="4746600">
              <a:off x="5916960" y="2647800"/>
              <a:ext cx="274320" cy="414360"/>
            </a:xfrm>
            <a:custGeom>
              <a:avLst/>
              <a:gdLst>
                <a:gd name="textAreaLeft" fmla="*/ 360 w 274320"/>
                <a:gd name="textAreaRight" fmla="*/ 275040 w 27432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288" h="504">
                  <a:moveTo>
                    <a:pt x="0" y="72"/>
                  </a:moveTo>
                  <a:cubicBezTo>
                    <a:pt x="72" y="36"/>
                    <a:pt x="144" y="0"/>
                    <a:pt x="192" y="72"/>
                  </a:cubicBezTo>
                  <a:cubicBezTo>
                    <a:pt x="240" y="144"/>
                    <a:pt x="264" y="324"/>
                    <a:pt x="288" y="50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5" name="Freeform 52"/>
            <p:cNvSpPr/>
            <p:nvPr/>
          </p:nvSpPr>
          <p:spPr>
            <a:xfrm flipH="1" rot="9839400">
              <a:off x="6262560" y="2288880"/>
              <a:ext cx="152280" cy="488880"/>
            </a:xfrm>
            <a:custGeom>
              <a:avLst/>
              <a:gdLst>
                <a:gd name="textAreaLeft" fmla="*/ 0 w 152280"/>
                <a:gd name="textAreaRight" fmla="*/ 152280 w 15228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608" h="1152">
                  <a:moveTo>
                    <a:pt x="0" y="0"/>
                  </a:moveTo>
                  <a:cubicBezTo>
                    <a:pt x="224" y="144"/>
                    <a:pt x="448" y="288"/>
                    <a:pt x="528" y="480"/>
                  </a:cubicBezTo>
                  <a:cubicBezTo>
                    <a:pt x="608" y="672"/>
                    <a:pt x="544" y="912"/>
                    <a:pt x="480" y="115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6" name="Freeform 53"/>
            <p:cNvSpPr/>
            <p:nvPr/>
          </p:nvSpPr>
          <p:spPr>
            <a:xfrm rot="16206600">
              <a:off x="6616080" y="2379960"/>
              <a:ext cx="152280" cy="823680"/>
            </a:xfrm>
            <a:custGeom>
              <a:avLst/>
              <a:gdLst>
                <a:gd name="textAreaLeft" fmla="*/ 0 w 152280"/>
                <a:gd name="textAreaRight" fmla="*/ 152280 w 152280"/>
                <a:gd name="textAreaTop" fmla="*/ 0 h 823680"/>
                <a:gd name="textAreaBottom" fmla="*/ 824040 h 823680"/>
              </a:gdLst>
              <a:ahLst/>
              <a:rect l="textAreaLeft" t="textAreaTop" r="textAreaRight" b="textAreaBottom"/>
              <a:pathLst>
                <a:path w="608" h="1152">
                  <a:moveTo>
                    <a:pt x="0" y="0"/>
                  </a:moveTo>
                  <a:cubicBezTo>
                    <a:pt x="224" y="144"/>
                    <a:pt x="448" y="288"/>
                    <a:pt x="528" y="480"/>
                  </a:cubicBezTo>
                  <a:cubicBezTo>
                    <a:pt x="608" y="672"/>
                    <a:pt x="544" y="912"/>
                    <a:pt x="480" y="115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7" name="Freeform 56"/>
            <p:cNvSpPr/>
            <p:nvPr/>
          </p:nvSpPr>
          <p:spPr>
            <a:xfrm>
              <a:off x="5600880" y="2246040"/>
              <a:ext cx="720720" cy="58392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344" h="336">
                  <a:moveTo>
                    <a:pt x="336" y="336"/>
                  </a:moveTo>
                  <a:cubicBezTo>
                    <a:pt x="340" y="268"/>
                    <a:pt x="344" y="200"/>
                    <a:pt x="288" y="144"/>
                  </a:cubicBezTo>
                  <a:cubicBezTo>
                    <a:pt x="232" y="88"/>
                    <a:pt x="116" y="44"/>
                    <a:pt x="0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8" name="Freeform 57"/>
            <p:cNvSpPr/>
            <p:nvPr/>
          </p:nvSpPr>
          <p:spPr>
            <a:xfrm flipV="1" rot="2750400">
              <a:off x="5396040" y="3354120"/>
              <a:ext cx="117360" cy="7016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-360 h 701640"/>
                <a:gd name="textAreaBottom" fmla="*/ 701640 h 701640"/>
              </a:gdLst>
              <a:ahLst/>
              <a:rect l="textAreaLeft" t="textAreaTop" r="textAreaRight" b="textAreaBottom"/>
              <a:pathLst>
                <a:path w="608" h="1152">
                  <a:moveTo>
                    <a:pt x="0" y="0"/>
                  </a:moveTo>
                  <a:cubicBezTo>
                    <a:pt x="224" y="144"/>
                    <a:pt x="448" y="288"/>
                    <a:pt x="528" y="480"/>
                  </a:cubicBezTo>
                  <a:cubicBezTo>
                    <a:pt x="608" y="672"/>
                    <a:pt x="544" y="912"/>
                    <a:pt x="480" y="115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9" name="Freeform 58"/>
            <p:cNvSpPr/>
            <p:nvPr/>
          </p:nvSpPr>
          <p:spPr>
            <a:xfrm rot="14120400">
              <a:off x="7447680" y="1322640"/>
              <a:ext cx="74520" cy="4982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498240"/>
                <a:gd name="textAreaBottom" fmla="*/ 498600 h 498240"/>
              </a:gdLst>
              <a:ahLst/>
              <a:rect l="textAreaLeft" t="textAreaTop" r="textAreaRight" b="textAreaBottom"/>
              <a:pathLst>
                <a:path w="608" h="1152">
                  <a:moveTo>
                    <a:pt x="0" y="0"/>
                  </a:moveTo>
                  <a:cubicBezTo>
                    <a:pt x="224" y="144"/>
                    <a:pt x="448" y="288"/>
                    <a:pt x="528" y="480"/>
                  </a:cubicBezTo>
                  <a:cubicBezTo>
                    <a:pt x="608" y="672"/>
                    <a:pt x="544" y="912"/>
                    <a:pt x="480" y="115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400" name="Rectangle 8"/>
          <p:cNvSpPr/>
          <p:nvPr/>
        </p:nvSpPr>
        <p:spPr>
          <a:xfrm>
            <a:off x="709560" y="6240600"/>
            <a:ext cx="31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cknowledgement: National Cancer Institute presentation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1" name="Oval 5"/>
          <p:cNvSpPr/>
          <p:nvPr/>
        </p:nvSpPr>
        <p:spPr>
          <a:xfrm>
            <a:off x="3781440" y="819000"/>
            <a:ext cx="1351080" cy="955800"/>
          </a:xfrm>
          <a:prstGeom prst="ellipse">
            <a:avLst/>
          </a:prstGeom>
          <a:noFill/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02" name="Picture 43" descr="dust_macrophage.jpg"/>
          <p:cNvPicPr/>
          <p:nvPr/>
        </p:nvPicPr>
        <p:blipFill>
          <a:blip r:embed="rId2"/>
          <a:stretch/>
        </p:blipFill>
        <p:spPr>
          <a:xfrm>
            <a:off x="76320" y="3429000"/>
            <a:ext cx="33908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3"/>
          <p:cNvSpPr/>
          <p:nvPr/>
        </p:nvSpPr>
        <p:spPr>
          <a:xfrm>
            <a:off x="0" y="6635880"/>
            <a:ext cx="63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DA357A76-E8D5-48A2-B794-EBDFDADA68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226800" y="817200"/>
            <a:ext cx="8700840" cy="25239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marL="289080" indent="-289080">
              <a:lnSpc>
                <a:spcPct val="11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Cytokines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1" marL="620640" indent="-237960">
              <a:lnSpc>
                <a:spcPct val="11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Proteins made in T and B cells and macrophage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620640" indent="-237960">
              <a:lnSpc>
                <a:spcPct val="11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facilitate communication between immune cell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250920" y="190440"/>
            <a:ext cx="8726400" cy="3621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ytokines: The Communicator Molecule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"/>
          <p:cNvGrpSpPr/>
          <p:nvPr/>
        </p:nvGrpSpPr>
        <p:grpSpPr>
          <a:xfrm>
            <a:off x="281160" y="120600"/>
            <a:ext cx="8581680" cy="6621840"/>
            <a:chOff x="281160" y="120600"/>
            <a:chExt cx="8581680" cy="6621840"/>
          </a:xfrm>
        </p:grpSpPr>
        <p:pic>
          <p:nvPicPr>
            <p:cNvPr id="407" name="Picture 3" descr="h_cytokinePathway"/>
            <p:cNvPicPr/>
            <p:nvPr/>
          </p:nvPicPr>
          <p:blipFill>
            <a:blip r:embed="rId1"/>
            <a:stretch/>
          </p:blipFill>
          <p:spPr>
            <a:xfrm>
              <a:off x="281160" y="465120"/>
              <a:ext cx="8581680" cy="591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Text Box 4"/>
            <p:cNvSpPr/>
            <p:nvPr/>
          </p:nvSpPr>
          <p:spPr>
            <a:xfrm>
              <a:off x="1663920" y="6343560"/>
              <a:ext cx="615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http://www.biocarta.com/pathfiles/h_cytokinePathway.asp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09" name="Text Box 5"/>
            <p:cNvSpPr/>
            <p:nvPr/>
          </p:nvSpPr>
          <p:spPr>
            <a:xfrm>
              <a:off x="899280" y="120600"/>
              <a:ext cx="76042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Communication among different cells of the immune system</a:t>
              </a: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410" name="Oval 5"/>
          <p:cNvSpPr/>
          <p:nvPr/>
        </p:nvSpPr>
        <p:spPr>
          <a:xfrm>
            <a:off x="4014720" y="1127160"/>
            <a:ext cx="1351080" cy="955800"/>
          </a:xfrm>
          <a:prstGeom prst="ellipse">
            <a:avLst/>
          </a:prstGeom>
          <a:noFill/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3"/>
          <p:cNvSpPr/>
          <p:nvPr/>
        </p:nvSpPr>
        <p:spPr>
          <a:xfrm>
            <a:off x="0" y="6635880"/>
            <a:ext cx="63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EF29CD4D-3087-4B9A-A052-CC49AF00C3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226800" y="817560"/>
            <a:ext cx="8700840" cy="45864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marL="289080" indent="-289080">
              <a:lnSpc>
                <a:spcPct val="12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Each cytokine regulated by several distinct signaling pathways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Many known but a lot is unknown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Questions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Can we find out which signaling pathways control a specific cytokine using high-throughput data and computational approaches?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250920" y="190440"/>
            <a:ext cx="8726400" cy="3621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bjectiv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2400" y="190440"/>
            <a:ext cx="8858160" cy="3621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ytokine Production and Release in Macrophage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15" name="Group 97"/>
          <p:cNvGrpSpPr/>
          <p:nvPr/>
        </p:nvGrpSpPr>
        <p:grpSpPr>
          <a:xfrm>
            <a:off x="184320" y="808200"/>
            <a:ext cx="4117680" cy="4132800"/>
            <a:chOff x="184320" y="808200"/>
            <a:chExt cx="4117680" cy="4132800"/>
          </a:xfrm>
        </p:grpSpPr>
        <p:sp>
          <p:nvSpPr>
            <p:cNvPr id="416" name="Text Box 6"/>
            <p:cNvSpPr/>
            <p:nvPr/>
          </p:nvSpPr>
          <p:spPr>
            <a:xfrm>
              <a:off x="184320" y="1150920"/>
              <a:ext cx="188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ultiple Stimuli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grpSp>
          <p:nvGrpSpPr>
            <p:cNvPr id="417" name="Group 7"/>
            <p:cNvGrpSpPr/>
            <p:nvPr/>
          </p:nvGrpSpPr>
          <p:grpSpPr>
            <a:xfrm>
              <a:off x="512640" y="1546200"/>
              <a:ext cx="1229760" cy="323640"/>
              <a:chOff x="512640" y="1546200"/>
              <a:chExt cx="1229760" cy="323640"/>
            </a:xfrm>
          </p:grpSpPr>
          <p:sp>
            <p:nvSpPr>
              <p:cNvPr id="418" name="Line 8"/>
              <p:cNvSpPr/>
              <p:nvPr/>
            </p:nvSpPr>
            <p:spPr>
              <a:xfrm>
                <a:off x="512640" y="1546200"/>
                <a:ext cx="0" cy="32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19" name="Line 9"/>
              <p:cNvSpPr/>
              <p:nvPr/>
            </p:nvSpPr>
            <p:spPr>
              <a:xfrm>
                <a:off x="819720" y="1546200"/>
                <a:ext cx="0" cy="32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20" name="Line 10"/>
              <p:cNvSpPr/>
              <p:nvPr/>
            </p:nvSpPr>
            <p:spPr>
              <a:xfrm>
                <a:off x="1127520" y="1546200"/>
                <a:ext cx="0" cy="32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21" name="Line 11"/>
              <p:cNvSpPr/>
              <p:nvPr/>
            </p:nvSpPr>
            <p:spPr>
              <a:xfrm>
                <a:off x="1435320" y="1546200"/>
                <a:ext cx="0" cy="32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22" name="Line 12"/>
              <p:cNvSpPr/>
              <p:nvPr/>
            </p:nvSpPr>
            <p:spPr>
              <a:xfrm>
                <a:off x="1742400" y="1546200"/>
                <a:ext cx="0" cy="32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sp>
          <p:nvSpPr>
            <p:cNvPr id="423" name="AutoShape 13"/>
            <p:cNvSpPr/>
            <p:nvPr/>
          </p:nvSpPr>
          <p:spPr>
            <a:xfrm>
              <a:off x="225360" y="1917720"/>
              <a:ext cx="3610080" cy="2448000"/>
            </a:xfrm>
            <a:prstGeom prst="flowChartAlternateProcess">
              <a:avLst/>
            </a:prstGeom>
            <a:solidFill>
              <a:srgbClr val="e5e5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24" name="Text Box 14"/>
            <p:cNvSpPr/>
            <p:nvPr/>
          </p:nvSpPr>
          <p:spPr>
            <a:xfrm>
              <a:off x="757800" y="4542120"/>
              <a:ext cx="130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ytokines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360360" y="2165400"/>
              <a:ext cx="104760" cy="104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26" name="Oval 16"/>
            <p:cNvSpPr/>
            <p:nvPr/>
          </p:nvSpPr>
          <p:spPr>
            <a:xfrm>
              <a:off x="379440" y="2908440"/>
              <a:ext cx="104760" cy="104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27" name="Oval 17"/>
            <p:cNvSpPr/>
            <p:nvPr/>
          </p:nvSpPr>
          <p:spPr>
            <a:xfrm>
              <a:off x="965160" y="2212920"/>
              <a:ext cx="104760" cy="104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28" name="Oval 18"/>
            <p:cNvSpPr/>
            <p:nvPr/>
          </p:nvSpPr>
          <p:spPr>
            <a:xfrm>
              <a:off x="801720" y="2613240"/>
              <a:ext cx="104760" cy="104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29" name="Oval 19"/>
            <p:cNvSpPr/>
            <p:nvPr/>
          </p:nvSpPr>
          <p:spPr>
            <a:xfrm>
              <a:off x="1147680" y="2793960"/>
              <a:ext cx="104760" cy="104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30" name="Oval 20"/>
            <p:cNvSpPr/>
            <p:nvPr/>
          </p:nvSpPr>
          <p:spPr>
            <a:xfrm>
              <a:off x="1454040" y="2260800"/>
              <a:ext cx="106200" cy="104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31" name="Oval 21"/>
            <p:cNvSpPr/>
            <p:nvPr/>
          </p:nvSpPr>
          <p:spPr>
            <a:xfrm>
              <a:off x="1511280" y="2775240"/>
              <a:ext cx="106200" cy="104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cxnSp>
          <p:nvCxnSpPr>
            <p:cNvPr id="432" name="AutoShape 22"/>
            <p:cNvCxnSpPr>
              <a:stCxn id="425" idx="4"/>
              <a:endCxn id="428" idx="2"/>
            </p:cNvCxnSpPr>
            <p:nvPr/>
          </p:nvCxnSpPr>
          <p:spPr>
            <a:xfrm>
              <a:off x="412560" y="2270160"/>
              <a:ext cx="389520" cy="396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3" name="AutoShape 23"/>
            <p:cNvCxnSpPr>
              <a:stCxn id="427" idx="4"/>
              <a:endCxn id="428" idx="6"/>
            </p:cNvCxnSpPr>
            <p:nvPr/>
          </p:nvCxnSpPr>
          <p:spPr>
            <a:xfrm flipH="1">
              <a:off x="906120" y="2317320"/>
              <a:ext cx="111600" cy="34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4" name="AutoShape 24"/>
            <p:cNvCxnSpPr>
              <a:stCxn id="428" idx="4"/>
              <a:endCxn id="426" idx="7"/>
            </p:cNvCxnSpPr>
            <p:nvPr/>
          </p:nvCxnSpPr>
          <p:spPr>
            <a:xfrm flipH="1">
              <a:off x="467640" y="2717640"/>
              <a:ext cx="386280" cy="20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5" name="AutoShape 25"/>
            <p:cNvCxnSpPr>
              <a:stCxn id="428" idx="4"/>
              <a:endCxn id="436" idx="1"/>
            </p:cNvCxnSpPr>
            <p:nvPr/>
          </p:nvCxnSpPr>
          <p:spPr>
            <a:xfrm>
              <a:off x="853560" y="2717640"/>
              <a:ext cx="254520" cy="5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6" name="Oval 26"/>
            <p:cNvSpPr/>
            <p:nvPr/>
          </p:nvSpPr>
          <p:spPr>
            <a:xfrm>
              <a:off x="984240" y="3165480"/>
              <a:ext cx="853920" cy="847440"/>
            </a:xfrm>
            <a:prstGeom prst="ellipse">
              <a:avLst/>
            </a:prstGeom>
            <a:solidFill>
              <a:srgbClr val="c1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grpSp>
          <p:nvGrpSpPr>
            <p:cNvPr id="437" name="Group 27"/>
            <p:cNvGrpSpPr/>
            <p:nvPr/>
          </p:nvGrpSpPr>
          <p:grpSpPr>
            <a:xfrm>
              <a:off x="1333440" y="3908520"/>
              <a:ext cx="156960" cy="666720"/>
              <a:chOff x="1333440" y="3908520"/>
              <a:chExt cx="156960" cy="666720"/>
            </a:xfrm>
          </p:grpSpPr>
          <p:sp>
            <p:nvSpPr>
              <p:cNvPr id="438" name="Line 28"/>
              <p:cNvSpPr/>
              <p:nvPr/>
            </p:nvSpPr>
            <p:spPr>
              <a:xfrm>
                <a:off x="1333440" y="4251240"/>
                <a:ext cx="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39" name="Line 29"/>
              <p:cNvSpPr/>
              <p:nvPr/>
            </p:nvSpPr>
            <p:spPr>
              <a:xfrm>
                <a:off x="1490400" y="4251240"/>
                <a:ext cx="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40" name="Line 30"/>
              <p:cNvSpPr/>
              <p:nvPr/>
            </p:nvSpPr>
            <p:spPr>
              <a:xfrm>
                <a:off x="1333440" y="3908520"/>
                <a:ext cx="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41" name="Line 31"/>
              <p:cNvSpPr/>
              <p:nvPr/>
            </p:nvSpPr>
            <p:spPr>
              <a:xfrm>
                <a:off x="1490400" y="3908520"/>
                <a:ext cx="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cxnSp>
          <p:nvCxnSpPr>
            <p:cNvPr id="442" name="AutoShape 32"/>
            <p:cNvCxnSpPr>
              <a:stCxn id="426" idx="5"/>
              <a:endCxn id="436" idx="1"/>
            </p:cNvCxnSpPr>
            <p:nvPr/>
          </p:nvCxnSpPr>
          <p:spPr>
            <a:xfrm>
              <a:off x="468000" y="2997000"/>
              <a:ext cx="640440" cy="292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AutoShape 33"/>
            <p:cNvCxnSpPr>
              <a:stCxn id="430" idx="5"/>
              <a:endCxn id="431" idx="1"/>
            </p:cNvCxnSpPr>
            <p:nvPr/>
          </p:nvCxnSpPr>
          <p:spPr>
            <a:xfrm flipH="1">
              <a:off x="1528200" y="2349360"/>
              <a:ext cx="16560" cy="441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4" name="AutoShape 34"/>
            <p:cNvCxnSpPr>
              <a:stCxn id="430" idx="3"/>
              <a:endCxn id="428" idx="6"/>
            </p:cNvCxnSpPr>
            <p:nvPr/>
          </p:nvCxnSpPr>
          <p:spPr>
            <a:xfrm flipH="1">
              <a:off x="905760" y="2349360"/>
              <a:ext cx="5641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5" name="AutoShape 35"/>
            <p:cNvCxnSpPr>
              <a:stCxn id="430" idx="4"/>
              <a:endCxn id="429" idx="7"/>
            </p:cNvCxnSpPr>
            <p:nvPr/>
          </p:nvCxnSpPr>
          <p:spPr>
            <a:xfrm flipH="1">
              <a:off x="1235880" y="2365560"/>
              <a:ext cx="270360" cy="44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6" name="AutoShape 36"/>
            <p:cNvCxnSpPr>
              <a:stCxn id="429" idx="4"/>
              <a:endCxn id="436" idx="0"/>
            </p:cNvCxnSpPr>
            <p:nvPr/>
          </p:nvCxnSpPr>
          <p:spPr>
            <a:xfrm>
              <a:off x="1200240" y="2899080"/>
              <a:ext cx="21168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7" name="AutoShape 37"/>
            <p:cNvCxnSpPr>
              <a:stCxn id="448" idx="2"/>
              <a:endCxn id="431" idx="7"/>
            </p:cNvCxnSpPr>
            <p:nvPr/>
          </p:nvCxnSpPr>
          <p:spPr>
            <a:xfrm flipH="1">
              <a:off x="1600920" y="1917360"/>
              <a:ext cx="138600" cy="87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9" name="AutoShape 38"/>
            <p:cNvCxnSpPr>
              <a:stCxn id="431" idx="4"/>
              <a:endCxn id="436" idx="0"/>
            </p:cNvCxnSpPr>
            <p:nvPr/>
          </p:nvCxnSpPr>
          <p:spPr>
            <a:xfrm flipH="1">
              <a:off x="1410480" y="2879640"/>
              <a:ext cx="15444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0" name="AutoShape 39"/>
            <p:cNvCxnSpPr>
              <a:stCxn id="427" idx="5"/>
              <a:endCxn id="429" idx="1"/>
            </p:cNvCxnSpPr>
            <p:nvPr/>
          </p:nvCxnSpPr>
          <p:spPr>
            <a:xfrm>
              <a:off x="1054080" y="2301480"/>
              <a:ext cx="110160" cy="50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8" name="Rectangle 40"/>
            <p:cNvSpPr/>
            <p:nvPr/>
          </p:nvSpPr>
          <p:spPr>
            <a:xfrm>
              <a:off x="1693800" y="1765440"/>
              <a:ext cx="90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cxnSp>
          <p:nvCxnSpPr>
            <p:cNvPr id="451" name="AutoShape 41"/>
            <p:cNvCxnSpPr>
              <a:stCxn id="448" idx="2"/>
              <a:endCxn id="430" idx="7"/>
            </p:cNvCxnSpPr>
            <p:nvPr/>
          </p:nvCxnSpPr>
          <p:spPr>
            <a:xfrm flipH="1">
              <a:off x="1544400" y="1917720"/>
              <a:ext cx="195840" cy="358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2" name="Rectangle 42"/>
            <p:cNvSpPr/>
            <p:nvPr/>
          </p:nvSpPr>
          <p:spPr>
            <a:xfrm>
              <a:off x="1387440" y="1765440"/>
              <a:ext cx="885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53" name="Rectangle 43"/>
            <p:cNvSpPr/>
            <p:nvPr/>
          </p:nvSpPr>
          <p:spPr>
            <a:xfrm>
              <a:off x="1079280" y="1765440"/>
              <a:ext cx="90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54" name="Rectangle 44"/>
            <p:cNvSpPr/>
            <p:nvPr/>
          </p:nvSpPr>
          <p:spPr>
            <a:xfrm>
              <a:off x="772920" y="1765440"/>
              <a:ext cx="885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55" name="Rectangle 45"/>
            <p:cNvSpPr/>
            <p:nvPr/>
          </p:nvSpPr>
          <p:spPr>
            <a:xfrm>
              <a:off x="465120" y="1765440"/>
              <a:ext cx="90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cxnSp>
          <p:nvCxnSpPr>
            <p:cNvPr id="456" name="AutoShape 46"/>
            <p:cNvCxnSpPr>
              <a:stCxn id="452" idx="2"/>
              <a:endCxn id="430" idx="7"/>
            </p:cNvCxnSpPr>
            <p:nvPr/>
          </p:nvCxnSpPr>
          <p:spPr>
            <a:xfrm>
              <a:off x="1431360" y="1917720"/>
              <a:ext cx="113400" cy="358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7" name="AutoShape 47"/>
            <p:cNvCxnSpPr>
              <a:stCxn id="453" idx="2"/>
              <a:endCxn id="430" idx="1"/>
            </p:cNvCxnSpPr>
            <p:nvPr/>
          </p:nvCxnSpPr>
          <p:spPr>
            <a:xfrm>
              <a:off x="1125360" y="1917720"/>
              <a:ext cx="344880" cy="358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8" name="AutoShape 48"/>
            <p:cNvCxnSpPr>
              <a:stCxn id="453" idx="2"/>
              <a:endCxn id="427" idx="7"/>
            </p:cNvCxnSpPr>
            <p:nvPr/>
          </p:nvCxnSpPr>
          <p:spPr>
            <a:xfrm flipH="1">
              <a:off x="1053720" y="1917720"/>
              <a:ext cx="72000" cy="311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9" name="AutoShape 49"/>
            <p:cNvCxnSpPr>
              <a:stCxn id="454" idx="2"/>
              <a:endCxn id="427" idx="0"/>
            </p:cNvCxnSpPr>
            <p:nvPr/>
          </p:nvCxnSpPr>
          <p:spPr>
            <a:xfrm>
              <a:off x="817200" y="1917720"/>
              <a:ext cx="200520" cy="29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0" name="AutoShape 50"/>
            <p:cNvCxnSpPr>
              <a:stCxn id="455" idx="2"/>
              <a:endCxn id="427" idx="1"/>
            </p:cNvCxnSpPr>
            <p:nvPr/>
          </p:nvCxnSpPr>
          <p:spPr>
            <a:xfrm>
              <a:off x="509040" y="1917720"/>
              <a:ext cx="471960" cy="311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1" name="AutoShape 51"/>
            <p:cNvCxnSpPr>
              <a:stCxn id="455" idx="2"/>
              <a:endCxn id="425" idx="7"/>
            </p:cNvCxnSpPr>
            <p:nvPr/>
          </p:nvCxnSpPr>
          <p:spPr>
            <a:xfrm flipH="1">
              <a:off x="448560" y="1917720"/>
              <a:ext cx="60840" cy="26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2" name="AutoShape 52"/>
            <p:cNvCxnSpPr>
              <a:stCxn id="455" idx="2"/>
              <a:endCxn id="428" idx="0"/>
            </p:cNvCxnSpPr>
            <p:nvPr/>
          </p:nvCxnSpPr>
          <p:spPr>
            <a:xfrm>
              <a:off x="509400" y="1917360"/>
              <a:ext cx="344880" cy="69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3" name="AutoShape 53"/>
            <p:cNvCxnSpPr>
              <a:stCxn id="425" idx="4"/>
              <a:endCxn id="426" idx="0"/>
            </p:cNvCxnSpPr>
            <p:nvPr/>
          </p:nvCxnSpPr>
          <p:spPr>
            <a:xfrm>
              <a:off x="412560" y="2270160"/>
              <a:ext cx="19440" cy="63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4" name="Text Box 54"/>
            <p:cNvSpPr/>
            <p:nvPr/>
          </p:nvSpPr>
          <p:spPr>
            <a:xfrm>
              <a:off x="1743120" y="1998720"/>
              <a:ext cx="2205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lex signaling network of signaling proteins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(phosphoproteins)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65" name="Text Box 55"/>
            <p:cNvSpPr/>
            <p:nvPr/>
          </p:nvSpPr>
          <p:spPr>
            <a:xfrm>
              <a:off x="1764360" y="3996000"/>
              <a:ext cx="11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Macrophage</a:t>
              </a:r>
              <a:endParaRPr b="0" lang="en-US" sz="1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cxnSp>
          <p:nvCxnSpPr>
            <p:cNvPr id="466" name="AutoShape 56"/>
            <p:cNvCxnSpPr>
              <a:stCxn id="426" idx="4"/>
              <a:endCxn id="440" idx="0"/>
            </p:cNvCxnSpPr>
            <p:nvPr/>
          </p:nvCxnSpPr>
          <p:spPr>
            <a:xfrm flipH="1" rot="16200000">
              <a:off x="264960" y="3179520"/>
              <a:ext cx="1234080" cy="902160"/>
            </a:xfrm>
            <a:prstGeom prst="curvedConnector5">
              <a:avLst>
                <a:gd name="adj1" fmla="val 18529"/>
                <a:gd name="adj2" fmla="val 49980"/>
                <a:gd name="adj3" fmla="val 185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467" name="Group 57"/>
            <p:cNvGrpSpPr/>
            <p:nvPr/>
          </p:nvGrpSpPr>
          <p:grpSpPr>
            <a:xfrm>
              <a:off x="1042920" y="3565800"/>
              <a:ext cx="522000" cy="145800"/>
              <a:chOff x="1042920" y="3565800"/>
              <a:chExt cx="522000" cy="145800"/>
            </a:xfrm>
          </p:grpSpPr>
          <p:grpSp>
            <p:nvGrpSpPr>
              <p:cNvPr id="468" name="Group 58"/>
              <p:cNvGrpSpPr/>
              <p:nvPr/>
            </p:nvGrpSpPr>
            <p:grpSpPr>
              <a:xfrm>
                <a:off x="1051200" y="3565800"/>
                <a:ext cx="510120" cy="141480"/>
                <a:chOff x="1051200" y="3565800"/>
                <a:chExt cx="510120" cy="141480"/>
              </a:xfrm>
            </p:grpSpPr>
            <p:sp>
              <p:nvSpPr>
                <p:cNvPr id="469" name="Freeform 59"/>
                <p:cNvSpPr/>
                <p:nvPr/>
              </p:nvSpPr>
              <p:spPr>
                <a:xfrm>
                  <a:off x="1051200" y="3565800"/>
                  <a:ext cx="497520" cy="139320"/>
                </a:xfrm>
                <a:custGeom>
                  <a:avLst/>
                  <a:gdLst>
                    <a:gd name="textAreaLeft" fmla="*/ 0 w 497520"/>
                    <a:gd name="textAreaRight" fmla="*/ 497880 w 497520"/>
                    <a:gd name="textAreaTop" fmla="*/ 0 h 139320"/>
                    <a:gd name="textAreaBottom" fmla="*/ 139680 h 139320"/>
                  </a:gdLst>
                  <a:ahLst/>
                  <a:rect l="textAreaLeft" t="textAreaTop" r="textAreaRight" b="textAreaBottom"/>
                  <a:pathLst>
                    <a:path w="2808" h="728">
                      <a:moveTo>
                        <a:pt x="0" y="676"/>
                      </a:moveTo>
                      <a:cubicBezTo>
                        <a:pt x="79" y="635"/>
                        <a:pt x="158" y="594"/>
                        <a:pt x="216" y="520"/>
                      </a:cubicBezTo>
                      <a:cubicBezTo>
                        <a:pt x="274" y="446"/>
                        <a:pt x="300" y="312"/>
                        <a:pt x="348" y="232"/>
                      </a:cubicBezTo>
                      <a:cubicBezTo>
                        <a:pt x="396" y="152"/>
                        <a:pt x="438" y="26"/>
                        <a:pt x="504" y="40"/>
                      </a:cubicBezTo>
                      <a:cubicBezTo>
                        <a:pt x="570" y="54"/>
                        <a:pt x="672" y="208"/>
                        <a:pt x="744" y="316"/>
                      </a:cubicBezTo>
                      <a:cubicBezTo>
                        <a:pt x="816" y="424"/>
                        <a:pt x="852" y="648"/>
                        <a:pt x="936" y="688"/>
                      </a:cubicBezTo>
                      <a:cubicBezTo>
                        <a:pt x="1020" y="728"/>
                        <a:pt x="1170" y="630"/>
                        <a:pt x="1248" y="556"/>
                      </a:cubicBezTo>
                      <a:cubicBezTo>
                        <a:pt x="1326" y="482"/>
                        <a:pt x="1360" y="328"/>
                        <a:pt x="1404" y="244"/>
                      </a:cubicBezTo>
                      <a:cubicBezTo>
                        <a:pt x="1448" y="160"/>
                        <a:pt x="1474" y="80"/>
                        <a:pt x="1512" y="52"/>
                      </a:cubicBezTo>
                      <a:cubicBezTo>
                        <a:pt x="1550" y="24"/>
                        <a:pt x="1578" y="0"/>
                        <a:pt x="1632" y="76"/>
                      </a:cubicBezTo>
                      <a:cubicBezTo>
                        <a:pt x="1686" y="152"/>
                        <a:pt x="1772" y="408"/>
                        <a:pt x="1836" y="508"/>
                      </a:cubicBezTo>
                      <a:cubicBezTo>
                        <a:pt x="1900" y="608"/>
                        <a:pt x="1944" y="672"/>
                        <a:pt x="2016" y="676"/>
                      </a:cubicBezTo>
                      <a:cubicBezTo>
                        <a:pt x="2088" y="680"/>
                        <a:pt x="2184" y="634"/>
                        <a:pt x="2268" y="532"/>
                      </a:cubicBezTo>
                      <a:cubicBezTo>
                        <a:pt x="2352" y="430"/>
                        <a:pt x="2430" y="98"/>
                        <a:pt x="2520" y="64"/>
                      </a:cubicBezTo>
                      <a:cubicBezTo>
                        <a:pt x="2610" y="30"/>
                        <a:pt x="2770" y="286"/>
                        <a:pt x="2808" y="3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60"/>
                <p:cNvSpPr/>
                <p:nvPr/>
              </p:nvSpPr>
              <p:spPr>
                <a:xfrm>
                  <a:off x="1063800" y="3567960"/>
                  <a:ext cx="497520" cy="139320"/>
                </a:xfrm>
                <a:custGeom>
                  <a:avLst/>
                  <a:gdLst>
                    <a:gd name="textAreaLeft" fmla="*/ 0 w 497520"/>
                    <a:gd name="textAreaRight" fmla="*/ 497880 w 497520"/>
                    <a:gd name="textAreaTop" fmla="*/ 0 h 139320"/>
                    <a:gd name="textAreaBottom" fmla="*/ 139680 h 139320"/>
                  </a:gdLst>
                  <a:ahLst/>
                  <a:rect l="textAreaLeft" t="textAreaTop" r="textAreaRight" b="textAreaBottom"/>
                  <a:pathLst>
                    <a:path w="2808" h="728">
                      <a:moveTo>
                        <a:pt x="0" y="676"/>
                      </a:moveTo>
                      <a:cubicBezTo>
                        <a:pt x="79" y="635"/>
                        <a:pt x="158" y="594"/>
                        <a:pt x="216" y="520"/>
                      </a:cubicBezTo>
                      <a:cubicBezTo>
                        <a:pt x="274" y="446"/>
                        <a:pt x="300" y="312"/>
                        <a:pt x="348" y="232"/>
                      </a:cubicBezTo>
                      <a:cubicBezTo>
                        <a:pt x="396" y="152"/>
                        <a:pt x="438" y="26"/>
                        <a:pt x="504" y="40"/>
                      </a:cubicBezTo>
                      <a:cubicBezTo>
                        <a:pt x="570" y="54"/>
                        <a:pt x="672" y="208"/>
                        <a:pt x="744" y="316"/>
                      </a:cubicBezTo>
                      <a:cubicBezTo>
                        <a:pt x="816" y="424"/>
                        <a:pt x="852" y="648"/>
                        <a:pt x="936" y="688"/>
                      </a:cubicBezTo>
                      <a:cubicBezTo>
                        <a:pt x="1020" y="728"/>
                        <a:pt x="1170" y="630"/>
                        <a:pt x="1248" y="556"/>
                      </a:cubicBezTo>
                      <a:cubicBezTo>
                        <a:pt x="1326" y="482"/>
                        <a:pt x="1360" y="328"/>
                        <a:pt x="1404" y="244"/>
                      </a:cubicBezTo>
                      <a:cubicBezTo>
                        <a:pt x="1448" y="160"/>
                        <a:pt x="1474" y="80"/>
                        <a:pt x="1512" y="52"/>
                      </a:cubicBezTo>
                      <a:cubicBezTo>
                        <a:pt x="1550" y="24"/>
                        <a:pt x="1578" y="0"/>
                        <a:pt x="1632" y="76"/>
                      </a:cubicBezTo>
                      <a:cubicBezTo>
                        <a:pt x="1686" y="152"/>
                        <a:pt x="1772" y="408"/>
                        <a:pt x="1836" y="508"/>
                      </a:cubicBezTo>
                      <a:cubicBezTo>
                        <a:pt x="1900" y="608"/>
                        <a:pt x="1944" y="672"/>
                        <a:pt x="2016" y="676"/>
                      </a:cubicBezTo>
                      <a:cubicBezTo>
                        <a:pt x="2088" y="680"/>
                        <a:pt x="2184" y="634"/>
                        <a:pt x="2268" y="532"/>
                      </a:cubicBezTo>
                      <a:cubicBezTo>
                        <a:pt x="2352" y="430"/>
                        <a:pt x="2430" y="98"/>
                        <a:pt x="2520" y="64"/>
                      </a:cubicBezTo>
                      <a:cubicBezTo>
                        <a:pt x="2610" y="30"/>
                        <a:pt x="2770" y="286"/>
                        <a:pt x="2808" y="3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1" name="Group 61"/>
              <p:cNvGrpSpPr/>
              <p:nvPr/>
            </p:nvGrpSpPr>
            <p:grpSpPr>
              <a:xfrm>
                <a:off x="1046520" y="3570120"/>
                <a:ext cx="510120" cy="141480"/>
                <a:chOff x="1046520" y="3570120"/>
                <a:chExt cx="510120" cy="141480"/>
              </a:xfrm>
            </p:grpSpPr>
            <p:sp>
              <p:nvSpPr>
                <p:cNvPr id="472" name="Freeform 62"/>
                <p:cNvSpPr/>
                <p:nvPr/>
              </p:nvSpPr>
              <p:spPr>
                <a:xfrm flipH="1">
                  <a:off x="1059120" y="3570120"/>
                  <a:ext cx="497520" cy="139320"/>
                </a:xfrm>
                <a:custGeom>
                  <a:avLst/>
                  <a:gdLst>
                    <a:gd name="textAreaLeft" fmla="*/ 360 w 497520"/>
                    <a:gd name="textAreaRight" fmla="*/ 498240 w 497520"/>
                    <a:gd name="textAreaTop" fmla="*/ 0 h 139320"/>
                    <a:gd name="textAreaBottom" fmla="*/ 139680 h 139320"/>
                  </a:gdLst>
                  <a:ahLst/>
                  <a:rect l="textAreaLeft" t="textAreaTop" r="textAreaRight" b="textAreaBottom"/>
                  <a:pathLst>
                    <a:path w="2808" h="728">
                      <a:moveTo>
                        <a:pt x="0" y="676"/>
                      </a:moveTo>
                      <a:cubicBezTo>
                        <a:pt x="79" y="635"/>
                        <a:pt x="158" y="594"/>
                        <a:pt x="216" y="520"/>
                      </a:cubicBezTo>
                      <a:cubicBezTo>
                        <a:pt x="274" y="446"/>
                        <a:pt x="300" y="312"/>
                        <a:pt x="348" y="232"/>
                      </a:cubicBezTo>
                      <a:cubicBezTo>
                        <a:pt x="396" y="152"/>
                        <a:pt x="438" y="26"/>
                        <a:pt x="504" y="40"/>
                      </a:cubicBezTo>
                      <a:cubicBezTo>
                        <a:pt x="570" y="54"/>
                        <a:pt x="672" y="208"/>
                        <a:pt x="744" y="316"/>
                      </a:cubicBezTo>
                      <a:cubicBezTo>
                        <a:pt x="816" y="424"/>
                        <a:pt x="852" y="648"/>
                        <a:pt x="936" y="688"/>
                      </a:cubicBezTo>
                      <a:cubicBezTo>
                        <a:pt x="1020" y="728"/>
                        <a:pt x="1170" y="630"/>
                        <a:pt x="1248" y="556"/>
                      </a:cubicBezTo>
                      <a:cubicBezTo>
                        <a:pt x="1326" y="482"/>
                        <a:pt x="1360" y="328"/>
                        <a:pt x="1404" y="244"/>
                      </a:cubicBezTo>
                      <a:cubicBezTo>
                        <a:pt x="1448" y="160"/>
                        <a:pt x="1474" y="80"/>
                        <a:pt x="1512" y="52"/>
                      </a:cubicBezTo>
                      <a:cubicBezTo>
                        <a:pt x="1550" y="24"/>
                        <a:pt x="1578" y="0"/>
                        <a:pt x="1632" y="76"/>
                      </a:cubicBezTo>
                      <a:cubicBezTo>
                        <a:pt x="1686" y="152"/>
                        <a:pt x="1772" y="408"/>
                        <a:pt x="1836" y="508"/>
                      </a:cubicBezTo>
                      <a:cubicBezTo>
                        <a:pt x="1900" y="608"/>
                        <a:pt x="1944" y="672"/>
                        <a:pt x="2016" y="676"/>
                      </a:cubicBezTo>
                      <a:cubicBezTo>
                        <a:pt x="2088" y="680"/>
                        <a:pt x="2184" y="634"/>
                        <a:pt x="2268" y="532"/>
                      </a:cubicBezTo>
                      <a:cubicBezTo>
                        <a:pt x="2352" y="430"/>
                        <a:pt x="2430" y="98"/>
                        <a:pt x="2520" y="64"/>
                      </a:cubicBezTo>
                      <a:cubicBezTo>
                        <a:pt x="2610" y="30"/>
                        <a:pt x="2770" y="286"/>
                        <a:pt x="2808" y="3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63"/>
                <p:cNvSpPr/>
                <p:nvPr/>
              </p:nvSpPr>
              <p:spPr>
                <a:xfrm flipH="1">
                  <a:off x="1046520" y="3572280"/>
                  <a:ext cx="497520" cy="139320"/>
                </a:xfrm>
                <a:custGeom>
                  <a:avLst/>
                  <a:gdLst>
                    <a:gd name="textAreaLeft" fmla="*/ 360 w 497520"/>
                    <a:gd name="textAreaRight" fmla="*/ 498240 w 497520"/>
                    <a:gd name="textAreaTop" fmla="*/ 0 h 139320"/>
                    <a:gd name="textAreaBottom" fmla="*/ 139680 h 139320"/>
                  </a:gdLst>
                  <a:ahLst/>
                  <a:rect l="textAreaLeft" t="textAreaTop" r="textAreaRight" b="textAreaBottom"/>
                  <a:pathLst>
                    <a:path w="2808" h="728">
                      <a:moveTo>
                        <a:pt x="0" y="676"/>
                      </a:moveTo>
                      <a:cubicBezTo>
                        <a:pt x="79" y="635"/>
                        <a:pt x="158" y="594"/>
                        <a:pt x="216" y="520"/>
                      </a:cubicBezTo>
                      <a:cubicBezTo>
                        <a:pt x="274" y="446"/>
                        <a:pt x="300" y="312"/>
                        <a:pt x="348" y="232"/>
                      </a:cubicBezTo>
                      <a:cubicBezTo>
                        <a:pt x="396" y="152"/>
                        <a:pt x="438" y="26"/>
                        <a:pt x="504" y="40"/>
                      </a:cubicBezTo>
                      <a:cubicBezTo>
                        <a:pt x="570" y="54"/>
                        <a:pt x="672" y="208"/>
                        <a:pt x="744" y="316"/>
                      </a:cubicBezTo>
                      <a:cubicBezTo>
                        <a:pt x="816" y="424"/>
                        <a:pt x="852" y="648"/>
                        <a:pt x="936" y="688"/>
                      </a:cubicBezTo>
                      <a:cubicBezTo>
                        <a:pt x="1020" y="728"/>
                        <a:pt x="1170" y="630"/>
                        <a:pt x="1248" y="556"/>
                      </a:cubicBezTo>
                      <a:cubicBezTo>
                        <a:pt x="1326" y="482"/>
                        <a:pt x="1360" y="328"/>
                        <a:pt x="1404" y="244"/>
                      </a:cubicBezTo>
                      <a:cubicBezTo>
                        <a:pt x="1448" y="160"/>
                        <a:pt x="1474" y="80"/>
                        <a:pt x="1512" y="52"/>
                      </a:cubicBezTo>
                      <a:cubicBezTo>
                        <a:pt x="1550" y="24"/>
                        <a:pt x="1578" y="0"/>
                        <a:pt x="1632" y="76"/>
                      </a:cubicBezTo>
                      <a:cubicBezTo>
                        <a:pt x="1686" y="152"/>
                        <a:pt x="1772" y="408"/>
                        <a:pt x="1836" y="508"/>
                      </a:cubicBezTo>
                      <a:cubicBezTo>
                        <a:pt x="1900" y="608"/>
                        <a:pt x="1944" y="672"/>
                        <a:pt x="2016" y="676"/>
                      </a:cubicBezTo>
                      <a:cubicBezTo>
                        <a:pt x="2088" y="680"/>
                        <a:pt x="2184" y="634"/>
                        <a:pt x="2268" y="532"/>
                      </a:cubicBezTo>
                      <a:cubicBezTo>
                        <a:pt x="2352" y="430"/>
                        <a:pt x="2430" y="98"/>
                        <a:pt x="2520" y="64"/>
                      </a:cubicBezTo>
                      <a:cubicBezTo>
                        <a:pt x="2610" y="30"/>
                        <a:pt x="2770" y="286"/>
                        <a:pt x="2808" y="3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4" name="Rectangle 64"/>
              <p:cNvSpPr/>
              <p:nvPr/>
            </p:nvSpPr>
            <p:spPr>
              <a:xfrm>
                <a:off x="1499760" y="3589200"/>
                <a:ext cx="9720" cy="435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sp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75" name="Rectangle 65"/>
              <p:cNvSpPr/>
              <p:nvPr/>
            </p:nvSpPr>
            <p:spPr>
              <a:xfrm>
                <a:off x="1517040" y="3593880"/>
                <a:ext cx="9720" cy="777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sp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76" name="Rectangle 66"/>
              <p:cNvSpPr/>
              <p:nvPr/>
            </p:nvSpPr>
            <p:spPr>
              <a:xfrm>
                <a:off x="1553040" y="3637440"/>
                <a:ext cx="11880" cy="572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77" name="Rectangle 67"/>
              <p:cNvSpPr/>
              <p:nvPr/>
            </p:nvSpPr>
            <p:spPr>
              <a:xfrm>
                <a:off x="1316880" y="3603240"/>
                <a:ext cx="9720" cy="435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sp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78" name="Rectangle 68"/>
              <p:cNvSpPr/>
              <p:nvPr/>
            </p:nvSpPr>
            <p:spPr>
              <a:xfrm>
                <a:off x="1329840" y="3580200"/>
                <a:ext cx="9720" cy="892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sp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79" name="Rectangle 69"/>
              <p:cNvSpPr/>
              <p:nvPr/>
            </p:nvSpPr>
            <p:spPr>
              <a:xfrm>
                <a:off x="1363680" y="3644280"/>
                <a:ext cx="9720" cy="55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sp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80" name="Rectangle 70"/>
              <p:cNvSpPr/>
              <p:nvPr/>
            </p:nvSpPr>
            <p:spPr>
              <a:xfrm>
                <a:off x="1134360" y="3596040"/>
                <a:ext cx="9720" cy="435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sp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81" name="Rectangle 71"/>
              <p:cNvSpPr/>
              <p:nvPr/>
            </p:nvSpPr>
            <p:spPr>
              <a:xfrm>
                <a:off x="1153440" y="3587040"/>
                <a:ext cx="9720" cy="892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sp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82" name="Rectangle 72"/>
              <p:cNvSpPr/>
              <p:nvPr/>
            </p:nvSpPr>
            <p:spPr>
              <a:xfrm>
                <a:off x="1185120" y="3639960"/>
                <a:ext cx="9720" cy="55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sp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83" name="Rectangle 73"/>
              <p:cNvSpPr/>
              <p:nvPr/>
            </p:nvSpPr>
            <p:spPr>
              <a:xfrm>
                <a:off x="1251000" y="3600720"/>
                <a:ext cx="9720" cy="892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sp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84" name="Rectangle 74"/>
              <p:cNvSpPr/>
              <p:nvPr/>
            </p:nvSpPr>
            <p:spPr>
              <a:xfrm>
                <a:off x="1076760" y="3593880"/>
                <a:ext cx="9720" cy="892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sp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85" name="Rectangle 75"/>
              <p:cNvSpPr/>
              <p:nvPr/>
            </p:nvSpPr>
            <p:spPr>
              <a:xfrm>
                <a:off x="1446840" y="3589200"/>
                <a:ext cx="9720" cy="892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sp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86" name="Rectangle 76"/>
              <p:cNvSpPr/>
              <p:nvPr/>
            </p:nvSpPr>
            <p:spPr>
              <a:xfrm>
                <a:off x="1234080" y="3639960"/>
                <a:ext cx="9720" cy="55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sp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87" name="Rectangle 77"/>
              <p:cNvSpPr/>
              <p:nvPr/>
            </p:nvSpPr>
            <p:spPr>
              <a:xfrm>
                <a:off x="1089360" y="3591720"/>
                <a:ext cx="9720" cy="55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sp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88" name="Rectangle 78"/>
              <p:cNvSpPr/>
              <p:nvPr/>
            </p:nvSpPr>
            <p:spPr>
              <a:xfrm>
                <a:off x="1042920" y="3635280"/>
                <a:ext cx="9720" cy="55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sp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89" name="Rectangle 79"/>
              <p:cNvSpPr/>
              <p:nvPr/>
            </p:nvSpPr>
            <p:spPr>
              <a:xfrm>
                <a:off x="1278720" y="3593880"/>
                <a:ext cx="9720" cy="55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sp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90" name="Rectangle 80"/>
              <p:cNvSpPr/>
              <p:nvPr/>
            </p:nvSpPr>
            <p:spPr>
              <a:xfrm>
                <a:off x="1412640" y="3637440"/>
                <a:ext cx="9720" cy="55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sp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91" name="Rectangle 81"/>
              <p:cNvSpPr/>
              <p:nvPr/>
            </p:nvSpPr>
            <p:spPr>
              <a:xfrm>
                <a:off x="1459440" y="3584880"/>
                <a:ext cx="9720" cy="55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sp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92" name="Rectangle 82"/>
              <p:cNvSpPr/>
              <p:nvPr/>
            </p:nvSpPr>
            <p:spPr>
              <a:xfrm>
                <a:off x="1533960" y="3610080"/>
                <a:ext cx="9720" cy="777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sp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93" name="Rectangle 83"/>
              <p:cNvSpPr/>
              <p:nvPr/>
            </p:nvSpPr>
            <p:spPr>
              <a:xfrm>
                <a:off x="1059840" y="3616920"/>
                <a:ext cx="9720" cy="777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sp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94" name="Rectangle 84"/>
              <p:cNvSpPr/>
              <p:nvPr/>
            </p:nvSpPr>
            <p:spPr>
              <a:xfrm>
                <a:off x="1170360" y="3600720"/>
                <a:ext cx="9720" cy="892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sp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95" name="Rectangle 85"/>
              <p:cNvSpPr/>
              <p:nvPr/>
            </p:nvSpPr>
            <p:spPr>
              <a:xfrm>
                <a:off x="1263960" y="3584880"/>
                <a:ext cx="9720" cy="892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sp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96" name="Rectangle 86"/>
              <p:cNvSpPr/>
              <p:nvPr/>
            </p:nvSpPr>
            <p:spPr>
              <a:xfrm>
                <a:off x="1346760" y="3600720"/>
                <a:ext cx="9720" cy="892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sp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97" name="Rectangle 87"/>
              <p:cNvSpPr/>
              <p:nvPr/>
            </p:nvSpPr>
            <p:spPr>
              <a:xfrm>
                <a:off x="1429560" y="3600720"/>
                <a:ext cx="9720" cy="892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sp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sp>
          <p:nvSpPr>
            <p:cNvPr id="498" name="Freeform 88"/>
            <p:cNvSpPr/>
            <p:nvPr/>
          </p:nvSpPr>
          <p:spPr>
            <a:xfrm>
              <a:off x="2079720" y="1260360"/>
              <a:ext cx="2222280" cy="3495600"/>
            </a:xfrm>
            <a:custGeom>
              <a:avLst/>
              <a:gdLst>
                <a:gd name="textAreaLeft" fmla="*/ 0 w 2222280"/>
                <a:gd name="textAreaRight" fmla="*/ 2222640 w 2222280"/>
                <a:gd name="textAreaTop" fmla="*/ 0 h 3495600"/>
                <a:gd name="textAreaBottom" fmla="*/ 3495960 h 3495600"/>
              </a:gdLst>
              <a:ahLst/>
              <a:rect l="textAreaLeft" t="textAreaTop" r="textAreaRight" b="textAreaBottom"/>
              <a:pathLst>
                <a:path w="1388" h="2202">
                  <a:moveTo>
                    <a:pt x="12" y="2200"/>
                  </a:moveTo>
                  <a:cubicBezTo>
                    <a:pt x="441" y="2201"/>
                    <a:pt x="870" y="2202"/>
                    <a:pt x="1092" y="2008"/>
                  </a:cubicBezTo>
                  <a:cubicBezTo>
                    <a:pt x="1314" y="1814"/>
                    <a:pt x="1332" y="1346"/>
                    <a:pt x="1344" y="1036"/>
                  </a:cubicBezTo>
                  <a:cubicBezTo>
                    <a:pt x="1356" y="726"/>
                    <a:pt x="1388" y="296"/>
                    <a:pt x="1164" y="148"/>
                  </a:cubicBezTo>
                  <a:cubicBezTo>
                    <a:pt x="940" y="0"/>
                    <a:pt x="470" y="74"/>
                    <a:pt x="0" y="1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99" name="Text Box 95"/>
            <p:cNvSpPr/>
            <p:nvPr/>
          </p:nvSpPr>
          <p:spPr>
            <a:xfrm>
              <a:off x="443520" y="808200"/>
              <a:ext cx="115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(ligands)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500" name="Rectangle 3"/>
          <p:cNvSpPr/>
          <p:nvPr/>
        </p:nvSpPr>
        <p:spPr>
          <a:xfrm>
            <a:off x="4589640" y="996840"/>
            <a:ext cx="439092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7080" bIns="37080" anchor="t">
            <a:noAutofit/>
          </a:bodyPr>
          <a:p>
            <a:pPr marL="289080" indent="-289080">
              <a:lnSpc>
                <a:spcPct val="12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Data from the Alliance for Cellular Signaling (AfCS)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~ 250 experiments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1" marL="620640" indent="-237960">
              <a:lnSpc>
                <a:spcPct val="12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22 signaling pathway markers (inputs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620640" indent="-237960">
              <a:lnSpc>
                <a:spcPct val="12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7 cytokines (outputs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4"/>
          <p:cNvSpPr/>
          <p:nvPr/>
        </p:nvSpPr>
        <p:spPr>
          <a:xfrm>
            <a:off x="0" y="6635880"/>
            <a:ext cx="63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791D1CA4-1CB1-4AEB-ABB8-811DC41C7C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3621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xperimental Data: Phosphoprotei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rcRect l="1820" t="19592" r="24859" b="9144"/>
          <a:stretch/>
        </p:blipFill>
        <p:spPr>
          <a:xfrm>
            <a:off x="136440" y="1187280"/>
            <a:ext cx="7151760" cy="5213520"/>
          </a:xfrm>
          <a:prstGeom prst="rect">
            <a:avLst/>
          </a:prstGeom>
          <a:ln w="0">
            <a:noFill/>
          </a:ln>
        </p:spPr>
      </p:pic>
      <p:grpSp>
        <p:nvGrpSpPr>
          <p:cNvPr id="504" name="Group 10"/>
          <p:cNvGrpSpPr/>
          <p:nvPr/>
        </p:nvGrpSpPr>
        <p:grpSpPr>
          <a:xfrm>
            <a:off x="2720880" y="703440"/>
            <a:ext cx="6340680" cy="5738760"/>
            <a:chOff x="2720880" y="703440"/>
            <a:chExt cx="6340680" cy="5738760"/>
          </a:xfrm>
        </p:grpSpPr>
        <p:pic>
          <p:nvPicPr>
            <p:cNvPr id="505" name="Picture 3" descr=""/>
            <p:cNvPicPr/>
            <p:nvPr/>
          </p:nvPicPr>
          <p:blipFill>
            <a:blip r:embed="rId2"/>
            <a:srcRect l="1447" t="16742" r="34470" b="10123"/>
            <a:stretch/>
          </p:blipFill>
          <p:spPr>
            <a:xfrm>
              <a:off x="2728800" y="1091160"/>
              <a:ext cx="6251040" cy="53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Text Box 2"/>
            <p:cNvSpPr/>
            <p:nvPr/>
          </p:nvSpPr>
          <p:spPr>
            <a:xfrm>
              <a:off x="2720880" y="703440"/>
              <a:ext cx="6340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Measurements of phosphoproteins in response to LPS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507" name="Text Box 2"/>
          <p:cNvSpPr/>
          <p:nvPr/>
        </p:nvSpPr>
        <p:spPr>
          <a:xfrm>
            <a:off x="880920" y="6356520"/>
            <a:ext cx="214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urtesy: AfC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4"/>
          <p:cNvSpPr/>
          <p:nvPr/>
        </p:nvSpPr>
        <p:spPr>
          <a:xfrm>
            <a:off x="0" y="6635880"/>
            <a:ext cx="63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E23BA916-F1EA-49AE-81C9-D7DB7BBA07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3621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xperimental Data: Cytokine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3108240" y="1836720"/>
            <a:ext cx="5743800" cy="21146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"/>
          <p:cNvPicPr/>
          <p:nvPr/>
        </p:nvPicPr>
        <p:blipFill>
          <a:blip r:embed="rId2"/>
          <a:stretch/>
        </p:blipFill>
        <p:spPr>
          <a:xfrm>
            <a:off x="109440" y="4889520"/>
            <a:ext cx="8572680" cy="18432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" descr=""/>
          <p:cNvPicPr/>
          <p:nvPr/>
        </p:nvPicPr>
        <p:blipFill>
          <a:blip r:embed="rId3"/>
          <a:stretch/>
        </p:blipFill>
        <p:spPr>
          <a:xfrm>
            <a:off x="272880" y="520560"/>
            <a:ext cx="2743200" cy="438624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2"/>
          <p:cNvSpPr/>
          <p:nvPr/>
        </p:nvSpPr>
        <p:spPr>
          <a:xfrm>
            <a:off x="3198960" y="703440"/>
            <a:ext cx="5781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asurements of cytokines in response to LP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4" name="Text Box 2"/>
          <p:cNvSpPr/>
          <p:nvPr/>
        </p:nvSpPr>
        <p:spPr>
          <a:xfrm>
            <a:off x="3924360" y="4308480"/>
            <a:ext cx="318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~ 250 such dataset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5" name="Text Box 2"/>
          <p:cNvSpPr/>
          <p:nvPr/>
        </p:nvSpPr>
        <p:spPr>
          <a:xfrm>
            <a:off x="880920" y="6356520"/>
            <a:ext cx="214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urtesy: AfC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23"/>
          <p:cNvGrpSpPr/>
          <p:nvPr/>
        </p:nvGrpSpPr>
        <p:grpSpPr>
          <a:xfrm>
            <a:off x="4424400" y="792000"/>
            <a:ext cx="4071960" cy="4073760"/>
            <a:chOff x="4424400" y="792000"/>
            <a:chExt cx="4071960" cy="4073760"/>
          </a:xfrm>
        </p:grpSpPr>
        <p:pic>
          <p:nvPicPr>
            <p:cNvPr id="517" name="Picture 6" descr="Figure1"/>
            <p:cNvPicPr/>
            <p:nvPr/>
          </p:nvPicPr>
          <p:blipFill>
            <a:blip r:embed="rId1"/>
            <a:stretch/>
          </p:blipFill>
          <p:spPr>
            <a:xfrm>
              <a:off x="4424400" y="792360"/>
              <a:ext cx="4071960" cy="40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Rectangle 22"/>
            <p:cNvSpPr/>
            <p:nvPr/>
          </p:nvSpPr>
          <p:spPr>
            <a:xfrm>
              <a:off x="5090400" y="792000"/>
              <a:ext cx="2756880" cy="654840"/>
            </a:xfrm>
            <a:prstGeom prst="rect">
              <a:avLst/>
            </a:prstGeom>
            <a:solidFill>
              <a:srgbClr val="e4e4f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gand Stimulation</a:t>
              </a: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7240" y="190440"/>
            <a:ext cx="7770960" cy="3621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tructure of the Mod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12600" y="6635880"/>
            <a:ext cx="63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F8ABEE78-1522-4908-BAC1-1D37BA9E7E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1" name="Text Box 14"/>
          <p:cNvSpPr/>
          <p:nvPr/>
        </p:nvSpPr>
        <p:spPr>
          <a:xfrm>
            <a:off x="3158280" y="4944960"/>
            <a:ext cx="6629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2360" indent="-1152360">
              <a:tabLst>
                <a:tab algn="l" pos="0"/>
                <a:tab algn="l" pos="4546440"/>
                <a:tab algn="l" pos="9093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cytokine: Y =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22" name="Group 24"/>
          <p:cNvGrpSpPr/>
          <p:nvPr/>
        </p:nvGrpSpPr>
        <p:grpSpPr>
          <a:xfrm>
            <a:off x="3277080" y="2343240"/>
            <a:ext cx="4228920" cy="2509920"/>
            <a:chOff x="3277080" y="2343240"/>
            <a:chExt cx="4228920" cy="2509920"/>
          </a:xfrm>
        </p:grpSpPr>
        <p:sp>
          <p:nvSpPr>
            <p:cNvPr id="523" name="Oval 7"/>
            <p:cNvSpPr/>
            <p:nvPr/>
          </p:nvSpPr>
          <p:spPr>
            <a:xfrm>
              <a:off x="4424400" y="2343240"/>
              <a:ext cx="1795320" cy="981000"/>
            </a:xfrm>
            <a:prstGeom prst="ellipse">
              <a:avLst/>
            </a:prstGeom>
            <a:noFill/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24" name="Line 9"/>
            <p:cNvSpPr/>
            <p:nvPr/>
          </p:nvSpPr>
          <p:spPr>
            <a:xfrm>
              <a:off x="5327640" y="3348000"/>
              <a:ext cx="498240" cy="8571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25" name="Rectangle 11"/>
            <p:cNvSpPr/>
            <p:nvPr/>
          </p:nvSpPr>
          <p:spPr>
            <a:xfrm>
              <a:off x="5154480" y="4205160"/>
              <a:ext cx="1800360" cy="648000"/>
            </a:xfrm>
            <a:prstGeom prst="rect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26" name="Text Box 15"/>
            <p:cNvSpPr/>
            <p:nvPr/>
          </p:nvSpPr>
          <p:spPr>
            <a:xfrm>
              <a:off x="3277080" y="3219480"/>
              <a:ext cx="272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152360" indent="-1152360">
                <a:tabLst>
                  <a:tab algn="l" pos="0"/>
                  <a:tab algn="l" pos="4546440"/>
                  <a:tab algn="l" pos="909324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27" name="Text Box 16"/>
            <p:cNvSpPr/>
            <p:nvPr/>
          </p:nvSpPr>
          <p:spPr>
            <a:xfrm>
              <a:off x="3921120" y="3505320"/>
              <a:ext cx="285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152360" indent="-1152360">
                <a:tabLst>
                  <a:tab algn="l" pos="0"/>
                  <a:tab algn="l" pos="4546440"/>
                  <a:tab algn="l" pos="9093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28" name="Text Box 19"/>
            <p:cNvSpPr/>
            <p:nvPr/>
          </p:nvSpPr>
          <p:spPr>
            <a:xfrm>
              <a:off x="4669920" y="3657600"/>
              <a:ext cx="2836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152360" indent="-1152360">
                <a:tabLst>
                  <a:tab algn="l" pos="0"/>
                  <a:tab algn="l" pos="4546440"/>
                  <a:tab algn="l" pos="909324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529" name="Group 26"/>
          <p:cNvGrpSpPr/>
          <p:nvPr/>
        </p:nvGrpSpPr>
        <p:grpSpPr>
          <a:xfrm>
            <a:off x="5381280" y="1104840"/>
            <a:ext cx="4680360" cy="3748320"/>
            <a:chOff x="5381280" y="1104840"/>
            <a:chExt cx="4680360" cy="3748320"/>
          </a:xfrm>
        </p:grpSpPr>
        <p:sp>
          <p:nvSpPr>
            <p:cNvPr id="530" name="Oval 8"/>
            <p:cNvSpPr/>
            <p:nvPr/>
          </p:nvSpPr>
          <p:spPr>
            <a:xfrm>
              <a:off x="6710400" y="2343240"/>
              <a:ext cx="1795320" cy="981000"/>
            </a:xfrm>
            <a:prstGeom prst="ellipse">
              <a:avLst/>
            </a:prstGeom>
            <a:noFill/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31" name="Line 10"/>
            <p:cNvSpPr/>
            <p:nvPr/>
          </p:nvSpPr>
          <p:spPr>
            <a:xfrm flipH="1">
              <a:off x="7122600" y="3328920"/>
              <a:ext cx="460440" cy="87624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32" name="Rectangle 12"/>
            <p:cNvSpPr/>
            <p:nvPr/>
          </p:nvSpPr>
          <p:spPr>
            <a:xfrm>
              <a:off x="6987960" y="4205160"/>
              <a:ext cx="758880" cy="648000"/>
            </a:xfrm>
            <a:prstGeom prst="rect">
              <a:avLst/>
            </a:prstGeom>
            <a:blipFill rotWithShape="0">
              <a:blip r:embed="rId2">
                <a:alphaModFix amt="34000"/>
              </a:blip>
              <a:srcRect/>
              <a:tile tx="0" ty="0" sx="100000" sy="100000" algn="ctr"/>
            </a:blip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33" name="Text Box 13"/>
            <p:cNvSpPr/>
            <p:nvPr/>
          </p:nvSpPr>
          <p:spPr>
            <a:xfrm>
              <a:off x="6656760" y="1104840"/>
              <a:ext cx="268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152360" indent="-1152360">
                <a:tabLst>
                  <a:tab algn="l" pos="0"/>
                  <a:tab algn="l" pos="4546440"/>
                  <a:tab algn="l" pos="909324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34" name="Text Box 17"/>
            <p:cNvSpPr/>
            <p:nvPr/>
          </p:nvSpPr>
          <p:spPr>
            <a:xfrm>
              <a:off x="7205760" y="3276720"/>
              <a:ext cx="285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152360" indent="-1152360">
                <a:tabLst>
                  <a:tab algn="l" pos="0"/>
                  <a:tab algn="l" pos="4546440"/>
                  <a:tab algn="l" pos="9093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35" name="Freeform 18"/>
            <p:cNvSpPr/>
            <p:nvPr/>
          </p:nvSpPr>
          <p:spPr>
            <a:xfrm>
              <a:off x="7535880" y="1573200"/>
              <a:ext cx="1145880" cy="24955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2495520"/>
                <a:gd name="textAreaBottom" fmla="*/ 2495880 h 2495520"/>
              </a:gdLst>
              <a:ahLst/>
              <a:rect l="textAreaLeft" t="textAreaTop" r="textAreaRight" b="textAreaBottom"/>
              <a:pathLst>
                <a:path w="524" h="1572">
                  <a:moveTo>
                    <a:pt x="0" y="0"/>
                  </a:moveTo>
                  <a:cubicBezTo>
                    <a:pt x="86" y="130"/>
                    <a:pt x="508" y="518"/>
                    <a:pt x="516" y="780"/>
                  </a:cubicBezTo>
                  <a:cubicBezTo>
                    <a:pt x="524" y="1042"/>
                    <a:pt x="146" y="1407"/>
                    <a:pt x="49" y="1572"/>
                  </a:cubicBezTo>
                </a:path>
              </a:pathLst>
            </a:custGeom>
            <a:noFill/>
            <a:ln w="57240">
              <a:solidFill>
                <a:srgbClr val="ff66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36" name="Text Box 20"/>
            <p:cNvSpPr/>
            <p:nvPr/>
          </p:nvSpPr>
          <p:spPr>
            <a:xfrm>
              <a:off x="5381280" y="3638520"/>
              <a:ext cx="2836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152360" indent="-1152360">
                <a:tabLst>
                  <a:tab algn="l" pos="0"/>
                  <a:tab algn="l" pos="4546440"/>
                  <a:tab algn="l" pos="909324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537" name="Rectangle 21"/>
          <p:cNvSpPr/>
          <p:nvPr/>
        </p:nvSpPr>
        <p:spPr>
          <a:xfrm>
            <a:off x="239760" y="728640"/>
            <a:ext cx="40734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7080" bIns="37080" anchor="t">
            <a:noAutofit/>
          </a:bodyPr>
          <a:p>
            <a:pPr marL="289080" indent="-289080">
              <a:lnSpc>
                <a:spcPct val="12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Two-part model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Part-I: Capture most of the output as:             Y</a:t>
            </a:r>
            <a:r>
              <a:rPr b="0" lang="en-US" sz="27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 =  X*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en-US" sz="27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2" marL="800280" indent="-343080">
              <a:lnSpc>
                <a:spcPct val="12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hreshold on the ratio,     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8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= b</a:t>
            </a:r>
            <a:r>
              <a:rPr b="0" lang="en-US" sz="2400" spc="-1" strike="noStrike" baseline="-25000">
                <a:solidFill>
                  <a:srgbClr val="8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/ </a:t>
            </a:r>
            <a:r>
              <a:rPr b="0" lang="en-US" sz="2400" spc="-1" strike="noStrike">
                <a:solidFill>
                  <a:srgbClr val="8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800000"/>
                </a:solidFill>
                <a:latin typeface="Arial"/>
              </a:rPr>
              <a:t>j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8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= 1.96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Part-II: Residual           Y – Y</a:t>
            </a:r>
            <a:r>
              <a:rPr b="0" lang="en-US" sz="27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 = Y</a:t>
            </a:r>
            <a:r>
              <a:rPr b="0" lang="en-US" sz="27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 = L*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en-US" sz="27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2" marL="800280" indent="-343080">
              <a:lnSpc>
                <a:spcPct val="12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800000"/>
                </a:solidFill>
                <a:latin typeface="Arial"/>
              </a:rPr>
              <a:t>th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8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2*1.96 = 2.77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set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94920" y="190440"/>
            <a:ext cx="8062920" cy="3621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Results: Insights into Pathway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39" name="Picture 4" descr="Fig4_Toll"/>
          <p:cNvPicPr/>
          <p:nvPr/>
        </p:nvPicPr>
        <p:blipFill>
          <a:blip r:embed="rId1"/>
          <a:stretch/>
        </p:blipFill>
        <p:spPr>
          <a:xfrm>
            <a:off x="492120" y="884160"/>
            <a:ext cx="8215200" cy="2281320"/>
          </a:xfrm>
          <a:prstGeom prst="rect">
            <a:avLst/>
          </a:prstGeom>
          <a:ln w="0">
            <a:noFill/>
          </a:ln>
        </p:spPr>
      </p:pic>
      <p:sp>
        <p:nvSpPr>
          <p:cNvPr id="540" name="Slide Number Placeholder 4"/>
          <p:cNvSpPr/>
          <p:nvPr/>
        </p:nvSpPr>
        <p:spPr>
          <a:xfrm>
            <a:off x="0" y="6635880"/>
            <a:ext cx="63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6F11E093-7FDB-4FDD-ABEE-16ACFFBAB8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41" name="Group 2"/>
          <p:cNvGrpSpPr/>
          <p:nvPr/>
        </p:nvGrpSpPr>
        <p:grpSpPr>
          <a:xfrm>
            <a:off x="3384720" y="1604880"/>
            <a:ext cx="2106360" cy="744480"/>
            <a:chOff x="3384720" y="1604880"/>
            <a:chExt cx="2106360" cy="744480"/>
          </a:xfrm>
        </p:grpSpPr>
        <p:sp>
          <p:nvSpPr>
            <p:cNvPr id="542" name="Oval 5"/>
            <p:cNvSpPr/>
            <p:nvPr/>
          </p:nvSpPr>
          <p:spPr>
            <a:xfrm>
              <a:off x="3384720" y="1711080"/>
              <a:ext cx="828360" cy="6382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43" name="Oval 6"/>
            <p:cNvSpPr/>
            <p:nvPr/>
          </p:nvSpPr>
          <p:spPr>
            <a:xfrm>
              <a:off x="4367160" y="1604880"/>
              <a:ext cx="447480" cy="6382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44" name="Oval 7"/>
            <p:cNvSpPr/>
            <p:nvPr/>
          </p:nvSpPr>
          <p:spPr>
            <a:xfrm>
              <a:off x="5043600" y="1682640"/>
              <a:ext cx="447480" cy="59076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545" name="Rectangle 3"/>
          <p:cNvSpPr/>
          <p:nvPr/>
        </p:nvSpPr>
        <p:spPr>
          <a:xfrm>
            <a:off x="68400" y="3586320"/>
            <a:ext cx="8980200" cy="28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7080" bIns="37080" anchor="t">
            <a:noAutofit/>
          </a:bodyPr>
          <a:p>
            <a:pPr marL="289080" indent="-28908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JNK, p38, NF-kB strongest coefficient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620640" indent="-237960">
              <a:lnSpc>
                <a:spcPct val="130000"/>
              </a:lnSpc>
              <a:spcBef>
                <a:spcPts val="524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100" spc="-1" strike="noStrike">
                <a:solidFill>
                  <a:srgbClr val="800000"/>
                </a:solidFill>
                <a:latin typeface="Arial"/>
              </a:rPr>
              <a:t>Exert substantial control on transcription</a:t>
            </a: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lvl="1" marL="620640" indent="-237960">
              <a:lnSpc>
                <a:spcPct val="130000"/>
              </a:lnSpc>
              <a:spcBef>
                <a:spcPts val="524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100" spc="-1" strike="noStrike">
                <a:solidFill>
                  <a:srgbClr val="800000"/>
                </a:solidFill>
                <a:latin typeface="Arial"/>
              </a:rPr>
              <a:t>A candidate for drug targets for inflammatory diseases</a:t>
            </a:r>
            <a:endParaRPr b="0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RK1/2 and RSK (ribosomal S6 kinase) similar profi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AMP is anti-correlated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46" name="Group 3"/>
          <p:cNvGrpSpPr/>
          <p:nvPr/>
        </p:nvGrpSpPr>
        <p:grpSpPr>
          <a:xfrm>
            <a:off x="1623960" y="1042920"/>
            <a:ext cx="4940280" cy="1617840"/>
            <a:chOff x="1623960" y="1042920"/>
            <a:chExt cx="4940280" cy="1617840"/>
          </a:xfrm>
        </p:grpSpPr>
        <p:sp>
          <p:nvSpPr>
            <p:cNvPr id="547" name="Rectangle 1"/>
            <p:cNvSpPr/>
            <p:nvPr/>
          </p:nvSpPr>
          <p:spPr>
            <a:xfrm>
              <a:off x="1623960" y="1119240"/>
              <a:ext cx="764280" cy="154152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48" name="Rectangle 10"/>
            <p:cNvSpPr/>
            <p:nvPr/>
          </p:nvSpPr>
          <p:spPr>
            <a:xfrm>
              <a:off x="6223320" y="1042920"/>
              <a:ext cx="340920" cy="154152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51000" y="190440"/>
            <a:ext cx="8493120" cy="3621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ignificant Unmeasured Pathway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26840" y="3984480"/>
            <a:ext cx="7242120" cy="20210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marL="289080" indent="-289080">
              <a:lnSpc>
                <a:spcPct val="13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Just few ligands significant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IL-4 and IFN-g for IL-1a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LPS for IL-6 and RANTES: possible role of non-canonical (other than NF-kB) pathways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289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51" name="Picture 4" descr="BarPlots_Lig"/>
          <p:cNvPicPr/>
          <p:nvPr/>
        </p:nvPicPr>
        <p:blipFill>
          <a:blip r:embed="rId1"/>
          <a:stretch/>
        </p:blipFill>
        <p:spPr>
          <a:xfrm>
            <a:off x="727200" y="1222200"/>
            <a:ext cx="7573680" cy="2241720"/>
          </a:xfrm>
          <a:prstGeom prst="rect">
            <a:avLst/>
          </a:prstGeom>
          <a:ln w="0">
            <a:noFill/>
          </a:ln>
        </p:spPr>
      </p:pic>
      <p:sp>
        <p:nvSpPr>
          <p:cNvPr id="552" name="Oval 5"/>
          <p:cNvSpPr/>
          <p:nvPr/>
        </p:nvSpPr>
        <p:spPr>
          <a:xfrm>
            <a:off x="2413080" y="2355840"/>
            <a:ext cx="304560" cy="3906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5380200" y="2082960"/>
            <a:ext cx="333360" cy="7045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4" name="Oval 7"/>
          <p:cNvSpPr/>
          <p:nvPr/>
        </p:nvSpPr>
        <p:spPr>
          <a:xfrm>
            <a:off x="4286160" y="2224080"/>
            <a:ext cx="333360" cy="6094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0" y="6607080"/>
            <a:ext cx="63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8847ED2-9AFB-4178-A173-1061ECBF5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7240" y="190440"/>
            <a:ext cx="7770960" cy="3621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6720" y="726840"/>
            <a:ext cx="8831160" cy="58928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marL="289080" indent="-289080">
              <a:lnSpc>
                <a:spcPct val="12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Basics of data-driven network reconstruction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1" marL="620640" indent="-237960">
              <a:lnSpc>
                <a:spcPct val="12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Least-squares approach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Principal component regression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1" marL="620640" indent="-237960">
              <a:lnSpc>
                <a:spcPct val="12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asics and statistical significance testing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Application to phosphoprotein/cytokine modules in macrophages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1" marL="620640" indent="-237960">
              <a:lnSpc>
                <a:spcPct val="12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A two-part mod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620640" indent="-237960">
              <a:lnSpc>
                <a:spcPct val="12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Results: reduction in false-positive rate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620640" indent="-237960">
              <a:lnSpc>
                <a:spcPct val="12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0" y="6635880"/>
            <a:ext cx="639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0671C559-4F33-45DB-A783-A01507257B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3"/>
          <p:cNvSpPr/>
          <p:nvPr/>
        </p:nvSpPr>
        <p:spPr>
          <a:xfrm>
            <a:off x="0" y="6635880"/>
            <a:ext cx="63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1555EBF6-811B-4013-8DCD-8C482E1837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7240" y="190440"/>
            <a:ext cx="7770960" cy="3621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Minimal PCR Mod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37600" y="812880"/>
            <a:ext cx="8726760" cy="168408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Due to correlations in the inputs (X), high false positive rate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Identify a minimal subset of the signaling pathways 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3"/>
          <p:cNvSpPr/>
          <p:nvPr/>
        </p:nvSpPr>
        <p:spPr>
          <a:xfrm>
            <a:off x="0" y="6635880"/>
            <a:ext cx="63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17CD8DAD-4103-474C-9211-1F39F32B83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7240" y="190440"/>
            <a:ext cx="7770960" cy="3621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cedure for Minimal PCR Model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1" name="AutoShape 5"/>
          <p:cNvSpPr/>
          <p:nvPr/>
        </p:nvSpPr>
        <p:spPr>
          <a:xfrm>
            <a:off x="5416560" y="1581120"/>
            <a:ext cx="3656160" cy="825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ull (detailed) model with all significant predictors (e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2" name="AutoShape 6"/>
          <p:cNvSpPr/>
          <p:nvPr/>
        </p:nvSpPr>
        <p:spPr>
          <a:xfrm>
            <a:off x="5537160" y="5806800"/>
            <a:ext cx="3517920" cy="488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Zero-predictor model  (e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3" name="Rectangle 1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64" name="Group 54"/>
          <p:cNvGrpSpPr/>
          <p:nvPr/>
        </p:nvGrpSpPr>
        <p:grpSpPr>
          <a:xfrm>
            <a:off x="4183200" y="1682640"/>
            <a:ext cx="646560" cy="4391280"/>
            <a:chOff x="4183200" y="1682640"/>
            <a:chExt cx="646560" cy="4391280"/>
          </a:xfrm>
        </p:grpSpPr>
        <p:sp>
          <p:nvSpPr>
            <p:cNvPr id="565" name="AutoShape 8"/>
            <p:cNvSpPr/>
            <p:nvPr/>
          </p:nvSpPr>
          <p:spPr>
            <a:xfrm>
              <a:off x="4183200" y="1955880"/>
              <a:ext cx="234720" cy="3554280"/>
            </a:xfrm>
            <a:prstGeom prst="downArrow">
              <a:avLst>
                <a:gd name="adj1" fmla="val 50000"/>
                <a:gd name="adj2" fmla="val 378566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6" name="Text Box 10"/>
            <p:cNvSpPr/>
            <p:nvPr/>
          </p:nvSpPr>
          <p:spPr>
            <a:xfrm rot="16200000">
              <a:off x="2434680" y="3678840"/>
              <a:ext cx="439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Decreasing number of predictors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567" name="Group 34"/>
          <p:cNvGrpSpPr/>
          <p:nvPr/>
        </p:nvGrpSpPr>
        <p:grpSpPr>
          <a:xfrm>
            <a:off x="5245200" y="2468520"/>
            <a:ext cx="3811320" cy="1497960"/>
            <a:chOff x="5245200" y="2468520"/>
            <a:chExt cx="3811320" cy="1497960"/>
          </a:xfrm>
        </p:grpSpPr>
        <p:sp>
          <p:nvSpPr>
            <p:cNvPr id="568" name="Text Box 19"/>
            <p:cNvSpPr/>
            <p:nvPr/>
          </p:nvSpPr>
          <p:spPr>
            <a:xfrm>
              <a:off x="5245200" y="2468520"/>
              <a:ext cx="362268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cc"/>
                  </a:solidFill>
                  <a:latin typeface="Arial"/>
                </a:rPr>
                <a:t>Keep eliminating the least significant predictor: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cc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ff33cc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ff33cc"/>
                  </a:solidFill>
                  <a:latin typeface="Arial"/>
                </a:rPr>
                <a:t> increases, R</a:t>
              </a:r>
              <a:r>
                <a:rPr b="1" lang="en-US" sz="2000" spc="-1" strike="noStrike" baseline="-25000">
                  <a:solidFill>
                    <a:srgbClr val="ff33cc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33cc"/>
                  </a:solidFill>
                  <a:latin typeface="Arial"/>
                </a:rPr>
                <a:t> decreases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9" name="AutoShape 31"/>
            <p:cNvSpPr/>
            <p:nvPr/>
          </p:nvSpPr>
          <p:spPr>
            <a:xfrm>
              <a:off x="5448240" y="3525120"/>
              <a:ext cx="3608280" cy="441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Initial minimal model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570" name="Group 45"/>
          <p:cNvGrpSpPr/>
          <p:nvPr/>
        </p:nvGrpSpPr>
        <p:grpSpPr>
          <a:xfrm>
            <a:off x="173160" y="3967200"/>
            <a:ext cx="8899560" cy="2305440"/>
            <a:chOff x="173160" y="3967200"/>
            <a:chExt cx="8899560" cy="2305440"/>
          </a:xfrm>
        </p:grpSpPr>
        <p:grpSp>
          <p:nvGrpSpPr>
            <p:cNvPr id="571" name="Group 43"/>
            <p:cNvGrpSpPr/>
            <p:nvPr/>
          </p:nvGrpSpPr>
          <p:grpSpPr>
            <a:xfrm>
              <a:off x="173160" y="3967200"/>
              <a:ext cx="8899560" cy="2305440"/>
              <a:chOff x="173160" y="3967200"/>
              <a:chExt cx="8899560" cy="2305440"/>
            </a:xfrm>
          </p:grpSpPr>
          <p:sp>
            <p:nvSpPr>
              <p:cNvPr id="572" name="Line 20"/>
              <p:cNvSpPr/>
              <p:nvPr/>
            </p:nvSpPr>
            <p:spPr>
              <a:xfrm>
                <a:off x="5445000" y="4913280"/>
                <a:ext cx="36277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grpSp>
            <p:nvGrpSpPr>
              <p:cNvPr id="573" name="Group 42"/>
              <p:cNvGrpSpPr/>
              <p:nvPr/>
            </p:nvGrpSpPr>
            <p:grpSpPr>
              <a:xfrm>
                <a:off x="173160" y="3967200"/>
                <a:ext cx="8891640" cy="2305440"/>
                <a:chOff x="173160" y="3967200"/>
                <a:chExt cx="8891640" cy="2305440"/>
              </a:xfrm>
            </p:grpSpPr>
            <p:sp>
              <p:nvSpPr>
                <p:cNvPr id="574" name="AutoShape 24"/>
                <p:cNvSpPr/>
                <p:nvPr/>
              </p:nvSpPr>
              <p:spPr>
                <a:xfrm>
                  <a:off x="5456160" y="4355280"/>
                  <a:ext cx="3608640" cy="441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Arial"/>
                    </a:rPr>
                    <a:t>Final minimal model</a:t>
                  </a:r>
                  <a:endParaRPr b="0" lang="en-US" sz="20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grpSp>
              <p:nvGrpSpPr>
                <p:cNvPr id="575" name="Group 41"/>
                <p:cNvGrpSpPr/>
                <p:nvPr/>
              </p:nvGrpSpPr>
              <p:grpSpPr>
                <a:xfrm>
                  <a:off x="173160" y="3967200"/>
                  <a:ext cx="7053120" cy="2305440"/>
                  <a:chOff x="173160" y="3967200"/>
                  <a:chExt cx="7053120" cy="2305440"/>
                </a:xfrm>
              </p:grpSpPr>
              <p:sp>
                <p:nvSpPr>
                  <p:cNvPr id="576" name="Freeform 37"/>
                  <p:cNvSpPr/>
                  <p:nvPr/>
                </p:nvSpPr>
                <p:spPr>
                  <a:xfrm>
                    <a:off x="4970520" y="3967200"/>
                    <a:ext cx="2255760" cy="353880"/>
                  </a:xfrm>
                  <a:custGeom>
                    <a:avLst/>
                    <a:gdLst>
                      <a:gd name="textAreaLeft" fmla="*/ 0 w 2255760"/>
                      <a:gd name="textAreaRight" fmla="*/ 2256120 w 2255760"/>
                      <a:gd name="textAreaTop" fmla="*/ 0 h 353880"/>
                      <a:gd name="textAreaBottom" fmla="*/ 354240 h 353880"/>
                    </a:gdLst>
                    <a:ahLst/>
                    <a:rect l="textAreaLeft" t="textAreaTop" r="textAreaRight" b="textAreaBottom"/>
                    <a:pathLst>
                      <a:path w="1421" h="223">
                        <a:moveTo>
                          <a:pt x="1421" y="0"/>
                        </a:moveTo>
                        <a:cubicBezTo>
                          <a:pt x="1183" y="15"/>
                          <a:pt x="0" y="56"/>
                          <a:pt x="0" y="93"/>
                        </a:cubicBezTo>
                        <a:cubicBezTo>
                          <a:pt x="0" y="130"/>
                          <a:pt x="1125" y="196"/>
                          <a:pt x="1421" y="223"/>
                        </a:cubicBezTo>
                      </a:path>
                    </a:pathLst>
                  </a:custGeom>
                  <a:noFill/>
                  <a:ln w="38160">
                    <a:solidFill>
                      <a:srgbClr val="ff33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0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Text Box 38"/>
                  <p:cNvSpPr/>
                  <p:nvPr/>
                </p:nvSpPr>
                <p:spPr>
                  <a:xfrm>
                    <a:off x="173160" y="5568840"/>
                    <a:ext cx="5502240" cy="70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ff"/>
                        </a:solidFill>
                        <a:latin typeface="Arial"/>
                      </a:rPr>
                      <a:t>If more than one predictor left, use combinatorial selection for exhaustive testing</a:t>
                    </a:r>
                    <a:endParaRPr b="0" lang="en-US" sz="20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78" name="AutoShape 44"/>
            <p:cNvSpPr/>
            <p:nvPr/>
          </p:nvSpPr>
          <p:spPr>
            <a:xfrm rot="17378400">
              <a:off x="4409280" y="4779000"/>
              <a:ext cx="1387440" cy="220680"/>
            </a:xfrm>
            <a:prstGeom prst="rightArrow">
              <a:avLst>
                <a:gd name="adj1" fmla="val 50000"/>
                <a:gd name="adj2" fmla="val 157178"/>
              </a:avLst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579" name="Group 48"/>
          <p:cNvGrpSpPr/>
          <p:nvPr/>
        </p:nvGrpSpPr>
        <p:grpSpPr>
          <a:xfrm>
            <a:off x="142920" y="1638360"/>
            <a:ext cx="4129200" cy="3554280"/>
            <a:chOff x="142920" y="1638360"/>
            <a:chExt cx="4129200" cy="3554280"/>
          </a:xfrm>
        </p:grpSpPr>
        <p:sp>
          <p:nvSpPr>
            <p:cNvPr id="580" name="Text Box 49"/>
            <p:cNvSpPr/>
            <p:nvPr/>
          </p:nvSpPr>
          <p:spPr>
            <a:xfrm>
              <a:off x="159480" y="1638360"/>
              <a:ext cx="118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F-test:</a:t>
              </a: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1" name="Text Box 50"/>
            <p:cNvSpPr/>
            <p:nvPr/>
          </p:nvSpPr>
          <p:spPr>
            <a:xfrm>
              <a:off x="142920" y="2195640"/>
              <a:ext cx="384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As good as the full-model:</a:t>
              </a: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2" name="Object 51"/>
                <p:cNvSpPr txBox="1"/>
                <p:nvPr/>
              </p:nvSpPr>
              <p:spPr>
                <a:xfrm>
                  <a:off x="282600" y="2755800"/>
                  <a:ext cx="3759480" cy="96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&lt;</m:t>
                          </m:r>
                          <m:r>
                            <m:rPr>
                              <m:lit/>
                              <m:nor/>
                            </m:rPr>
                            <m:t xml:space="preserve">finv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α</m:t>
                          </m:r>
                          <m:r>
                            <m:t xml:space="preserve">,</m:t>
                          </m:r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5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95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83" name="Text Box 52"/>
            <p:cNvSpPr/>
            <p:nvPr/>
          </p:nvSpPr>
          <p:spPr>
            <a:xfrm>
              <a:off x="221040" y="3881520"/>
              <a:ext cx="40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Better than the trivial model:</a:t>
              </a: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4" name="Object 53"/>
                <p:cNvSpPr txBox="1"/>
                <p:nvPr/>
              </p:nvSpPr>
              <p:spPr>
                <a:xfrm>
                  <a:off x="171720" y="4686480"/>
                  <a:ext cx="365436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sSubSup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Sup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  <m:r>
                        <m:t xml:space="preserve">&gt;</m:t>
                      </m:r>
                      <m:r>
                        <m:rPr>
                          <m:lit/>
                          <m:nor/>
                        </m:rPr>
                        <m:t xml:space="preserve">finv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3"/>
          <p:cNvSpPr/>
          <p:nvPr/>
        </p:nvSpPr>
        <p:spPr>
          <a:xfrm>
            <a:off x="0" y="6607080"/>
            <a:ext cx="63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B353C64-131C-4F73-ACE4-639AAE943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640" y="190440"/>
            <a:ext cx="8994600" cy="3621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mbined Minimal Model Reveals Module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87" name="Group 6"/>
          <p:cNvGrpSpPr/>
          <p:nvPr/>
        </p:nvGrpSpPr>
        <p:grpSpPr>
          <a:xfrm>
            <a:off x="550800" y="961920"/>
            <a:ext cx="7105320" cy="2572920"/>
            <a:chOff x="550800" y="961920"/>
            <a:chExt cx="7105320" cy="2572920"/>
          </a:xfrm>
        </p:grpSpPr>
        <p:pic>
          <p:nvPicPr>
            <p:cNvPr id="588" name="Picture 7" descr="Network_module"/>
            <p:cNvPicPr/>
            <p:nvPr/>
          </p:nvPicPr>
          <p:blipFill>
            <a:blip r:embed="rId1"/>
            <a:stretch/>
          </p:blipFill>
          <p:spPr>
            <a:xfrm>
              <a:off x="550800" y="961920"/>
              <a:ext cx="7105320" cy="25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Oval 8"/>
            <p:cNvSpPr/>
            <p:nvPr/>
          </p:nvSpPr>
          <p:spPr>
            <a:xfrm>
              <a:off x="1494000" y="1463400"/>
              <a:ext cx="255240" cy="275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0" name="Oval 9"/>
            <p:cNvSpPr/>
            <p:nvPr/>
          </p:nvSpPr>
          <p:spPr>
            <a:xfrm>
              <a:off x="2220840" y="1463400"/>
              <a:ext cx="255240" cy="275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1" name="Oval 10"/>
            <p:cNvSpPr/>
            <p:nvPr/>
          </p:nvSpPr>
          <p:spPr>
            <a:xfrm>
              <a:off x="2947680" y="1434600"/>
              <a:ext cx="255600" cy="275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2" name="Oval 11"/>
            <p:cNvSpPr/>
            <p:nvPr/>
          </p:nvSpPr>
          <p:spPr>
            <a:xfrm>
              <a:off x="3688200" y="1448640"/>
              <a:ext cx="255240" cy="275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593" name="Text Box 12"/>
          <p:cNvSpPr/>
          <p:nvPr/>
        </p:nvSpPr>
        <p:spPr>
          <a:xfrm>
            <a:off x="1463760" y="4776840"/>
            <a:ext cx="638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easured Pathways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: p38, cAMP, NF-kB, JNK, STAT1 (4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igands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: others (6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496800" y="4233960"/>
            <a:ext cx="82137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7080" bIns="37080" anchor="t">
            <a:noAutofit/>
          </a:bodyPr>
          <a:p>
            <a:pPr lvl="1" marL="620640" indent="-237960">
              <a:lnSpc>
                <a:spcPct val="11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10 regulatory modu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5" name="Text Box 14"/>
          <p:cNvSpPr/>
          <p:nvPr/>
        </p:nvSpPr>
        <p:spPr>
          <a:xfrm>
            <a:off x="1589760" y="3672000"/>
            <a:ext cx="41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 combined global network map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6" name="Text Box 13"/>
          <p:cNvSpPr/>
          <p:nvPr/>
        </p:nvSpPr>
        <p:spPr>
          <a:xfrm>
            <a:off x="1592280" y="5967360"/>
            <a:ext cx="61038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dervand, Maurya et al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enome Bio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2006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3"/>
          <p:cNvSpPr/>
          <p:nvPr/>
        </p:nvSpPr>
        <p:spPr>
          <a:xfrm>
            <a:off x="0" y="6635880"/>
            <a:ext cx="63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30054245-CA4B-45D9-BEEF-3FF5D88C8D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73040" y="190440"/>
            <a:ext cx="8167680" cy="3621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Results: Novel Hypothesi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599" name="Object 4"/>
          <p:cNvGraphicFramePr/>
          <p:nvPr/>
        </p:nvGraphicFramePr>
        <p:xfrm>
          <a:off x="38160" y="860400"/>
          <a:ext cx="5164200" cy="38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60" y="860400"/>
                    <a:ext cx="5164200" cy="38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1" name="Group 4"/>
          <p:cNvGrpSpPr/>
          <p:nvPr/>
        </p:nvGrpSpPr>
        <p:grpSpPr>
          <a:xfrm>
            <a:off x="5369040" y="1251000"/>
            <a:ext cx="3799080" cy="2943720"/>
            <a:chOff x="5369040" y="1251000"/>
            <a:chExt cx="3799080" cy="2943720"/>
          </a:xfrm>
        </p:grpSpPr>
        <p:sp>
          <p:nvSpPr>
            <p:cNvPr id="602" name="Rectangle 5"/>
            <p:cNvSpPr/>
            <p:nvPr/>
          </p:nvSpPr>
          <p:spPr>
            <a:xfrm>
              <a:off x="5369040" y="2781000"/>
              <a:ext cx="637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6600"/>
                  </a:solidFill>
                  <a:latin typeface="Arial"/>
                </a:rPr>
                <a:t>p38</a:t>
              </a:r>
              <a:endParaRPr b="0" lang="en-US" sz="29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3" name="Rectangle 6"/>
            <p:cNvSpPr/>
            <p:nvPr/>
          </p:nvSpPr>
          <p:spPr>
            <a:xfrm>
              <a:off x="6762960" y="1251000"/>
              <a:ext cx="1056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LPS, P2C</a:t>
              </a:r>
              <a:endParaRPr b="0" lang="en-US" sz="19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4" name="Rectangle 7"/>
            <p:cNvSpPr/>
            <p:nvPr/>
          </p:nvSpPr>
          <p:spPr>
            <a:xfrm>
              <a:off x="6757920" y="1501560"/>
              <a:ext cx="125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3C, R-848</a:t>
              </a:r>
              <a:endParaRPr b="0" lang="en-US" sz="19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5" name="Line 8"/>
            <p:cNvSpPr/>
            <p:nvPr/>
          </p:nvSpPr>
          <p:spPr>
            <a:xfrm>
              <a:off x="6258600" y="3033360"/>
              <a:ext cx="816120" cy="482400"/>
            </a:xfrm>
            <a:prstGeom prst="line">
              <a:avLst/>
            </a:prstGeom>
            <a:ln cap="rnd" w="92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6" name="Freeform 9"/>
            <p:cNvSpPr/>
            <p:nvPr/>
          </p:nvSpPr>
          <p:spPr>
            <a:xfrm>
              <a:off x="6986880" y="3411360"/>
              <a:ext cx="212400" cy="1756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75680"/>
                <a:gd name="textAreaBottom" fmla="*/ 175680 h 175680"/>
              </a:gdLst>
              <a:ahLst/>
              <a:rect l="textAreaLeft" t="textAreaTop" r="textAreaRight" b="textAreaBottom"/>
              <a:pathLst>
                <a:path w="552" h="465">
                  <a:moveTo>
                    <a:pt x="552" y="465"/>
                  </a:moveTo>
                  <a:lnTo>
                    <a:pt x="0" y="425"/>
                  </a:lnTo>
                  <a:cubicBezTo>
                    <a:pt x="146" y="331"/>
                    <a:pt x="240" y="173"/>
                    <a:pt x="252" y="0"/>
                  </a:cubicBezTo>
                  <a:lnTo>
                    <a:pt x="552" y="465"/>
                  </a:lnTo>
                  <a:close/>
                </a:path>
              </a:pathLst>
            </a:custGeom>
            <a:solidFill>
              <a:srgbClr val="ff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7" name="Rectangle 10"/>
            <p:cNvSpPr/>
            <p:nvPr/>
          </p:nvSpPr>
          <p:spPr>
            <a:xfrm>
              <a:off x="6822360" y="3752640"/>
              <a:ext cx="2872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6600"/>
                  </a:solidFill>
                  <a:latin typeface="Arial"/>
                </a:rPr>
                <a:t>G</a:t>
              </a:r>
              <a:endParaRPr b="0" lang="en-US" sz="29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8" name="Rectangle 11"/>
            <p:cNvSpPr/>
            <p:nvPr/>
          </p:nvSpPr>
          <p:spPr>
            <a:xfrm>
              <a:off x="7055280" y="375264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6600"/>
                  </a:solidFill>
                  <a:latin typeface="Arial"/>
                </a:rPr>
                <a:t>-</a:t>
              </a:r>
              <a:endParaRPr b="0" lang="en-US" sz="29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9" name="Rectangle 12"/>
            <p:cNvSpPr/>
            <p:nvPr/>
          </p:nvSpPr>
          <p:spPr>
            <a:xfrm>
              <a:off x="7152840" y="3751200"/>
              <a:ext cx="7383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6600"/>
                  </a:solidFill>
                  <a:latin typeface="Arial"/>
                </a:rPr>
                <a:t>CSF</a:t>
              </a:r>
              <a:endParaRPr b="0" lang="en-US" sz="29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7174440" y="2171520"/>
              <a:ext cx="230400" cy="22968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604" h="604">
                  <a:moveTo>
                    <a:pt x="0" y="302"/>
                  </a:moveTo>
                  <a:cubicBezTo>
                    <a:pt x="0" y="135"/>
                    <a:pt x="135" y="0"/>
                    <a:pt x="302" y="0"/>
                  </a:cubicBezTo>
                  <a:cubicBezTo>
                    <a:pt x="469" y="0"/>
                    <a:pt x="604" y="135"/>
                    <a:pt x="604" y="302"/>
                  </a:cubicBezTo>
                  <a:cubicBezTo>
                    <a:pt x="604" y="302"/>
                    <a:pt x="604" y="302"/>
                    <a:pt x="604" y="302"/>
                  </a:cubicBezTo>
                  <a:cubicBezTo>
                    <a:pt x="604" y="469"/>
                    <a:pt x="469" y="604"/>
                    <a:pt x="302" y="604"/>
                  </a:cubicBezTo>
                  <a:cubicBezTo>
                    <a:pt x="135" y="604"/>
                    <a:pt x="0" y="469"/>
                    <a:pt x="0" y="302"/>
                  </a:cubicBez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1" name="Freeform 14"/>
            <p:cNvSpPr/>
            <p:nvPr/>
          </p:nvSpPr>
          <p:spPr>
            <a:xfrm>
              <a:off x="7174440" y="2171520"/>
              <a:ext cx="230400" cy="22968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81" h="181">
                  <a:moveTo>
                    <a:pt x="0" y="90"/>
                  </a:moveTo>
                  <a:cubicBezTo>
                    <a:pt x="0" y="40"/>
                    <a:pt x="41" y="0"/>
                    <a:pt x="91" y="0"/>
                  </a:cubicBezTo>
                  <a:cubicBezTo>
                    <a:pt x="141" y="0"/>
                    <a:pt x="181" y="40"/>
                    <a:pt x="181" y="90"/>
                  </a:cubicBezTo>
                  <a:cubicBezTo>
                    <a:pt x="181" y="90"/>
                    <a:pt x="181" y="90"/>
                    <a:pt x="181" y="90"/>
                  </a:cubicBezTo>
                  <a:cubicBezTo>
                    <a:pt x="181" y="140"/>
                    <a:pt x="141" y="181"/>
                    <a:pt x="91" y="181"/>
                  </a:cubicBezTo>
                  <a:cubicBezTo>
                    <a:pt x="41" y="181"/>
                    <a:pt x="0" y="140"/>
                    <a:pt x="0" y="90"/>
                  </a:cubicBezTo>
                </a:path>
              </a:pathLst>
            </a:custGeom>
            <a:noFill/>
            <a:ln cap="rnd"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2" name="Freeform 15"/>
            <p:cNvSpPr/>
            <p:nvPr/>
          </p:nvSpPr>
          <p:spPr>
            <a:xfrm>
              <a:off x="6047280" y="2860560"/>
              <a:ext cx="231840" cy="22968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605" h="605">
                  <a:moveTo>
                    <a:pt x="0" y="302"/>
                  </a:moveTo>
                  <a:cubicBezTo>
                    <a:pt x="0" y="135"/>
                    <a:pt x="136" y="0"/>
                    <a:pt x="303" y="0"/>
                  </a:cubicBezTo>
                  <a:cubicBezTo>
                    <a:pt x="470" y="0"/>
                    <a:pt x="605" y="135"/>
                    <a:pt x="605" y="302"/>
                  </a:cubicBezTo>
                  <a:cubicBezTo>
                    <a:pt x="605" y="302"/>
                    <a:pt x="605" y="302"/>
                    <a:pt x="605" y="302"/>
                  </a:cubicBezTo>
                  <a:cubicBezTo>
                    <a:pt x="605" y="469"/>
                    <a:pt x="470" y="605"/>
                    <a:pt x="303" y="605"/>
                  </a:cubicBezTo>
                  <a:cubicBezTo>
                    <a:pt x="136" y="605"/>
                    <a:pt x="0" y="469"/>
                    <a:pt x="0" y="302"/>
                  </a:cubicBezTo>
                </a:path>
              </a:pathLst>
            </a:custGeom>
            <a:solidFill>
              <a:srgbClr val="ff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3" name="Freeform 16"/>
            <p:cNvSpPr/>
            <p:nvPr/>
          </p:nvSpPr>
          <p:spPr>
            <a:xfrm>
              <a:off x="7167960" y="3551040"/>
              <a:ext cx="230400" cy="22968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605" h="605">
                  <a:moveTo>
                    <a:pt x="0" y="302"/>
                  </a:moveTo>
                  <a:cubicBezTo>
                    <a:pt x="0" y="135"/>
                    <a:pt x="136" y="0"/>
                    <a:pt x="303" y="0"/>
                  </a:cubicBezTo>
                  <a:cubicBezTo>
                    <a:pt x="470" y="0"/>
                    <a:pt x="605" y="135"/>
                    <a:pt x="605" y="302"/>
                  </a:cubicBezTo>
                  <a:cubicBezTo>
                    <a:pt x="605" y="302"/>
                    <a:pt x="605" y="302"/>
                    <a:pt x="605" y="302"/>
                  </a:cubicBezTo>
                  <a:cubicBezTo>
                    <a:pt x="605" y="469"/>
                    <a:pt x="470" y="605"/>
                    <a:pt x="303" y="605"/>
                  </a:cubicBezTo>
                  <a:cubicBezTo>
                    <a:pt x="136" y="605"/>
                    <a:pt x="0" y="469"/>
                    <a:pt x="0" y="302"/>
                  </a:cubicBezTo>
                </a:path>
              </a:pathLst>
            </a:custGeom>
            <a:solidFill>
              <a:srgbClr val="ff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4" name="Freeform 17"/>
            <p:cNvSpPr/>
            <p:nvPr/>
          </p:nvSpPr>
          <p:spPr>
            <a:xfrm>
              <a:off x="7167960" y="3551040"/>
              <a:ext cx="230400" cy="22968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81" h="181">
                  <a:moveTo>
                    <a:pt x="0" y="91"/>
                  </a:moveTo>
                  <a:cubicBezTo>
                    <a:pt x="0" y="41"/>
                    <a:pt x="41" y="0"/>
                    <a:pt x="91" y="0"/>
                  </a:cubicBezTo>
                  <a:cubicBezTo>
                    <a:pt x="141" y="0"/>
                    <a:pt x="181" y="41"/>
                    <a:pt x="181" y="91"/>
                  </a:cubicBezTo>
                  <a:cubicBezTo>
                    <a:pt x="181" y="91"/>
                    <a:pt x="181" y="91"/>
                    <a:pt x="181" y="91"/>
                  </a:cubicBezTo>
                  <a:cubicBezTo>
                    <a:pt x="181" y="141"/>
                    <a:pt x="141" y="181"/>
                    <a:pt x="91" y="181"/>
                  </a:cubicBezTo>
                  <a:cubicBezTo>
                    <a:pt x="41" y="181"/>
                    <a:pt x="0" y="141"/>
                    <a:pt x="0" y="91"/>
                  </a:cubicBezTo>
                </a:path>
              </a:pathLst>
            </a:custGeom>
            <a:noFill/>
            <a:ln cap="rnd"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5" name="Freeform 18"/>
            <p:cNvSpPr/>
            <p:nvPr/>
          </p:nvSpPr>
          <p:spPr>
            <a:xfrm>
              <a:off x="8277120" y="2171520"/>
              <a:ext cx="231840" cy="22968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605" h="604">
                  <a:moveTo>
                    <a:pt x="0" y="302"/>
                  </a:moveTo>
                  <a:cubicBezTo>
                    <a:pt x="0" y="135"/>
                    <a:pt x="135" y="0"/>
                    <a:pt x="302" y="0"/>
                  </a:cubicBezTo>
                  <a:cubicBezTo>
                    <a:pt x="469" y="0"/>
                    <a:pt x="605" y="135"/>
                    <a:pt x="605" y="302"/>
                  </a:cubicBezTo>
                  <a:cubicBezTo>
                    <a:pt x="605" y="302"/>
                    <a:pt x="605" y="302"/>
                    <a:pt x="605" y="302"/>
                  </a:cubicBezTo>
                  <a:cubicBezTo>
                    <a:pt x="605" y="469"/>
                    <a:pt x="469" y="604"/>
                    <a:pt x="302" y="604"/>
                  </a:cubicBezTo>
                  <a:cubicBezTo>
                    <a:pt x="135" y="604"/>
                    <a:pt x="0" y="469"/>
                    <a:pt x="0" y="302"/>
                  </a:cubicBez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6" name="Freeform 19"/>
            <p:cNvSpPr/>
            <p:nvPr/>
          </p:nvSpPr>
          <p:spPr>
            <a:xfrm>
              <a:off x="6037920" y="2171520"/>
              <a:ext cx="231840" cy="22968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605" h="604">
                  <a:moveTo>
                    <a:pt x="0" y="302"/>
                  </a:moveTo>
                  <a:cubicBezTo>
                    <a:pt x="0" y="135"/>
                    <a:pt x="136" y="0"/>
                    <a:pt x="303" y="0"/>
                  </a:cubicBezTo>
                  <a:cubicBezTo>
                    <a:pt x="470" y="0"/>
                    <a:pt x="605" y="135"/>
                    <a:pt x="605" y="302"/>
                  </a:cubicBezTo>
                  <a:cubicBezTo>
                    <a:pt x="605" y="302"/>
                    <a:pt x="605" y="302"/>
                    <a:pt x="605" y="302"/>
                  </a:cubicBezTo>
                  <a:cubicBezTo>
                    <a:pt x="605" y="469"/>
                    <a:pt x="470" y="604"/>
                    <a:pt x="303" y="604"/>
                  </a:cubicBezTo>
                  <a:cubicBezTo>
                    <a:pt x="136" y="604"/>
                    <a:pt x="0" y="469"/>
                    <a:pt x="0" y="302"/>
                  </a:cubicBez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7" name="Freeform 20"/>
            <p:cNvSpPr/>
            <p:nvPr/>
          </p:nvSpPr>
          <p:spPr>
            <a:xfrm>
              <a:off x="6037920" y="2171520"/>
              <a:ext cx="231840" cy="22968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81" h="181">
                  <a:moveTo>
                    <a:pt x="0" y="90"/>
                  </a:moveTo>
                  <a:cubicBezTo>
                    <a:pt x="0" y="40"/>
                    <a:pt x="40" y="0"/>
                    <a:pt x="90" y="0"/>
                  </a:cubicBezTo>
                  <a:cubicBezTo>
                    <a:pt x="140" y="0"/>
                    <a:pt x="181" y="40"/>
                    <a:pt x="181" y="90"/>
                  </a:cubicBezTo>
                  <a:cubicBezTo>
                    <a:pt x="181" y="90"/>
                    <a:pt x="181" y="90"/>
                    <a:pt x="181" y="90"/>
                  </a:cubicBezTo>
                  <a:cubicBezTo>
                    <a:pt x="181" y="140"/>
                    <a:pt x="140" y="181"/>
                    <a:pt x="90" y="181"/>
                  </a:cubicBezTo>
                  <a:cubicBezTo>
                    <a:pt x="40" y="181"/>
                    <a:pt x="0" y="140"/>
                    <a:pt x="0" y="90"/>
                  </a:cubicBezTo>
                </a:path>
              </a:pathLst>
            </a:custGeom>
            <a:noFill/>
            <a:ln cap="rnd"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8" name="Rectangle 21"/>
            <p:cNvSpPr/>
            <p:nvPr/>
          </p:nvSpPr>
          <p:spPr>
            <a:xfrm>
              <a:off x="5743080" y="1650600"/>
              <a:ext cx="5536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ISO</a:t>
              </a:r>
              <a:endParaRPr b="0" lang="en-US" sz="1900" spc="-1" strike="noStrike">
                <a:solidFill>
                  <a:srgbClr val="0000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Adrb2</a:t>
              </a:r>
              <a:endParaRPr b="0" lang="en-US" sz="1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9" name="Rectangle 22"/>
            <p:cNvSpPr/>
            <p:nvPr/>
          </p:nvSpPr>
          <p:spPr>
            <a:xfrm>
              <a:off x="6591960" y="2887560"/>
              <a:ext cx="51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F-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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0" name="Freeform 23"/>
            <p:cNvSpPr/>
            <p:nvPr/>
          </p:nvSpPr>
          <p:spPr>
            <a:xfrm>
              <a:off x="7167960" y="2860560"/>
              <a:ext cx="230400" cy="22968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605" h="605">
                  <a:moveTo>
                    <a:pt x="0" y="302"/>
                  </a:moveTo>
                  <a:cubicBezTo>
                    <a:pt x="0" y="135"/>
                    <a:pt x="136" y="0"/>
                    <a:pt x="303" y="0"/>
                  </a:cubicBezTo>
                  <a:cubicBezTo>
                    <a:pt x="470" y="0"/>
                    <a:pt x="605" y="135"/>
                    <a:pt x="605" y="302"/>
                  </a:cubicBezTo>
                  <a:cubicBezTo>
                    <a:pt x="605" y="302"/>
                    <a:pt x="605" y="302"/>
                    <a:pt x="605" y="302"/>
                  </a:cubicBezTo>
                  <a:cubicBezTo>
                    <a:pt x="605" y="469"/>
                    <a:pt x="470" y="605"/>
                    <a:pt x="303" y="605"/>
                  </a:cubicBezTo>
                  <a:cubicBezTo>
                    <a:pt x="136" y="605"/>
                    <a:pt x="0" y="469"/>
                    <a:pt x="0" y="302"/>
                  </a:cubicBez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1" name="Freeform 24"/>
            <p:cNvSpPr/>
            <p:nvPr/>
          </p:nvSpPr>
          <p:spPr>
            <a:xfrm>
              <a:off x="7167960" y="2860560"/>
              <a:ext cx="230400" cy="22968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81" h="181">
                  <a:moveTo>
                    <a:pt x="0" y="91"/>
                  </a:moveTo>
                  <a:cubicBezTo>
                    <a:pt x="0" y="41"/>
                    <a:pt x="41" y="0"/>
                    <a:pt x="91" y="0"/>
                  </a:cubicBezTo>
                  <a:cubicBezTo>
                    <a:pt x="141" y="0"/>
                    <a:pt x="181" y="41"/>
                    <a:pt x="181" y="91"/>
                  </a:cubicBezTo>
                  <a:cubicBezTo>
                    <a:pt x="181" y="91"/>
                    <a:pt x="181" y="91"/>
                    <a:pt x="181" y="91"/>
                  </a:cubicBezTo>
                  <a:cubicBezTo>
                    <a:pt x="181" y="141"/>
                    <a:pt x="141" y="181"/>
                    <a:pt x="91" y="181"/>
                  </a:cubicBezTo>
                  <a:cubicBezTo>
                    <a:pt x="41" y="181"/>
                    <a:pt x="0" y="141"/>
                    <a:pt x="0" y="91"/>
                  </a:cubicBezTo>
                </a:path>
              </a:pathLst>
            </a:custGeom>
            <a:noFill/>
            <a:ln cap="rnd"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2" name="Freeform 25"/>
            <p:cNvSpPr/>
            <p:nvPr/>
          </p:nvSpPr>
          <p:spPr>
            <a:xfrm>
              <a:off x="8277120" y="2860560"/>
              <a:ext cx="231840" cy="22968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605" h="605">
                  <a:moveTo>
                    <a:pt x="0" y="302"/>
                  </a:moveTo>
                  <a:cubicBezTo>
                    <a:pt x="0" y="135"/>
                    <a:pt x="135" y="0"/>
                    <a:pt x="302" y="0"/>
                  </a:cubicBezTo>
                  <a:cubicBezTo>
                    <a:pt x="469" y="0"/>
                    <a:pt x="605" y="135"/>
                    <a:pt x="605" y="302"/>
                  </a:cubicBezTo>
                  <a:cubicBezTo>
                    <a:pt x="605" y="302"/>
                    <a:pt x="605" y="302"/>
                    <a:pt x="605" y="302"/>
                  </a:cubicBezTo>
                  <a:cubicBezTo>
                    <a:pt x="605" y="469"/>
                    <a:pt x="469" y="605"/>
                    <a:pt x="302" y="605"/>
                  </a:cubicBezTo>
                  <a:cubicBezTo>
                    <a:pt x="135" y="605"/>
                    <a:pt x="0" y="469"/>
                    <a:pt x="0" y="302"/>
                  </a:cubicBez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3" name="Rectangle 26"/>
            <p:cNvSpPr/>
            <p:nvPr/>
          </p:nvSpPr>
          <p:spPr>
            <a:xfrm>
              <a:off x="7719840" y="2839680"/>
              <a:ext cx="45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JNK</a:t>
              </a:r>
              <a:endParaRPr b="0" lang="en-US" sz="19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4" name="Text Box 27"/>
            <p:cNvSpPr/>
            <p:nvPr/>
          </p:nvSpPr>
          <p:spPr>
            <a:xfrm>
              <a:off x="5579280" y="1738080"/>
              <a:ext cx="3588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152360" indent="-1152360">
                <a:tabLst>
                  <a:tab algn="l" pos="0"/>
                  <a:tab algn="l" pos="4546440"/>
                  <a:tab algn="l" pos="909324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TLR2/1, TLR2/6</a:t>
              </a:r>
              <a:endParaRPr b="0" lang="en-US" sz="1200" spc="-1" strike="noStrike">
                <a:solidFill>
                  <a:srgbClr val="0000ff"/>
                </a:solidFill>
                <a:latin typeface="Arial"/>
              </a:endParaRPr>
            </a:p>
            <a:p>
              <a:pPr marL="1152360" indent="-1152360">
                <a:tabLst>
                  <a:tab algn="l" pos="0"/>
                  <a:tab algn="l" pos="4546440"/>
                  <a:tab algn="l" pos="909324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TLR4, TLR7</a:t>
              </a:r>
              <a:endParaRPr b="0" lang="en-US" sz="1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5" name="Rectangle 28"/>
            <p:cNvSpPr/>
            <p:nvPr/>
          </p:nvSpPr>
          <p:spPr>
            <a:xfrm>
              <a:off x="8268840" y="1669680"/>
              <a:ext cx="7750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MA</a:t>
              </a:r>
              <a:endParaRPr b="0" lang="en-US" sz="1900" spc="-1" strike="noStrike">
                <a:solidFill>
                  <a:srgbClr val="0000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P2X, P2Y</a:t>
              </a:r>
              <a:endParaRPr b="0" lang="en-US" sz="1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6" name="Line 29"/>
            <p:cNvSpPr/>
            <p:nvPr/>
          </p:nvSpPr>
          <p:spPr>
            <a:xfrm>
              <a:off x="8408160" y="2409480"/>
              <a:ext cx="0" cy="4474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7" name="Line 30"/>
            <p:cNvSpPr/>
            <p:nvPr/>
          </p:nvSpPr>
          <p:spPr>
            <a:xfrm>
              <a:off x="6161040" y="2419200"/>
              <a:ext cx="0" cy="4471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8" name="Line 31"/>
            <p:cNvSpPr/>
            <p:nvPr/>
          </p:nvSpPr>
          <p:spPr>
            <a:xfrm flipH="1">
              <a:off x="6266160" y="2371320"/>
              <a:ext cx="95076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9" name="Line 32"/>
            <p:cNvSpPr/>
            <p:nvPr/>
          </p:nvSpPr>
          <p:spPr>
            <a:xfrm flipH="1">
              <a:off x="6276240" y="2371320"/>
              <a:ext cx="2026080" cy="55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0" name="Line 33"/>
            <p:cNvSpPr/>
            <p:nvPr/>
          </p:nvSpPr>
          <p:spPr>
            <a:xfrm flipH="1">
              <a:off x="7284600" y="2409480"/>
              <a:ext cx="9360" cy="43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1" name="Line 34"/>
            <p:cNvSpPr/>
            <p:nvPr/>
          </p:nvSpPr>
          <p:spPr>
            <a:xfrm>
              <a:off x="7361280" y="2381040"/>
              <a:ext cx="970200" cy="48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2" name="Line 35"/>
            <p:cNvSpPr/>
            <p:nvPr/>
          </p:nvSpPr>
          <p:spPr>
            <a:xfrm>
              <a:off x="7294320" y="309528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3" name="Line 36"/>
            <p:cNvSpPr/>
            <p:nvPr/>
          </p:nvSpPr>
          <p:spPr>
            <a:xfrm flipH="1">
              <a:off x="7380000" y="3085920"/>
              <a:ext cx="96012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4" name="Oval 37"/>
            <p:cNvSpPr/>
            <p:nvPr/>
          </p:nvSpPr>
          <p:spPr>
            <a:xfrm>
              <a:off x="7159680" y="2847600"/>
              <a:ext cx="243000" cy="241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5" name="Oval 38"/>
            <p:cNvSpPr/>
            <p:nvPr/>
          </p:nvSpPr>
          <p:spPr>
            <a:xfrm>
              <a:off x="8273880" y="2847600"/>
              <a:ext cx="243000" cy="241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636" name="Rectangle 3"/>
          <p:cNvSpPr/>
          <p:nvPr/>
        </p:nvSpPr>
        <p:spPr>
          <a:xfrm>
            <a:off x="173160" y="4884840"/>
            <a:ext cx="897084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7080" bIns="37080" anchor="t">
            <a:noAutofit/>
          </a:bodyPr>
          <a:p>
            <a:pPr marL="289080" indent="-28908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NF-alpha: a target for Rheumatoid Arthriti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89080" indent="-28908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New hypothesi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: M-CSF-specific pathway regulates TNF-alpha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7240" y="190440"/>
            <a:ext cx="7770960" cy="3621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Validation: Prediction of Test Data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8" name="Slide Number Placeholder 4"/>
          <p:cNvSpPr/>
          <p:nvPr/>
        </p:nvSpPr>
        <p:spPr>
          <a:xfrm>
            <a:off x="0" y="6635880"/>
            <a:ext cx="63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1E6318F0-412F-42AE-9751-F67EA8869C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39" name="Picture 23" descr=""/>
          <p:cNvPicPr/>
          <p:nvPr/>
        </p:nvPicPr>
        <p:blipFill>
          <a:blip r:embed="rId1"/>
          <a:stretch/>
        </p:blipFill>
        <p:spPr>
          <a:xfrm>
            <a:off x="114480" y="871560"/>
            <a:ext cx="4543200" cy="394344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4" descr=""/>
          <p:cNvPicPr/>
          <p:nvPr/>
        </p:nvPicPr>
        <p:blipFill>
          <a:blip r:embed="rId2"/>
          <a:stretch/>
        </p:blipFill>
        <p:spPr>
          <a:xfrm>
            <a:off x="4576680" y="895320"/>
            <a:ext cx="4496040" cy="3952800"/>
          </a:xfrm>
          <a:prstGeom prst="rect">
            <a:avLst/>
          </a:prstGeom>
          <a:ln w="0">
            <a:noFill/>
          </a:ln>
        </p:spPr>
      </p:pic>
      <p:sp>
        <p:nvSpPr>
          <p:cNvPr id="641" name="TextBox 7"/>
          <p:cNvSpPr/>
          <p:nvPr/>
        </p:nvSpPr>
        <p:spPr>
          <a:xfrm>
            <a:off x="4767120" y="4886280"/>
            <a:ext cx="22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xperimental Data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2" name="TextBox 9"/>
          <p:cNvSpPr/>
          <p:nvPr/>
        </p:nvSpPr>
        <p:spPr>
          <a:xfrm rot="16200000">
            <a:off x="6231240" y="361044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edicted Data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7240" y="190440"/>
            <a:ext cx="7770960" cy="3621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Validation with the Literature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4" name="Slide Number Placeholder 4"/>
          <p:cNvSpPr/>
          <p:nvPr/>
        </p:nvSpPr>
        <p:spPr>
          <a:xfrm>
            <a:off x="0" y="6635880"/>
            <a:ext cx="63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339AA205-7B4E-461B-A738-F2392FE3E7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573120" y="3795840"/>
          <a:ext cx="8050320" cy="2592360"/>
        </p:xfrm>
        <a:graphic>
          <a:graphicData uri="http://schemas.openxmlformats.org/drawingml/2006/table">
            <a:tbl>
              <a:tblPr/>
              <a:tblGrid>
                <a:gridCol w="2682720"/>
                <a:gridCol w="2684520"/>
                <a:gridCol w="268308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8720">
                      <a:solidFill>
                        <a:srgbClr val="cc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False Positive Rate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8720">
                      <a:solidFill>
                        <a:srgbClr val="cc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False Negative Rate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8720">
                      <a:solidFill>
                        <a:srgbClr val="cc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model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1872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 (28 false connections)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1872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 (1 missing)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1872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al model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% (only 3 false connections)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 (5 missing)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646" name="Rectangle 3"/>
          <p:cNvSpPr/>
          <p:nvPr/>
        </p:nvSpPr>
        <p:spPr>
          <a:xfrm>
            <a:off x="174600" y="890640"/>
            <a:ext cx="87264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7080" bIns="37080" anchor="t">
            <a:noAutofit/>
          </a:bodyPr>
          <a:p>
            <a:pPr marL="533520" indent="-533520">
              <a:lnSpc>
                <a:spcPct val="12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Found most known pathways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Substantial decrease in the number of false positives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Critically important in target discovery due to high cost of target screening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3"/>
          <p:cNvSpPr/>
          <p:nvPr/>
        </p:nvSpPr>
        <p:spPr>
          <a:xfrm>
            <a:off x="0" y="6635880"/>
            <a:ext cx="63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0A8A8B23-A71D-4C07-BC79-EF14FB8511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7240" y="190440"/>
            <a:ext cx="7770960" cy="3621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ummary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176040" y="757080"/>
            <a:ext cx="8761680" cy="418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7080" bIns="37080" anchor="t">
            <a:noAutofit/>
          </a:bodyPr>
          <a:p>
            <a:pPr marL="360360" indent="-360360">
              <a:lnSpc>
                <a:spcPct val="12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oarse-grained network maps for cytokine releas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60360" indent="-360360">
              <a:lnSpc>
                <a:spcPct val="12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ata-driven network reconstru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817560" indent="-360360">
              <a:lnSpc>
                <a:spcPct val="12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Provides quantitative insights into systemic regulatio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817560" indent="-360360">
              <a:lnSpc>
                <a:spcPct val="12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Discover novel regulatory pathway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60360" indent="-360360">
              <a:lnSpc>
                <a:spcPct val="12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id in designing new approaches to drug discove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5e5ff"/>
                                </p:to>
                              </p:animCl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5e5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3"/>
          <p:cNvSpPr/>
          <p:nvPr/>
        </p:nvSpPr>
        <p:spPr>
          <a:xfrm>
            <a:off x="0" y="6635880"/>
            <a:ext cx="63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23F4FAF7-2D18-4A1B-86E2-AAAA273183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7240" y="190440"/>
            <a:ext cx="7770960" cy="3621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Acknowledgement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176040" y="757080"/>
            <a:ext cx="8761680" cy="129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7080" bIns="37080" anchor="t">
            <a:noAutofit/>
          </a:bodyPr>
          <a:p>
            <a:pPr marL="360360" indent="-36036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Various grants from the NSF and NIH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60360" indent="-36036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fCS for experimental data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53" name="Picture 2" descr=""/>
          <p:cNvPicPr/>
          <p:nvPr/>
        </p:nvPicPr>
        <p:blipFill>
          <a:blip r:embed="rId1"/>
          <a:stretch/>
        </p:blipFill>
        <p:spPr>
          <a:xfrm>
            <a:off x="824040" y="2295360"/>
            <a:ext cx="746604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7240" y="190440"/>
            <a:ext cx="7770960" cy="3621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etwork Reconstruction Using Data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0" y="6635880"/>
            <a:ext cx="639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2A9D7EDF-029F-4B51-A717-5DF4369B32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246" name="Group 24586"/>
          <p:cNvGrpSpPr/>
          <p:nvPr/>
        </p:nvGrpSpPr>
        <p:grpSpPr>
          <a:xfrm>
            <a:off x="162000" y="1508040"/>
            <a:ext cx="3984480" cy="3756240"/>
            <a:chOff x="162000" y="1508040"/>
            <a:chExt cx="3984480" cy="3756240"/>
          </a:xfrm>
        </p:grpSpPr>
        <p:sp>
          <p:nvSpPr>
            <p:cNvPr id="247" name="Oval 1"/>
            <p:cNvSpPr/>
            <p:nvPr/>
          </p:nvSpPr>
          <p:spPr>
            <a:xfrm>
              <a:off x="409680" y="1508040"/>
              <a:ext cx="231840" cy="2455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48" name="Oval 4"/>
            <p:cNvSpPr/>
            <p:nvPr/>
          </p:nvSpPr>
          <p:spPr>
            <a:xfrm>
              <a:off x="1276200" y="2126880"/>
              <a:ext cx="231840" cy="2455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49" name="Oval 5"/>
            <p:cNvSpPr/>
            <p:nvPr/>
          </p:nvSpPr>
          <p:spPr>
            <a:xfrm>
              <a:off x="3020760" y="1630800"/>
              <a:ext cx="231840" cy="2455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50" name="Oval 6"/>
            <p:cNvSpPr/>
            <p:nvPr/>
          </p:nvSpPr>
          <p:spPr>
            <a:xfrm>
              <a:off x="3596400" y="2673000"/>
              <a:ext cx="231840" cy="2455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51" name="Oval 7"/>
            <p:cNvSpPr/>
            <p:nvPr/>
          </p:nvSpPr>
          <p:spPr>
            <a:xfrm>
              <a:off x="2359080" y="2561400"/>
              <a:ext cx="231840" cy="2455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52" name="Oval 8"/>
            <p:cNvSpPr/>
            <p:nvPr/>
          </p:nvSpPr>
          <p:spPr>
            <a:xfrm>
              <a:off x="491760" y="2795760"/>
              <a:ext cx="231840" cy="2455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53" name="Oval 9"/>
            <p:cNvSpPr/>
            <p:nvPr/>
          </p:nvSpPr>
          <p:spPr>
            <a:xfrm>
              <a:off x="1398960" y="3485160"/>
              <a:ext cx="231840" cy="2455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54" name="Oval 10"/>
            <p:cNvSpPr/>
            <p:nvPr/>
          </p:nvSpPr>
          <p:spPr>
            <a:xfrm>
              <a:off x="3016080" y="3783240"/>
              <a:ext cx="231840" cy="2455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55" name="Oval 11"/>
            <p:cNvSpPr/>
            <p:nvPr/>
          </p:nvSpPr>
          <p:spPr>
            <a:xfrm>
              <a:off x="3914640" y="3906000"/>
              <a:ext cx="231840" cy="2455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56" name="Oval 12"/>
            <p:cNvSpPr/>
            <p:nvPr/>
          </p:nvSpPr>
          <p:spPr>
            <a:xfrm>
              <a:off x="162000" y="4363560"/>
              <a:ext cx="231840" cy="2455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57" name="Oval 13"/>
            <p:cNvSpPr/>
            <p:nvPr/>
          </p:nvSpPr>
          <p:spPr>
            <a:xfrm>
              <a:off x="1626480" y="5018760"/>
              <a:ext cx="231840" cy="2455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58" name="Oval 14"/>
            <p:cNvSpPr/>
            <p:nvPr/>
          </p:nvSpPr>
          <p:spPr>
            <a:xfrm>
              <a:off x="3393720" y="4852440"/>
              <a:ext cx="231840" cy="2455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cxnSp>
          <p:nvCxnSpPr>
            <p:cNvPr id="259" name="Straight Arrow Connector 3"/>
            <p:cNvCxnSpPr>
              <a:stCxn id="247" idx="5"/>
              <a:endCxn id="248" idx="1"/>
            </p:cNvCxnSpPr>
            <p:nvPr/>
          </p:nvCxnSpPr>
          <p:spPr>
            <a:xfrm>
              <a:off x="607320" y="1717560"/>
              <a:ext cx="702720" cy="44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60" name="Straight Arrow Connector 17"/>
            <p:cNvCxnSpPr>
              <a:stCxn id="252" idx="5"/>
              <a:endCxn id="253" idx="1"/>
            </p:cNvCxnSpPr>
            <p:nvPr/>
          </p:nvCxnSpPr>
          <p:spPr>
            <a:xfrm>
              <a:off x="689400" y="3005280"/>
              <a:ext cx="744120" cy="516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61" name="Straight Arrow Connector 18"/>
            <p:cNvCxnSpPr>
              <a:stCxn id="251" idx="3"/>
              <a:endCxn id="253" idx="6"/>
            </p:cNvCxnSpPr>
            <p:nvPr/>
          </p:nvCxnSpPr>
          <p:spPr>
            <a:xfrm flipH="1">
              <a:off x="1630800" y="2770920"/>
              <a:ext cx="762480" cy="837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62" name="Straight Arrow Connector 19"/>
            <p:cNvCxnSpPr>
              <a:stCxn id="249" idx="5"/>
              <a:endCxn id="250" idx="1"/>
            </p:cNvCxnSpPr>
            <p:nvPr/>
          </p:nvCxnSpPr>
          <p:spPr>
            <a:xfrm>
              <a:off x="3218760" y="1840320"/>
              <a:ext cx="411840" cy="869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63" name="Straight Arrow Connector 20"/>
            <p:cNvCxnSpPr>
              <a:stCxn id="248" idx="5"/>
              <a:endCxn id="251" idx="3"/>
            </p:cNvCxnSpPr>
            <p:nvPr/>
          </p:nvCxnSpPr>
          <p:spPr>
            <a:xfrm>
              <a:off x="1473840" y="2336040"/>
              <a:ext cx="919080" cy="435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64" name="Straight Arrow Connector 21"/>
            <p:cNvCxnSpPr>
              <a:stCxn id="252" idx="4"/>
              <a:endCxn id="256" idx="7"/>
            </p:cNvCxnSpPr>
            <p:nvPr/>
          </p:nvCxnSpPr>
          <p:spPr>
            <a:xfrm flipH="1">
              <a:off x="359640" y="3041280"/>
              <a:ext cx="248400" cy="1358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65" name="Straight Arrow Connector 22"/>
            <p:cNvCxnSpPr>
              <a:stCxn id="248" idx="5"/>
              <a:endCxn id="253" idx="7"/>
            </p:cNvCxnSpPr>
            <p:nvPr/>
          </p:nvCxnSpPr>
          <p:spPr>
            <a:xfrm>
              <a:off x="1473840" y="2336400"/>
              <a:ext cx="123480" cy="11851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66" name="Straight Arrow Connector 23"/>
            <p:cNvCxnSpPr>
              <a:stCxn id="249" idx="3"/>
              <a:endCxn id="251" idx="6"/>
            </p:cNvCxnSpPr>
            <p:nvPr/>
          </p:nvCxnSpPr>
          <p:spPr>
            <a:xfrm flipH="1">
              <a:off x="2590560" y="1839960"/>
              <a:ext cx="464400" cy="844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67" name="Straight Arrow Connector 24"/>
            <p:cNvCxnSpPr>
              <a:stCxn id="247" idx="4"/>
              <a:endCxn id="252" idx="1"/>
            </p:cNvCxnSpPr>
            <p:nvPr/>
          </p:nvCxnSpPr>
          <p:spPr>
            <a:xfrm flipH="1">
              <a:off x="524880" y="1753560"/>
              <a:ext cx="1080" cy="1078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68" name="Straight Arrow Connector 25"/>
            <p:cNvCxnSpPr>
              <a:stCxn id="250" idx="5"/>
              <a:endCxn id="255" idx="0"/>
            </p:cNvCxnSpPr>
            <p:nvPr/>
          </p:nvCxnSpPr>
          <p:spPr>
            <a:xfrm>
              <a:off x="3794400" y="2882160"/>
              <a:ext cx="236880" cy="1023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69" name="Straight Arrow Connector 26"/>
            <p:cNvCxnSpPr>
              <a:stCxn id="248" idx="4"/>
              <a:endCxn id="256" idx="6"/>
            </p:cNvCxnSpPr>
            <p:nvPr/>
          </p:nvCxnSpPr>
          <p:spPr>
            <a:xfrm flipH="1">
              <a:off x="393120" y="2372040"/>
              <a:ext cx="999000" cy="2114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70" name="Straight Arrow Connector 27"/>
            <p:cNvCxnSpPr>
              <a:endCxn id="254" idx="0"/>
            </p:cNvCxnSpPr>
            <p:nvPr/>
          </p:nvCxnSpPr>
          <p:spPr>
            <a:xfrm flipH="1">
              <a:off x="3132000" y="2882160"/>
              <a:ext cx="516960" cy="90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71" name="Straight Arrow Connector 28"/>
            <p:cNvCxnSpPr>
              <a:endCxn id="255" idx="3"/>
            </p:cNvCxnSpPr>
            <p:nvPr/>
          </p:nvCxnSpPr>
          <p:spPr>
            <a:xfrm>
              <a:off x="2588400" y="2748960"/>
              <a:ext cx="1360440" cy="1367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72" name="Straight Arrow Connector 29"/>
            <p:cNvCxnSpPr>
              <a:stCxn id="251" idx="4"/>
              <a:endCxn id="257" idx="7"/>
            </p:cNvCxnSpPr>
            <p:nvPr/>
          </p:nvCxnSpPr>
          <p:spPr>
            <a:xfrm flipH="1">
              <a:off x="1824120" y="2806560"/>
              <a:ext cx="650880" cy="2248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73" name="Straight Arrow Connector 30"/>
            <p:cNvCxnSpPr>
              <a:stCxn id="254" idx="4"/>
              <a:endCxn id="257" idx="6"/>
            </p:cNvCxnSpPr>
            <p:nvPr/>
          </p:nvCxnSpPr>
          <p:spPr>
            <a:xfrm flipH="1">
              <a:off x="1858320" y="4029120"/>
              <a:ext cx="1274400" cy="1112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74" name="Straight Arrow Connector 31"/>
            <p:cNvCxnSpPr>
              <a:stCxn id="257" idx="1"/>
              <a:endCxn id="252" idx="5"/>
            </p:cNvCxnSpPr>
            <p:nvPr/>
          </p:nvCxnSpPr>
          <p:spPr>
            <a:xfrm flipH="1" flipV="1">
              <a:off x="689400" y="3004920"/>
              <a:ext cx="971280" cy="2049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75" name="Straight Arrow Connector 32"/>
            <p:cNvCxnSpPr>
              <a:stCxn id="247" idx="5"/>
              <a:endCxn id="253" idx="0"/>
            </p:cNvCxnSpPr>
            <p:nvPr/>
          </p:nvCxnSpPr>
          <p:spPr>
            <a:xfrm>
              <a:off x="607680" y="1717200"/>
              <a:ext cx="907920" cy="17679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76" name="Straight Arrow Connector 33"/>
            <p:cNvCxnSpPr>
              <a:stCxn id="250" idx="2"/>
              <a:endCxn id="257" idx="7"/>
            </p:cNvCxnSpPr>
            <p:nvPr/>
          </p:nvCxnSpPr>
          <p:spPr>
            <a:xfrm flipH="1">
              <a:off x="1823760" y="2795400"/>
              <a:ext cx="1772280" cy="2259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77" name="Straight Arrow Connector 34"/>
            <p:cNvCxnSpPr>
              <a:stCxn id="255" idx="4"/>
              <a:endCxn id="258" idx="7"/>
            </p:cNvCxnSpPr>
            <p:nvPr/>
          </p:nvCxnSpPr>
          <p:spPr>
            <a:xfrm flipH="1">
              <a:off x="3591360" y="4151880"/>
              <a:ext cx="439200" cy="737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278" name="Picture 2" descr=""/>
          <p:cNvPicPr/>
          <p:nvPr/>
        </p:nvPicPr>
        <p:blipFill>
          <a:blip r:embed="rId1"/>
          <a:srcRect l="11453" t="15315" r="43658" b="9151"/>
          <a:stretch/>
        </p:blipFill>
        <p:spPr>
          <a:xfrm>
            <a:off x="5256360" y="1330200"/>
            <a:ext cx="3614760" cy="45608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2"/>
          <p:cNvSpPr/>
          <p:nvPr/>
        </p:nvSpPr>
        <p:spPr>
          <a:xfrm>
            <a:off x="3510000" y="746280"/>
            <a:ext cx="30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ystem measurement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0" name="Curved Down Arrow 24587"/>
          <p:cNvSpPr/>
          <p:nvPr/>
        </p:nvSpPr>
        <p:spPr>
          <a:xfrm>
            <a:off x="2703600" y="1149480"/>
            <a:ext cx="2292120" cy="608040"/>
          </a:xfrm>
          <a:custGeom>
            <a:avLst/>
            <a:gdLst>
              <a:gd name="textAreaLeft" fmla="*/ 515880 w 2292120"/>
              <a:gd name="textAreaRight" fmla="*/ 1700280 w 2292120"/>
              <a:gd name="textAreaTop" fmla="*/ 81360 h 608040"/>
              <a:gd name="textAreaBottom" fmla="*/ 526680 h 608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27" hR="21600" stAng="10800000" swAng="5400000"/>
                <a:lnTo>
                  <a:pt x="11158" y="0"/>
                </a:lnTo>
                <a:arcTo wR="9727" hR="21600" stAng="-5400000" swAng="3610300"/>
                <a:lnTo>
                  <a:pt x="21291" y="16200"/>
                </a:lnTo>
                <a:lnTo>
                  <a:pt x="20170" y="21600"/>
                </a:lnTo>
                <a:lnTo>
                  <a:pt x="18430" y="16200"/>
                </a:lnTo>
                <a:lnTo>
                  <a:pt x="19145" y="16200"/>
                </a:lnTo>
                <a:arcTo wR="9727" hR="21600" stAng="-1789700" swAng="-3496157"/>
                <a:lnTo>
                  <a:pt x="10443" y="59"/>
                </a:lnTo>
                <a:arcTo wR="9727" hR="21600" stAng="-5514143" swAng="-5285857"/>
                <a:close/>
              </a:path>
              <a:path fill="darkenLess" w="21600" h="21600">
                <a:moveTo>
                  <a:pt x="0" y="21600"/>
                </a:moveTo>
                <a:arcTo wR="9727" hR="21600" stAng="10800000" swAng="5400000"/>
                <a:lnTo>
                  <a:pt x="9727" y="0"/>
                </a:lnTo>
                <a:arcTo wR="9727" hR="21600" stAng="-5400000" swAng="114143"/>
                <a:lnTo>
                  <a:pt x="10443" y="59"/>
                </a:lnTo>
                <a:arcTo wR="9727" hR="21600" stAng="-5514143" swAng="-5285857"/>
                <a:close/>
              </a:path>
            </a:pathLst>
          </a:custGeom>
          <a:solidFill>
            <a:srgbClr val="d1d8fb"/>
          </a:solidFill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281" name="Group 1"/>
          <p:cNvGrpSpPr/>
          <p:nvPr/>
        </p:nvGrpSpPr>
        <p:grpSpPr>
          <a:xfrm>
            <a:off x="204840" y="5315040"/>
            <a:ext cx="8420040" cy="1182960"/>
            <a:chOff x="204840" y="5315040"/>
            <a:chExt cx="8420040" cy="1182960"/>
          </a:xfrm>
        </p:grpSpPr>
        <p:sp>
          <p:nvSpPr>
            <p:cNvPr id="282" name="Text Box 2"/>
            <p:cNvSpPr/>
            <p:nvPr/>
          </p:nvSpPr>
          <p:spPr>
            <a:xfrm>
              <a:off x="204840" y="6099120"/>
              <a:ext cx="842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How to identify the network back: Data-driven Network Reconstruction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83" name="Curved Down Arrow 79"/>
            <p:cNvSpPr/>
            <p:nvPr/>
          </p:nvSpPr>
          <p:spPr>
            <a:xfrm rot="10800000">
              <a:off x="2825280" y="5315040"/>
              <a:ext cx="2290680" cy="606240"/>
            </a:xfrm>
            <a:custGeom>
              <a:avLst/>
              <a:gdLst>
                <a:gd name="textAreaLeft" fmla="*/ 515520 w 2290680"/>
                <a:gd name="textAreaRight" fmla="*/ 1699200 w 2290680"/>
                <a:gd name="textAreaTop" fmla="*/ 81000 h 606240"/>
                <a:gd name="textAreaBottom" fmla="*/ 525240 h 60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727" hR="21600" stAng="10800000" swAng="5400000"/>
                  <a:lnTo>
                    <a:pt x="11158" y="0"/>
                  </a:lnTo>
                  <a:arcTo wR="9727" hR="21600" stAng="-5400000" swAng="3610300"/>
                  <a:lnTo>
                    <a:pt x="21291" y="16200"/>
                  </a:lnTo>
                  <a:lnTo>
                    <a:pt x="20170" y="21600"/>
                  </a:lnTo>
                  <a:lnTo>
                    <a:pt x="18430" y="16200"/>
                  </a:lnTo>
                  <a:lnTo>
                    <a:pt x="19145" y="16200"/>
                  </a:lnTo>
                  <a:arcTo wR="9727" hR="21600" stAng="-1789700" swAng="-3496157"/>
                  <a:lnTo>
                    <a:pt x="10443" y="59"/>
                  </a:lnTo>
                  <a:arcTo wR="9727" hR="21600" stAng="-5514143" swAng="-5285857"/>
                  <a:close/>
                </a:path>
                <a:path fill="darkenLess" w="21600" h="21600">
                  <a:moveTo>
                    <a:pt x="0" y="21600"/>
                  </a:moveTo>
                  <a:arcTo wR="9727" hR="21600" stAng="10800000" swAng="5400000"/>
                  <a:lnTo>
                    <a:pt x="9727" y="0"/>
                  </a:lnTo>
                  <a:arcTo wR="9727" hR="21600" stAng="-5400000" swAng="114143"/>
                  <a:lnTo>
                    <a:pt x="10443" y="59"/>
                  </a:lnTo>
                  <a:arcTo wR="9727" hR="21600" stAng="-5514143" swAng="-5285857"/>
                  <a:close/>
                </a:path>
              </a:pathLst>
            </a:custGeom>
            <a:solidFill>
              <a:srgbClr val="d1d8fb"/>
            </a:solidFill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7240" y="190440"/>
            <a:ext cx="7770960" cy="3621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ast Squares Approach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0" y="6635880"/>
            <a:ext cx="639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7BD26B06-BF4F-4B5F-ABAE-6E892FF57D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68400" y="747720"/>
            <a:ext cx="8980200" cy="58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7080" bIns="37080" anchor="t">
            <a:noAutofit/>
          </a:bodyPr>
          <a:p>
            <a:pPr marL="289080" indent="-289080">
              <a:lnSpc>
                <a:spcPct val="12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Estimation of b using least squares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Prediction of output data for the training and test sets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Validation: F-test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1" marL="725400" indent="-342720">
              <a:lnSpc>
                <a:spcPct val="12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eparate test set vs. k-fold cross-validatio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2"/>
              <p:cNvSpPr txBox="1"/>
              <p:nvPr/>
            </p:nvSpPr>
            <p:spPr>
              <a:xfrm>
                <a:off x="2462040" y="1550880"/>
                <a:ext cx="321012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b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4"/>
              <p:cNvSpPr txBox="1"/>
              <p:nvPr/>
            </p:nvSpPr>
            <p:spPr>
              <a:xfrm>
                <a:off x="639720" y="3379680"/>
                <a:ext cx="480240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Y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6"/>
              <p:cNvSpPr txBox="1"/>
              <p:nvPr/>
            </p:nvSpPr>
            <p:spPr>
              <a:xfrm>
                <a:off x="598320" y="4438800"/>
                <a:ext cx="203220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ai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7"/>
              <p:cNvSpPr txBox="1"/>
              <p:nvPr/>
            </p:nvSpPr>
            <p:spPr>
              <a:xfrm>
                <a:off x="6018120" y="3389400"/>
                <a:ext cx="2219400" cy="18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b>
                        </m:sSub>
                        <m:r>
                          <m:t xml:space="preserve">b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es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4"/>
          <p:cNvSpPr/>
          <p:nvPr/>
        </p:nvSpPr>
        <p:spPr>
          <a:xfrm>
            <a:off x="38160" y="1828800"/>
            <a:ext cx="9105840" cy="514440"/>
          </a:xfrm>
          <a:prstGeom prst="rect">
            <a:avLst/>
          </a:prstGeom>
          <a:solidFill>
            <a:srgbClr val="e5e5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7240" y="190440"/>
            <a:ext cx="7770960" cy="3621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720" y="726840"/>
            <a:ext cx="8831160" cy="58928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marL="289080" indent="-289080">
              <a:lnSpc>
                <a:spcPct val="12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Basics of data-driven network reconstruction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1" marL="620640" indent="-237960">
              <a:lnSpc>
                <a:spcPct val="12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Least-squares approach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Principal component regression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1" marL="620640" indent="-237960">
              <a:lnSpc>
                <a:spcPct val="12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asics and statistical significance testing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Application to phosphoprotein/cytokine modules in macrophages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1" marL="620640" indent="-237960">
              <a:lnSpc>
                <a:spcPct val="12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A two-part mod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620640" indent="-237960">
              <a:lnSpc>
                <a:spcPct val="12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Results: reduction in false-positive rate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620640" indent="-237960">
              <a:lnSpc>
                <a:spcPct val="12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0" y="6635880"/>
            <a:ext cx="639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678C7A01-9B01-424A-91CC-C429C6AB19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3"/>
          <p:cNvSpPr/>
          <p:nvPr/>
        </p:nvSpPr>
        <p:spPr>
          <a:xfrm>
            <a:off x="0" y="6635880"/>
            <a:ext cx="63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DCD7CE5A-69F6-45C2-8150-C7E3FDDC6E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7240" y="190440"/>
            <a:ext cx="7770960" cy="3621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Limitation of Least Squares Approach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127080" y="727200"/>
            <a:ext cx="883116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7080" bIns="37080" anchor="t">
            <a:noAutofit/>
          </a:bodyPr>
          <a:p>
            <a:pPr marL="289080" indent="-289080">
              <a:lnSpc>
                <a:spcPct val="12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When X does not have full column rank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1" marL="620640" indent="-237960">
              <a:lnSpc>
                <a:spcPct val="12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olumns dependent: X</a:t>
            </a:r>
            <a:r>
              <a:rPr b="0" lang="en-US" sz="2400" spc="-1" strike="noStrike" baseline="30000">
                <a:solidFill>
                  <a:srgbClr val="8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X is singular and (X</a:t>
            </a:r>
            <a:r>
              <a:rPr b="0" lang="en-US" sz="2400" spc="-1" strike="noStrike" baseline="30000">
                <a:solidFill>
                  <a:srgbClr val="8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X)</a:t>
            </a:r>
            <a:r>
              <a:rPr b="0" lang="en-US" sz="2400" spc="-1" strike="noStrike" baseline="30000">
                <a:solidFill>
                  <a:srgbClr val="8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does not exis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When X has less number of rows than columns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1" marL="620640" indent="-237960">
              <a:lnSpc>
                <a:spcPct val="12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Less rows than columns: X</a:t>
            </a:r>
            <a:r>
              <a:rPr b="0" lang="en-US" sz="2400" spc="-1" strike="noStrike" baseline="30000">
                <a:solidFill>
                  <a:srgbClr val="8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X singula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When the number of rows and columns about the same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1" marL="620640" indent="-237960">
              <a:lnSpc>
                <a:spcPct val="12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Least squares may not be reliab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Principal component regression or Partial least squares approach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3"/>
              <p:cNvSpPr txBox="1"/>
              <p:nvPr/>
            </p:nvSpPr>
            <p:spPr>
              <a:xfrm>
                <a:off x="1962000" y="2090880"/>
                <a:ext cx="641700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b</m:t>
                    </m:r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3"/>
          <p:cNvSpPr/>
          <p:nvPr/>
        </p:nvSpPr>
        <p:spPr>
          <a:xfrm>
            <a:off x="0" y="6635880"/>
            <a:ext cx="63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2546FD2F-6D3C-43D4-9FF8-B10619A0B4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7240" y="190440"/>
            <a:ext cx="7770960" cy="3621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incipal Component Regression Approach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0" y="40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40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39760" y="728640"/>
            <a:ext cx="8674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7080" bIns="37080" anchor="t">
            <a:noAutofit/>
          </a:bodyPr>
          <a:p>
            <a:pPr marL="289080" indent="-289080">
              <a:lnSpc>
                <a:spcPct val="12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Estimate B st. Y = X*B, using known X and Y </a:t>
            </a:r>
            <a:r>
              <a:rPr b="0" lang="en-US" sz="2700" spc="-1" strike="noStrike" u="sng">
                <a:solidFill>
                  <a:srgbClr val="0000ff"/>
                </a:solidFill>
                <a:uFillTx/>
                <a:latin typeface="Arial"/>
              </a:rPr>
              <a:t>(generally one output at a time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Essence: From X, extract independent components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0" y="40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104760" y="5827680"/>
            <a:ext cx="887112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Q using least-square method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Y: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*Q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308" name="Group 53"/>
          <p:cNvGrpSpPr/>
          <p:nvPr/>
        </p:nvGrpSpPr>
        <p:grpSpPr>
          <a:xfrm>
            <a:off x="5470560" y="3879720"/>
            <a:ext cx="3392280" cy="1943640"/>
            <a:chOff x="5470560" y="3879720"/>
            <a:chExt cx="3392280" cy="1943640"/>
          </a:xfrm>
        </p:grpSpPr>
        <p:sp>
          <p:nvSpPr>
            <p:cNvPr id="309" name="Rectangle 17"/>
            <p:cNvSpPr/>
            <p:nvPr/>
          </p:nvSpPr>
          <p:spPr>
            <a:xfrm>
              <a:off x="5490000" y="5289480"/>
              <a:ext cx="2980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5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10" name="Rectangle 19"/>
            <p:cNvSpPr/>
            <p:nvPr/>
          </p:nvSpPr>
          <p:spPr>
            <a:xfrm>
              <a:off x="6206400" y="4514760"/>
              <a:ext cx="3466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35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11" name="Line 22"/>
            <p:cNvSpPr/>
            <p:nvPr/>
          </p:nvSpPr>
          <p:spPr>
            <a:xfrm>
              <a:off x="5533560" y="4503600"/>
              <a:ext cx="1440" cy="40644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12" name="Freeform 23"/>
            <p:cNvSpPr/>
            <p:nvPr/>
          </p:nvSpPr>
          <p:spPr>
            <a:xfrm>
              <a:off x="5470560" y="4892760"/>
              <a:ext cx="126720" cy="2095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80" h="132">
                  <a:moveTo>
                    <a:pt x="80" y="0"/>
                  </a:moveTo>
                  <a:lnTo>
                    <a:pt x="40" y="132"/>
                  </a:lnTo>
                  <a:lnTo>
                    <a:pt x="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13" name="Rectangle 29"/>
            <p:cNvSpPr/>
            <p:nvPr/>
          </p:nvSpPr>
          <p:spPr>
            <a:xfrm>
              <a:off x="7165080" y="3879720"/>
              <a:ext cx="2980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5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14" name="Rectangle 30"/>
            <p:cNvSpPr/>
            <p:nvPr/>
          </p:nvSpPr>
          <p:spPr>
            <a:xfrm>
              <a:off x="7436520" y="3879720"/>
              <a:ext cx="2613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5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7673400" y="3879720"/>
              <a:ext cx="2721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35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16" name="Rectangle 32"/>
            <p:cNvSpPr/>
            <p:nvPr/>
          </p:nvSpPr>
          <p:spPr>
            <a:xfrm>
              <a:off x="7928280" y="3879720"/>
              <a:ext cx="1746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35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17" name="Rectangle 33"/>
            <p:cNvSpPr/>
            <p:nvPr/>
          </p:nvSpPr>
          <p:spPr>
            <a:xfrm>
              <a:off x="8074800" y="3879720"/>
              <a:ext cx="3466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35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18" name="Rectangle 34"/>
            <p:cNvSpPr/>
            <p:nvPr/>
          </p:nvSpPr>
          <p:spPr>
            <a:xfrm>
              <a:off x="7157160" y="4589280"/>
              <a:ext cx="2980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5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19" name="Rectangle 35"/>
            <p:cNvSpPr/>
            <p:nvPr/>
          </p:nvSpPr>
          <p:spPr>
            <a:xfrm>
              <a:off x="7428600" y="4589280"/>
              <a:ext cx="2613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5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0" name="Rectangle 36"/>
            <p:cNvSpPr/>
            <p:nvPr/>
          </p:nvSpPr>
          <p:spPr>
            <a:xfrm>
              <a:off x="7663320" y="4589280"/>
              <a:ext cx="2980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5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1" name="Rectangle 37"/>
            <p:cNvSpPr/>
            <p:nvPr/>
          </p:nvSpPr>
          <p:spPr>
            <a:xfrm>
              <a:off x="7936200" y="4589280"/>
              <a:ext cx="1746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35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2" name="Rectangle 38"/>
            <p:cNvSpPr/>
            <p:nvPr/>
          </p:nvSpPr>
          <p:spPr>
            <a:xfrm>
              <a:off x="8087400" y="4589280"/>
              <a:ext cx="2980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35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3" name="Rectangle 39"/>
            <p:cNvSpPr/>
            <p:nvPr/>
          </p:nvSpPr>
          <p:spPr>
            <a:xfrm>
              <a:off x="8358480" y="4589280"/>
              <a:ext cx="1746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35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4" name="Rectangle 40"/>
            <p:cNvSpPr/>
            <p:nvPr/>
          </p:nvSpPr>
          <p:spPr>
            <a:xfrm>
              <a:off x="8516160" y="4589280"/>
              <a:ext cx="3466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35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5" name="Rectangle 41"/>
            <p:cNvSpPr/>
            <p:nvPr/>
          </p:nvSpPr>
          <p:spPr>
            <a:xfrm>
              <a:off x="7207920" y="5289480"/>
              <a:ext cx="2980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5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6" name="Rectangle 42"/>
            <p:cNvSpPr/>
            <p:nvPr/>
          </p:nvSpPr>
          <p:spPr>
            <a:xfrm>
              <a:off x="7479360" y="5289480"/>
              <a:ext cx="2613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5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7" name="Rectangle 43"/>
            <p:cNvSpPr/>
            <p:nvPr/>
          </p:nvSpPr>
          <p:spPr>
            <a:xfrm>
              <a:off x="7714080" y="5289480"/>
              <a:ext cx="2980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35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8" name="Rectangle 44"/>
            <p:cNvSpPr/>
            <p:nvPr/>
          </p:nvSpPr>
          <p:spPr>
            <a:xfrm>
              <a:off x="7987320" y="5289480"/>
              <a:ext cx="1746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35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9" name="Rectangle 45"/>
            <p:cNvSpPr/>
            <p:nvPr/>
          </p:nvSpPr>
          <p:spPr>
            <a:xfrm>
              <a:off x="8143200" y="5289480"/>
              <a:ext cx="3466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35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330" name="Group 55"/>
          <p:cNvGrpSpPr/>
          <p:nvPr/>
        </p:nvGrpSpPr>
        <p:grpSpPr>
          <a:xfrm>
            <a:off x="173160" y="2443320"/>
            <a:ext cx="8114400" cy="880920"/>
            <a:chOff x="173160" y="2443320"/>
            <a:chExt cx="8114400" cy="880920"/>
          </a:xfrm>
        </p:grpSpPr>
        <p:sp>
          <p:nvSpPr>
            <p:cNvPr id="331" name="Text Box 11"/>
            <p:cNvSpPr/>
            <p:nvPr/>
          </p:nvSpPr>
          <p:spPr>
            <a:xfrm>
              <a:off x="173160" y="2498760"/>
              <a:ext cx="4080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X: input (predictor data): m*n</a:t>
              </a: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Y: output: m*p (p = 1)</a:t>
              </a: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grpSp>
          <p:nvGrpSpPr>
            <p:cNvPr id="332" name="Group 52"/>
            <p:cNvGrpSpPr/>
            <p:nvPr/>
          </p:nvGrpSpPr>
          <p:grpSpPr>
            <a:xfrm>
              <a:off x="5452560" y="2443320"/>
              <a:ext cx="2835000" cy="562320"/>
              <a:chOff x="5452560" y="2443320"/>
              <a:chExt cx="2835000" cy="562320"/>
            </a:xfrm>
          </p:grpSpPr>
          <p:sp>
            <p:nvSpPr>
              <p:cNvPr id="333" name="Rectangle 15"/>
              <p:cNvSpPr/>
              <p:nvPr/>
            </p:nvSpPr>
            <p:spPr>
              <a:xfrm>
                <a:off x="5452560" y="2443320"/>
                <a:ext cx="29808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35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334" name="Rectangle 46"/>
              <p:cNvSpPr/>
              <p:nvPr/>
            </p:nvSpPr>
            <p:spPr>
              <a:xfrm>
                <a:off x="7051320" y="2471760"/>
                <a:ext cx="29808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35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335" name="Rectangle 47"/>
              <p:cNvSpPr/>
              <p:nvPr/>
            </p:nvSpPr>
            <p:spPr>
              <a:xfrm>
                <a:off x="7322760" y="2471760"/>
                <a:ext cx="26136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35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336" name="Rectangle 48"/>
              <p:cNvSpPr/>
              <p:nvPr/>
            </p:nvSpPr>
            <p:spPr>
              <a:xfrm>
                <a:off x="7559280" y="2471760"/>
                <a:ext cx="29808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35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337" name="Rectangle 49"/>
              <p:cNvSpPr/>
              <p:nvPr/>
            </p:nvSpPr>
            <p:spPr>
              <a:xfrm>
                <a:off x="7830360" y="2471760"/>
                <a:ext cx="17460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0" lang="en-US" sz="35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338" name="Rectangle 50"/>
              <p:cNvSpPr/>
              <p:nvPr/>
            </p:nvSpPr>
            <p:spPr>
              <a:xfrm>
                <a:off x="7989480" y="2471760"/>
                <a:ext cx="29808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5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</p:grpSp>
      <p:grpSp>
        <p:nvGrpSpPr>
          <p:cNvPr id="339" name="Group 56"/>
          <p:cNvGrpSpPr/>
          <p:nvPr/>
        </p:nvGrpSpPr>
        <p:grpSpPr>
          <a:xfrm>
            <a:off x="166320" y="3094200"/>
            <a:ext cx="8138520" cy="2042640"/>
            <a:chOff x="166320" y="3094200"/>
            <a:chExt cx="8138520" cy="2042640"/>
          </a:xfrm>
        </p:grpSpPr>
        <p:grpSp>
          <p:nvGrpSpPr>
            <p:cNvPr id="340" name="Group 51"/>
            <p:cNvGrpSpPr/>
            <p:nvPr/>
          </p:nvGrpSpPr>
          <p:grpSpPr>
            <a:xfrm>
              <a:off x="5401800" y="3094200"/>
              <a:ext cx="2903040" cy="1310040"/>
              <a:chOff x="5401800" y="3094200"/>
              <a:chExt cx="2903040" cy="1310040"/>
            </a:xfrm>
          </p:grpSpPr>
          <p:sp>
            <p:nvSpPr>
              <p:cNvPr id="341" name="Rectangle 16"/>
              <p:cNvSpPr/>
              <p:nvPr/>
            </p:nvSpPr>
            <p:spPr>
              <a:xfrm>
                <a:off x="5401800" y="3870360"/>
                <a:ext cx="27216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35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342" name="Rectangle 18"/>
              <p:cNvSpPr/>
              <p:nvPr/>
            </p:nvSpPr>
            <p:spPr>
              <a:xfrm>
                <a:off x="6247800" y="3181320"/>
                <a:ext cx="29808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35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343" name="Line 20"/>
              <p:cNvSpPr/>
              <p:nvPr/>
            </p:nvSpPr>
            <p:spPr>
              <a:xfrm>
                <a:off x="5495760" y="3094200"/>
                <a:ext cx="1800" cy="404640"/>
              </a:xfrm>
              <a:prstGeom prst="line">
                <a:avLst/>
              </a:prstGeom>
              <a:ln cap="rnd"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344" name="Freeform 21"/>
              <p:cNvSpPr/>
              <p:nvPr/>
            </p:nvSpPr>
            <p:spPr>
              <a:xfrm>
                <a:off x="5432400" y="3481200"/>
                <a:ext cx="127080" cy="21096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lnTo>
                      <a:pt x="40" y="133"/>
                    </a:lnTo>
                    <a:lnTo>
                      <a:pt x="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345" name="Rectangle 24"/>
              <p:cNvSpPr/>
              <p:nvPr/>
            </p:nvSpPr>
            <p:spPr>
              <a:xfrm>
                <a:off x="7094160" y="3181320"/>
                <a:ext cx="27216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35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346" name="Rectangle 25"/>
              <p:cNvSpPr/>
              <p:nvPr/>
            </p:nvSpPr>
            <p:spPr>
              <a:xfrm>
                <a:off x="7340400" y="3181320"/>
                <a:ext cx="26136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35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347" name="Rectangle 26"/>
              <p:cNvSpPr/>
              <p:nvPr/>
            </p:nvSpPr>
            <p:spPr>
              <a:xfrm>
                <a:off x="7575120" y="3181320"/>
                <a:ext cx="29808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35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348" name="Rectangle 27"/>
              <p:cNvSpPr/>
              <p:nvPr/>
            </p:nvSpPr>
            <p:spPr>
              <a:xfrm>
                <a:off x="7848000" y="3181320"/>
                <a:ext cx="17460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0" lang="en-US" sz="35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349" name="Rectangle 28"/>
              <p:cNvSpPr/>
              <p:nvPr/>
            </p:nvSpPr>
            <p:spPr>
              <a:xfrm>
                <a:off x="8006760" y="3181320"/>
                <a:ext cx="29808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35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sp>
          <p:nvSpPr>
            <p:cNvPr id="350" name="Text Box 54"/>
            <p:cNvSpPr/>
            <p:nvPr/>
          </p:nvSpPr>
          <p:spPr>
            <a:xfrm>
              <a:off x="166320" y="3579840"/>
              <a:ext cx="5106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ff"/>
                  </a:solidFill>
                  <a:uFillTx/>
                  <a:latin typeface="Arial"/>
                </a:rPr>
                <a:t>SVD or Eigen-value/vector analysis:</a:t>
              </a: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V = matrix of eigen vectors of cov(X)</a:t>
              </a: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T = matrix of latent variables</a:t>
              </a: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k latent variables (LV) used</a:t>
              </a: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3"/>
          <p:cNvSpPr/>
          <p:nvPr/>
        </p:nvSpPr>
        <p:spPr>
          <a:xfrm>
            <a:off x="0" y="6635880"/>
            <a:ext cx="63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09CCD83C-89C4-45D7-99F2-6840D7F9E1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5600" y="189000"/>
            <a:ext cx="8458200" cy="3636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tatistical Significance of the Coefficient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144360" y="728640"/>
            <a:ext cx="890424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7080" bIns="37080" anchor="t">
            <a:noAutofit/>
          </a:bodyPr>
          <a:p>
            <a:pPr marL="289080" indent="-289080">
              <a:lnSpc>
                <a:spcPct val="13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Most coefficients non-zero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Identify the significant coefficients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1" marL="620640" indent="-237960">
              <a:lnSpc>
                <a:spcPct val="13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Estimate standard deviation of the coefficients (</a:t>
            </a:r>
            <a:r>
              <a:rPr b="0" lang="en-US" sz="2400" spc="-1" strike="noStrike">
                <a:solidFill>
                  <a:srgbClr val="8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8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620640" indent="-237960">
              <a:lnSpc>
                <a:spcPct val="13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Approximation (Dash et al. 2004; Pradervand et al., 2006):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141120" y="4106880"/>
            <a:ext cx="900288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7080" bIns="37080" anchor="t">
            <a:noAutofit/>
          </a:bodyPr>
          <a:p>
            <a:pPr lvl="1" marL="620640" indent="-237960">
              <a:lnSpc>
                <a:spcPct val="13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alculate the ratio: 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8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= b</a:t>
            </a:r>
            <a:r>
              <a:rPr b="0" lang="en-US" sz="2400" spc="-1" strike="noStrike" baseline="-25000">
                <a:solidFill>
                  <a:srgbClr val="8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/ </a:t>
            </a:r>
            <a:r>
              <a:rPr b="0" lang="en-US" sz="2400" spc="-1" strike="noStrike">
                <a:solidFill>
                  <a:srgbClr val="8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800000"/>
                </a:solidFill>
                <a:latin typeface="Arial"/>
              </a:rPr>
              <a:t>j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620640" indent="-237960">
              <a:lnSpc>
                <a:spcPct val="13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ignificance (t-) test at 95% confidence level: 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8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1.96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620640" indent="-237960">
              <a:lnSpc>
                <a:spcPct val="13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Null hypothesis true if average 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8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&lt; 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8000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7"/>
              <p:cNvSpPr txBox="1"/>
              <p:nvPr/>
            </p:nvSpPr>
            <p:spPr>
              <a:xfrm>
                <a:off x="1835280" y="3336840"/>
                <a:ext cx="61182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st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ai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4"/>
          <p:cNvSpPr/>
          <p:nvPr/>
        </p:nvSpPr>
        <p:spPr>
          <a:xfrm>
            <a:off x="38160" y="2838600"/>
            <a:ext cx="9105840" cy="1050840"/>
          </a:xfrm>
          <a:prstGeom prst="rect">
            <a:avLst/>
          </a:prstGeom>
          <a:solidFill>
            <a:srgbClr val="e5e5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7240" y="190440"/>
            <a:ext cx="7770960" cy="3621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720" y="726840"/>
            <a:ext cx="8831160" cy="589284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7080" bIns="37080" anchor="t">
            <a:normAutofit/>
          </a:bodyPr>
          <a:p>
            <a:pPr marL="289080" indent="-289080">
              <a:lnSpc>
                <a:spcPct val="12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Basics of data-driven network reconstruction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1" marL="620640" indent="-237960">
              <a:lnSpc>
                <a:spcPct val="12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Least-squares approach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67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Principal component regression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1" marL="620640" indent="-237960">
              <a:lnSpc>
                <a:spcPct val="12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asics and statistical significance testing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Application to phosphoprotein/cytokine modules in macrophage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[with Pradervand et al., 2006]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620640" indent="-237960">
              <a:lnSpc>
                <a:spcPct val="12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A two-part mod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620640" indent="-237960">
              <a:lnSpc>
                <a:spcPct val="12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Results: reduction in false-positive rate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620640" indent="-237960">
              <a:lnSpc>
                <a:spcPct val="12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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0" y="6635880"/>
            <a:ext cx="639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10437CFE-03C2-4DF8-9B8F-694975C54D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no Maurya</dc:creator>
  <dc:description/>
  <dc:language>en-US</dc:language>
  <cp:lastModifiedBy>Maurya, Mano</cp:lastModifiedBy>
  <cp:lastPrinted>2010-10-05T22:24:10Z</cp:lastPrinted>
  <dcterms:modified xsi:type="dcterms:W3CDTF">2011-02-18T22:59:29Z</dcterms:modified>
  <cp:revision>6170</cp:revision>
  <dc:subject/>
  <dc:title>Data-Driven Net Recon</dc:title>
</cp:coreProperties>
</file>