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26C40-D5D7-4A20-8E6E-883A199FC9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8B9CC-C1BC-4353-BEA1-FACA1A9F1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0A3CF-5BDD-4514-A8B2-304562468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533-36F7-4B3C-8A2C-0AC8F04C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A00-2172-4DAA-8181-632757FD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568-BE54-48E0-853D-C90250E2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476-C8A5-4DD4-ACA2-CE747AFE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A09-B5DB-424B-9E1E-AAB331D2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E12-F148-4F86-9E2D-94A5F00E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7AE-3914-4F5B-85C6-5E244A74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4BE5-36B0-4A5A-9E5C-FA0D1C14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854-3D16-4D4D-9BFF-8C0B0314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D1BD-01E9-4652-89A6-7EDEDCF0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3A19-CBE1-4FD2-AD83-24937C99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C1D4-A851-499C-B329-F22C9888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213DE-18ED-478B-8EB3-B8212C5190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6B6CD-6632-4F48-9DF2-785429624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8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OMPARISON OF STATISTICAL AND OPTIMIZATION-BASED METHODS FOR DATA-DRIVEN NETWORK RECONSTRUCTION OF BIOLOGICAL SYSTE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Behrang Asad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Mano Maury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Daniel Tartakovs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Shankar Subramani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University of California, San Di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logoUCSD.gif"/>
          <p:cNvPicPr/>
          <p:nvPr/>
        </p:nvPicPr>
        <p:blipFill>
          <a:blip r:embed="rId1"/>
          <a:stretch/>
        </p:blipFill>
        <p:spPr>
          <a:xfrm>
            <a:off x="8369280" y="6095880"/>
            <a:ext cx="774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SON OF PCR, LASSO, AND L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228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Why these method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PCR and PLS from the same family: dimensionality reduction (linear feature extrac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ASSO: Least squares with 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-1 </a:t>
            </a:r>
            <a:r>
              <a:rPr b="0" lang="en-US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norm constraint on the coeffici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MI: from control the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ased on L-∞ n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bility to add linear constrai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11" descr="logoUCSD.gif"/>
          <p:cNvPicPr/>
          <p:nvPr/>
        </p:nvPicPr>
        <p:blipFill>
          <a:blip r:embed="rId1"/>
          <a:stretch/>
        </p:blipFill>
        <p:spPr>
          <a:xfrm>
            <a:off x="8369280" y="6095880"/>
            <a:ext cx="774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SULTS: DATA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Data sets for benchmarking: Two data 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24"/>
              </a:spcBef>
              <a:buClr>
                <a:srgbClr val="1f497d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First set: experimental data measured on macrophage cells (Phosphoprotein (PP) vs Cytokine)</a:t>
            </a:r>
            <a:r>
              <a:rPr b="0" lang="en-US" sz="2500" spc="-1" strike="noStrike" baseline="30000">
                <a:solidFill>
                  <a:srgbClr val="1f497d"/>
                </a:solidFill>
                <a:latin typeface="Times New Roman"/>
                <a:ea typeface="Times New Roman"/>
              </a:rPr>
              <a:t>*</a:t>
            </a:r>
            <a:r>
              <a:rPr b="0" lang="en-US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24"/>
              </a:spcBef>
              <a:buClr>
                <a:srgbClr val="1f497d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24"/>
              </a:spcBef>
              <a:buClr>
                <a:srgbClr val="1f497d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econd sets consist of synthetic data generated in Matlab. We build the model using 80% of the data-set (called training set) and use 20% of data-set to validate the model (called test set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logoUCSD.gif"/>
          <p:cNvPicPr/>
          <p:nvPr/>
        </p:nvPicPr>
        <p:blipFill>
          <a:blip r:embed="rId1"/>
          <a:stretch/>
        </p:blipFill>
        <p:spPr>
          <a:xfrm>
            <a:off x="8369280" y="6095880"/>
            <a:ext cx="774720" cy="762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1295280" y="6095880"/>
            <a:ext cx="731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* [Pradervand, S., M.R. Maurya, and S. Subramaniam, Genome Biology, 2006. </a:t>
            </a:r>
            <a:r>
              <a:rPr b="1" i="1" lang="en-US" sz="1200" spc="-1" strike="noStrike">
                <a:solidFill>
                  <a:srgbClr val="1f497d"/>
                </a:solidFill>
                <a:latin typeface="Calibri"/>
              </a:rPr>
              <a:t>7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(2): p. R11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osphoprotein-Cytokine Data S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chematic representation of Phosphoprotein (PP) vs Cytok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57200" y="2411280"/>
            <a:ext cx="3943440" cy="37148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4648320" y="2411280"/>
            <a:ext cx="419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1f497d"/>
              </a:buClr>
              <a:buFont typeface="Time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ignals were transmitted through 22 recorded signaling proteins and other pathways (unmeasured pathway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1f497d"/>
              </a:buClr>
              <a:buFont typeface="Time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1f497d"/>
              </a:buClr>
              <a:buFont typeface="Time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nly measured pathways contributed    to the analy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wn Arrow 8"/>
          <p:cNvSpPr/>
          <p:nvPr/>
        </p:nvSpPr>
        <p:spPr>
          <a:xfrm>
            <a:off x="1257480" y="3276720"/>
            <a:ext cx="380880" cy="5331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own Arrow 9"/>
          <p:cNvSpPr/>
          <p:nvPr/>
        </p:nvSpPr>
        <p:spPr>
          <a:xfrm>
            <a:off x="1257480" y="4800600"/>
            <a:ext cx="380880" cy="533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6126120"/>
            <a:ext cx="731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Schematic graphs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[Pradervand, S., M.R. Maurya, and S. Subramaniam, Genome Biology, 2006. </a:t>
            </a:r>
            <a:r>
              <a:rPr b="1" i="1" lang="en-US" sz="1200" spc="-1" strike="noStrike">
                <a:solidFill>
                  <a:srgbClr val="1f497d"/>
                </a:solidFill>
                <a:latin typeface="Calibri"/>
              </a:rPr>
              <a:t>7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(2): p. R11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3"/>
          <p:cNvSpPr/>
          <p:nvPr/>
        </p:nvSpPr>
        <p:spPr>
          <a:xfrm>
            <a:off x="663480" y="3848040"/>
            <a:ext cx="3105360" cy="2190960"/>
          </a:xfrm>
          <a:prstGeom prst="pie">
            <a:avLst/>
          </a:prstGeom>
          <a:solidFill>
            <a:srgbClr val="4f81bd">
              <a:alpha val="3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autoRev="1" nodeType="after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2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  <p:set>
                                      <p:cBhvr>
                                        <p:cTn id="3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uning parameter for LMI and LAS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tuning parameters in LASSO and LMI (the threshold parameters </a:t>
            </a:r>
            <a:r>
              <a:rPr b="0" i="1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r</a:t>
            </a:r>
            <a:r>
              <a:rPr b="0" i="1" lang="en-US" sz="16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LMI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, respectively) were identified through </a:t>
            </a:r>
            <a:r>
              <a:rPr b="0" i="1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k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fold (with </a:t>
            </a:r>
            <a:r>
              <a:rPr b="0" i="1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k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= 10) cross-validation on associated datase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6" descr="logoUCSD.gif"/>
          <p:cNvPicPr/>
          <p:nvPr/>
        </p:nvPicPr>
        <p:blipFill>
          <a:blip r:embed="rId1"/>
          <a:stretch/>
        </p:blipFill>
        <p:spPr>
          <a:xfrm>
            <a:off x="8369280" y="6095880"/>
            <a:ext cx="774720" cy="7621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1752480" y="5953680"/>
            <a:ext cx="342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  <a:ea typeface="Calibri"/>
              </a:rPr>
              <a:t>Validation error versus selection threshold </a:t>
            </a:r>
            <a:r>
              <a:rPr b="0" i="1" lang="en-US" sz="1200" spc="-1" strike="noStrike">
                <a:solidFill>
                  <a:srgbClr val="1f497d"/>
                </a:solidFill>
                <a:latin typeface="Times New Roman"/>
                <a:ea typeface="Calibri"/>
              </a:rPr>
              <a:t>t</a:t>
            </a:r>
            <a:r>
              <a:rPr b="0" lang="en-US" sz="1200" spc="-1" strike="noStrike">
                <a:solidFill>
                  <a:srgbClr val="1f497d"/>
                </a:solidFill>
                <a:latin typeface="Times New Roman"/>
                <a:ea typeface="Calibri"/>
              </a:rPr>
              <a:t> for LASSO on synthetic data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5410080" y="3105000"/>
            <a:ext cx="32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ptimal values of the tuning parameters in LASSO: 0.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ptimal values of the tuning parameters in LMI: 0.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optimal-t-lasso-fine-err"/>
          <p:cNvPicPr/>
          <p:nvPr/>
        </p:nvPicPr>
        <p:blipFill>
          <a:blip r:embed="rId2"/>
          <a:stretch/>
        </p:blipFill>
        <p:spPr>
          <a:xfrm>
            <a:off x="1371600" y="2992320"/>
            <a:ext cx="364644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omparison on PP/Cytokine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PP/Cytokine data set has 22 inputs and 6 outputs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RMSE of the resulting model by each method was calculated for all the output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S with significant inputs tends to retain lesser number of inputs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MI tends to retain more inputs</a:t>
            </a:r>
            <a:r>
              <a:rPr b="0" i="1" lang="en-US" sz="1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6" descr="logoUCSD.gif"/>
          <p:cNvPicPr/>
          <p:nvPr/>
        </p:nvPicPr>
        <p:blipFill>
          <a:blip r:embed="rId1"/>
          <a:stretch/>
        </p:blipFill>
        <p:spPr>
          <a:xfrm>
            <a:off x="8369280" y="6095880"/>
            <a:ext cx="774720" cy="76212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0"/>
          <p:cNvGrpSpPr/>
          <p:nvPr/>
        </p:nvGrpSpPr>
        <p:grpSpPr>
          <a:xfrm>
            <a:off x="1716120" y="3352680"/>
            <a:ext cx="2108160" cy="1098720"/>
            <a:chOff x="1716120" y="3352680"/>
            <a:chExt cx="2108160" cy="1098720"/>
          </a:xfrm>
        </p:grpSpPr>
        <p:sp>
          <p:nvSpPr>
            <p:cNvPr id="166" name="Rounded Rectangle 8"/>
            <p:cNvSpPr/>
            <p:nvPr/>
          </p:nvSpPr>
          <p:spPr>
            <a:xfrm>
              <a:off x="1716120" y="3352680"/>
              <a:ext cx="527040" cy="1098720"/>
            </a:xfrm>
            <a:custGeom>
              <a:avLst/>
              <a:gdLst>
                <a:gd name="textAreaLeft" fmla="*/ 25560 w 527040"/>
                <a:gd name="textAreaRight" fmla="*/ 501480 w 527040"/>
                <a:gd name="textAreaTop" fmla="*/ 25560 h 1098720"/>
                <a:gd name="textAreaBottom" fmla="*/ 1073160 h 1098720"/>
              </a:gdLst>
              <a:ahLst/>
              <a:rect l="textAreaLeft" t="textAreaTop" r="textAreaRight" b="textAreaBottom"/>
              <a:pathLst>
                <a:path w="21600" h="45014">
                  <a:moveTo>
                    <a:pt x="3600" y="0"/>
                  </a:moveTo>
                  <a:arcTo wR="3600" hR="3600" stAng="16200000" swAng="-5400000"/>
                  <a:lnTo>
                    <a:pt x="0" y="41414"/>
                  </a:lnTo>
                  <a:arcTo wR="3600" hR="3600" stAng="10800000" swAng="-5400000"/>
                  <a:lnTo>
                    <a:pt x="18000" y="450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ounded Rectangle 9"/>
            <p:cNvSpPr/>
            <p:nvPr/>
          </p:nvSpPr>
          <p:spPr>
            <a:xfrm>
              <a:off x="3297240" y="3352680"/>
              <a:ext cx="527040" cy="1098720"/>
            </a:xfrm>
            <a:custGeom>
              <a:avLst/>
              <a:gdLst>
                <a:gd name="textAreaLeft" fmla="*/ 25560 w 527040"/>
                <a:gd name="textAreaRight" fmla="*/ 501480 w 527040"/>
                <a:gd name="textAreaTop" fmla="*/ 25560 h 1098720"/>
                <a:gd name="textAreaBottom" fmla="*/ 1073160 h 1098720"/>
              </a:gdLst>
              <a:ahLst/>
              <a:rect l="textAreaLeft" t="textAreaTop" r="textAreaRight" b="textAreaBottom"/>
              <a:pathLst>
                <a:path w="21600" h="45014">
                  <a:moveTo>
                    <a:pt x="3600" y="0"/>
                  </a:moveTo>
                  <a:arcTo wR="3600" hR="3600" stAng="16200000" swAng="-5400000"/>
                  <a:lnTo>
                    <a:pt x="0" y="41414"/>
                  </a:lnTo>
                  <a:arcTo wR="3600" hR="3600" stAng="10800000" swAng="-5400000"/>
                  <a:lnTo>
                    <a:pt x="18000" y="450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8" name=""/>
          <p:cNvGraphicFramePr/>
          <p:nvPr/>
        </p:nvGraphicFramePr>
        <p:xfrm>
          <a:off x="685800" y="3124080"/>
          <a:ext cx="3657600" cy="1327320"/>
        </p:xfrm>
        <a:graphic>
          <a:graphicData uri="http://schemas.openxmlformats.org/drawingml/2006/table">
            <a:tbl>
              <a:tblPr/>
              <a:tblGrid>
                <a:gridCol w="522360"/>
                <a:gridCol w="522360"/>
                <a:gridCol w="522000"/>
                <a:gridCol w="524160"/>
                <a:gridCol w="522000"/>
                <a:gridCol w="522360"/>
                <a:gridCol w="522360"/>
              </a:tblGrid>
              <a:tr h="2210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utp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S_si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S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11"/>
          <p:cNvSpPr/>
          <p:nvPr/>
        </p:nvSpPr>
        <p:spPr>
          <a:xfrm>
            <a:off x="528480" y="2867040"/>
            <a:ext cx="411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RMSE on training set for different methods (PP/cytokine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029200" y="3133800"/>
          <a:ext cx="3200400" cy="1768320"/>
        </p:xfrm>
        <a:graphic>
          <a:graphicData uri="http://schemas.openxmlformats.org/drawingml/2006/table">
            <a:tbl>
              <a:tblPr/>
              <a:tblGrid>
                <a:gridCol w="639720"/>
                <a:gridCol w="639720"/>
                <a:gridCol w="641520"/>
                <a:gridCol w="639720"/>
                <a:gridCol w="639720"/>
              </a:tblGrid>
              <a:tr h="2210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utp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S_si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S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-CS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L-1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L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L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IP-1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A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NF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ounded Rectangle 14"/>
          <p:cNvSpPr/>
          <p:nvPr/>
        </p:nvSpPr>
        <p:spPr>
          <a:xfrm>
            <a:off x="5675400" y="3352680"/>
            <a:ext cx="609480" cy="154008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1540080"/>
              <a:gd name="textAreaBottom" fmla="*/ 1510560 h 1540080"/>
            </a:gdLst>
            <a:ahLst/>
            <a:rect l="textAreaLeft" t="textAreaTop" r="textAreaRight" b="textAreaBottom"/>
            <a:pathLst>
              <a:path w="21600" h="54561">
                <a:moveTo>
                  <a:pt x="3600" y="0"/>
                </a:moveTo>
                <a:arcTo wR="3600" hR="3600" stAng="16200000" swAng="-5400000"/>
                <a:lnTo>
                  <a:pt x="0" y="50961"/>
                </a:lnTo>
                <a:arcTo wR="3600" hR="3600" stAng="10800000" swAng="-5400000"/>
                <a:lnTo>
                  <a:pt x="18000" y="545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12"/>
          <p:cNvSpPr/>
          <p:nvPr/>
        </p:nvSpPr>
        <p:spPr>
          <a:xfrm>
            <a:off x="7620120" y="3373560"/>
            <a:ext cx="609480" cy="153972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1539720"/>
              <a:gd name="textAreaBottom" fmla="*/ 1510200 h 1539720"/>
            </a:gdLst>
            <a:ahLst/>
            <a:rect l="textAreaLeft" t="textAreaTop" r="textAreaRight" b="textAreaBottom"/>
            <a:pathLst>
              <a:path w="21600" h="54548">
                <a:moveTo>
                  <a:pt x="3600" y="0"/>
                </a:moveTo>
                <a:arcTo wR="3600" hR="3600" stAng="16200000" swAng="-5400000"/>
                <a:lnTo>
                  <a:pt x="0" y="50948"/>
                </a:lnTo>
                <a:arcTo wR="3600" hR="3600" stAng="10800000" swAng="-5400000"/>
                <a:lnTo>
                  <a:pt x="18000" y="545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omparison on synthetic noisy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methods are applied on synthetic data with </a:t>
            </a: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2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inputs and </a:t>
            </a: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output. The true coefficients for the inputs (about </a:t>
            </a: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/3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rd) are made zero to test the methods if they identify them as insignifica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ffect of nois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Four outputs with 5, 10, 20 and 40% noise levels, respectively, are generated from the noise-free (true) outpu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ffect of noise 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ree outputs with White, t-distributed, and uniform noise types, respectively are generated from the noise-free (true)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8" descr="logoUCSD.gif"/>
          <p:cNvPicPr/>
          <p:nvPr/>
        </p:nvPicPr>
        <p:blipFill>
          <a:blip r:embed="rId1"/>
          <a:stretch/>
        </p:blipFill>
        <p:spPr>
          <a:xfrm>
            <a:off x="8369280" y="6095880"/>
            <a:ext cx="774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04920" y="388620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11984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S and LMI perform better than PCR and LAS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040280" y="1884240"/>
            <a:ext cx="380880" cy="196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1447920"/>
          <a:ext cx="4114800" cy="2417760"/>
        </p:xfrm>
        <a:graphic>
          <a:graphicData uri="http://schemas.openxmlformats.org/drawingml/2006/table">
            <a:tbl>
              <a:tblPr/>
              <a:tblGrid>
                <a:gridCol w="2570040"/>
                <a:gridCol w="420840"/>
                <a:gridCol w="388800"/>
                <a:gridCol w="366840"/>
                <a:gridCol w="368280"/>
              </a:tblGrid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oise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 gridSpan="5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n training 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S_si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S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n validation 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S_si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S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11"/>
          <p:cNvSpPr/>
          <p:nvPr/>
        </p:nvSpPr>
        <p:spPr>
          <a:xfrm>
            <a:off x="304920" y="121932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RMSE on all data: methods vs. noise level (synthetic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3300480" y="1892160"/>
            <a:ext cx="380880" cy="196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562720" y="1600200"/>
          <a:ext cx="2590560" cy="3517920"/>
        </p:xfrm>
        <a:graphic>
          <a:graphicData uri="http://schemas.openxmlformats.org/drawingml/2006/table">
            <a:tbl>
              <a:tblPr/>
              <a:tblGrid>
                <a:gridCol w="517320"/>
                <a:gridCol w="519120"/>
                <a:gridCol w="517680"/>
                <a:gridCol w="519120"/>
                <a:gridCol w="517320"/>
              </a:tblGrid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o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C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ens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pe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SS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C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ens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pe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M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C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ens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pe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 txBox="1"/>
          <p:nvPr/>
        </p:nvSpPr>
        <p:spPr>
          <a:xfrm>
            <a:off x="4724280" y="1279440"/>
            <a:ext cx="4191120" cy="2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  <a:ea typeface="Calibri"/>
              </a:rPr>
              <a:t>Accuracy, Sensitivity, and Specificity of methods for white no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2" descr="Simdata-noise-effect_LMI_val"/>
          <p:cNvPicPr/>
          <p:nvPr/>
        </p:nvPicPr>
        <p:blipFill>
          <a:blip r:embed="rId1"/>
          <a:stretch/>
        </p:blipFill>
        <p:spPr>
          <a:xfrm>
            <a:off x="304920" y="4191120"/>
            <a:ext cx="2438280" cy="24843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6"/>
          <p:cNvSpPr/>
          <p:nvPr/>
        </p:nvSpPr>
        <p:spPr>
          <a:xfrm>
            <a:off x="5562720" y="4886280"/>
            <a:ext cx="2590560" cy="225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5562720" y="3794040"/>
            <a:ext cx="2590560" cy="223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5562720" y="2697120"/>
            <a:ext cx="2590560" cy="223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5257800" y="5181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11984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ASSO and LMI perform better than P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"/>
          <p:cNvSpPr/>
          <p:nvPr/>
        </p:nvSpPr>
        <p:spPr>
          <a:xfrm>
            <a:off x="304920" y="1320840"/>
            <a:ext cx="73152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61880" indent="-1807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46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Calibri"/>
              </a:rPr>
              <a:t>Variability between realizations of data with white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807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46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80720" algn="just"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Rtimes"/>
                <a:ea typeface="Times New Roman"/>
              </a:rPr>
              <a:t>PCR, LASSO, and LMI—are used to identify significant predictors for 1000 input-output pai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80720" algn="just"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80720" algn="just"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Rtimes"/>
                <a:ea typeface="Times New Roman"/>
              </a:rPr>
              <a:t>Histograms of the coefficients in the three significant predictors common to the three method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8" descr=""/>
          <p:cNvPicPr/>
          <p:nvPr/>
        </p:nvPicPr>
        <p:blipFill>
          <a:blip r:embed="rId1"/>
          <a:stretch/>
        </p:blipFill>
        <p:spPr>
          <a:xfrm>
            <a:off x="838080" y="3408480"/>
            <a:ext cx="4114800" cy="303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5105520" y="3809880"/>
          <a:ext cx="3903480" cy="2637000"/>
        </p:xfrm>
        <a:graphic>
          <a:graphicData uri="http://schemas.openxmlformats.org/drawingml/2006/table">
            <a:tbl>
              <a:tblPr/>
              <a:tblGrid>
                <a:gridCol w="690480"/>
                <a:gridCol w="1141200"/>
                <a:gridCol w="690840"/>
                <a:gridCol w="690480"/>
                <a:gridCol w="690480"/>
              </a:tblGrid>
              <a:tr h="239760"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edictor #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rue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3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3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rowSpan="2"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rac. Err. in m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S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 rowSpan="2"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rac. Err. in m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3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rac. Err. in m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5099040" y="335196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  <a:ea typeface="Calibri"/>
              </a:rPr>
              <a:t>Mean and standard deviation in the histograms of the coefficients computed with PCR, LASSO, and L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791320" y="5950080"/>
            <a:ext cx="3217680" cy="264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3"/>
          <p:cNvSpPr/>
          <p:nvPr/>
        </p:nvSpPr>
        <p:spPr>
          <a:xfrm>
            <a:off x="5791320" y="6215040"/>
            <a:ext cx="3217680" cy="274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1"/>
          <p:cNvSpPr/>
          <p:nvPr/>
        </p:nvSpPr>
        <p:spPr>
          <a:xfrm>
            <a:off x="304920" y="1206000"/>
            <a:ext cx="73152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61880" indent="-1807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46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ffect of noise distributions of (type of noise in) the outpu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80720" algn="just"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white noise (noise type 1), </a:t>
            </a:r>
            <a:r>
              <a:rPr b="0" i="1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distributed noise (noise type 2), and shifted uniform noise (noise type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807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46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685800" y="2133720"/>
            <a:ext cx="348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Fractional error in estimating the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62120" y="2428920"/>
          <a:ext cx="3216240" cy="2857320"/>
        </p:xfrm>
        <a:graphic>
          <a:graphicData uri="http://schemas.openxmlformats.org/drawingml/2006/table">
            <a:tbl>
              <a:tblPr/>
              <a:tblGrid>
                <a:gridCol w="1544400"/>
                <a:gridCol w="373320"/>
                <a:gridCol w="374400"/>
                <a:gridCol w="373320"/>
                <a:gridCol w="550800"/>
              </a:tblGrid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oise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hite no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S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oise from t-distrib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S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niform noise with mean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S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029200" y="2873520"/>
          <a:ext cx="3371760" cy="3736800"/>
        </p:xfrm>
        <a:graphic>
          <a:graphicData uri="http://schemas.openxmlformats.org/drawingml/2006/table">
            <a:tbl>
              <a:tblPr/>
              <a:tblGrid>
                <a:gridCol w="674640"/>
                <a:gridCol w="673200"/>
                <a:gridCol w="674640"/>
                <a:gridCol w="674640"/>
                <a:gridCol w="674640"/>
              </a:tblGrid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oise type =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oise type =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oise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C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ens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pe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SS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C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ens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pe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M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C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ens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pe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11"/>
          <p:cNvSpPr/>
          <p:nvPr/>
        </p:nvSpPr>
        <p:spPr>
          <a:xfrm>
            <a:off x="5029200" y="2227320"/>
            <a:ext cx="380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Accuracy, Sensitivity, and Specificity of methods for noise with t-distribution (noise-type = 2) and uniform distribution (noise-type = 3) (</a:t>
            </a:r>
            <a:r>
              <a:rPr b="0" i="1" lang="en-US" sz="1200" spc="-1" strike="noStrike">
                <a:solidFill>
                  <a:srgbClr val="1f497d"/>
                </a:solidFill>
                <a:latin typeface="Arial"/>
              </a:rPr>
              <a:t>m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 = 100, </a:t>
            </a:r>
            <a:r>
              <a:rPr b="0" i="1" lang="en-US" sz="1200" spc="-1" strike="noStrike">
                <a:solidFill>
                  <a:srgbClr val="1f497d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 = 2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 flipV="1">
            <a:off x="5676840" y="4170240"/>
            <a:ext cx="2743200" cy="268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2293920" y="3954600"/>
            <a:ext cx="1684440" cy="250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2293920" y="3076560"/>
            <a:ext cx="1684440" cy="250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2293920" y="4838760"/>
            <a:ext cx="168444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 flipV="1">
            <a:off x="5676840" y="5267160"/>
            <a:ext cx="2743200" cy="268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8"/>
          <p:cNvSpPr/>
          <p:nvPr/>
        </p:nvSpPr>
        <p:spPr>
          <a:xfrm flipV="1">
            <a:off x="5676840" y="6369840"/>
            <a:ext cx="2743200" cy="268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76320" y="590868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ccuracy and </a:t>
            </a:r>
            <a:r>
              <a:rPr b="1" i="1" lang="en-US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of PCR increase with the noise level, but  their counterparts for LMI and LASSO de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eft Arrow 22"/>
          <p:cNvSpPr/>
          <p:nvPr/>
        </p:nvSpPr>
        <p:spPr>
          <a:xfrm>
            <a:off x="4251240" y="5962680"/>
            <a:ext cx="701640" cy="407880"/>
          </a:xfrm>
          <a:prstGeom prst="lef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52280" y="5330880"/>
            <a:ext cx="348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SO exhibits the smallest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4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6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"/>
          <p:cNvSpPr/>
          <p:nvPr/>
        </p:nvSpPr>
        <p:spPr>
          <a:xfrm>
            <a:off x="304920" y="1206000"/>
            <a:ext cx="73152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61880" indent="-1807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46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ffect of noise distributions of (type of noise in) the outpu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80720" algn="just">
              <a:lnSpc>
                <a:spcPct val="100000"/>
              </a:lnSpc>
              <a:tabLst>
                <a:tab algn="l" pos="0"/>
                <a:tab algn="l" pos="228600"/>
                <a:tab algn="l" pos="46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white noise (noise type 1), </a:t>
            </a:r>
            <a:r>
              <a:rPr b="0" i="1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distributed noise (noise type 2), and shifted uniform noise (noise type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8072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46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09480" y="2916360"/>
          <a:ext cx="3372120" cy="3736800"/>
        </p:xfrm>
        <a:graphic>
          <a:graphicData uri="http://schemas.openxmlformats.org/drawingml/2006/table">
            <a:tbl>
              <a:tblPr/>
              <a:tblGrid>
                <a:gridCol w="674640"/>
                <a:gridCol w="673200"/>
                <a:gridCol w="674640"/>
                <a:gridCol w="674640"/>
                <a:gridCol w="675000"/>
              </a:tblGrid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oise type =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oise type =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oise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C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ens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pe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SS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C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ens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pe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M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C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ens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pe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Rectangle 11"/>
          <p:cNvSpPr/>
          <p:nvPr/>
        </p:nvSpPr>
        <p:spPr>
          <a:xfrm>
            <a:off x="609480" y="222732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ccuracy, Sensitivity, and Specificity of methods for noise with t-distribution (noise-type = 2) and uniform distribution (noise-type = 3) (</a:t>
            </a:r>
            <a:r>
              <a:rPr b="0" i="1" lang="en-US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m</a:t>
            </a:r>
            <a:r>
              <a:rPr b="0" lang="en-US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= 100, </a:t>
            </a:r>
            <a:r>
              <a:rPr b="0" i="1" lang="en-US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n</a:t>
            </a:r>
            <a:r>
              <a:rPr b="0" lang="en-US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= 2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 flipV="1">
            <a:off x="1255680" y="3556800"/>
            <a:ext cx="2743200" cy="268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7"/>
          <p:cNvSpPr/>
          <p:nvPr/>
        </p:nvSpPr>
        <p:spPr>
          <a:xfrm flipV="1">
            <a:off x="1271520" y="4660200"/>
            <a:ext cx="2743200" cy="268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 flipV="1">
            <a:off x="1268280" y="5753880"/>
            <a:ext cx="2743200" cy="268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4876920" y="4519440"/>
            <a:ext cx="4343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ccuracy of LASSO does not change with the noise level,  but its counterparts for LMI and LASSO de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eft Arrow 22"/>
          <p:cNvSpPr/>
          <p:nvPr/>
        </p:nvSpPr>
        <p:spPr>
          <a:xfrm>
            <a:off x="4175280" y="4648320"/>
            <a:ext cx="701640" cy="407880"/>
          </a:xfrm>
          <a:prstGeom prst="lef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Metho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476"/>
              </a:spcBef>
              <a:buClr>
                <a:srgbClr val="1f497d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S: least squar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476"/>
              </a:spcBef>
              <a:buClr>
                <a:srgbClr val="1f497d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PCA/PC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476"/>
              </a:spcBef>
              <a:buClr>
                <a:srgbClr val="1f497d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ASS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476"/>
              </a:spcBef>
              <a:buClr>
                <a:srgbClr val="1f497d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M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Metr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Result of comparison of metho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xperimental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ynthetic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logoUCSD.gif"/>
          <p:cNvPicPr/>
          <p:nvPr/>
        </p:nvPicPr>
        <p:blipFill>
          <a:blip r:embed="rId1"/>
          <a:stretch/>
        </p:blipFill>
        <p:spPr>
          <a:xfrm>
            <a:off x="8369280" y="6095880"/>
            <a:ext cx="774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ffect of missing dat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outputs from the both real and synthetic data (with 20% noise contamination) is chosen. 0-60% data, in increments of 5%, was assumed to be missing. The remaining data was used for training and RMSE was computed on the test (missing) da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is was repeated 100 times by choosing the selected fraction of data randomly, and average RMSE was compu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10" descr="logoUCSD.gif"/>
          <p:cNvPicPr/>
          <p:nvPr/>
        </p:nvPicPr>
        <p:blipFill>
          <a:blip r:embed="rId1"/>
          <a:stretch/>
        </p:blipFill>
        <p:spPr>
          <a:xfrm>
            <a:off x="8369280" y="6095880"/>
            <a:ext cx="774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ffect of missing dat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RMSE versus percentage of missing data f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different methods on PP/Cytokine 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5956200" y="3657600"/>
            <a:ext cx="2284560" cy="48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missing_PP_Cytokine_final"/>
          <p:cNvPicPr/>
          <p:nvPr/>
        </p:nvPicPr>
        <p:blipFill>
          <a:blip r:embed="rId1"/>
          <a:stretch/>
        </p:blipFill>
        <p:spPr>
          <a:xfrm>
            <a:off x="157320" y="2286000"/>
            <a:ext cx="4414680" cy="353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5334120" y="3038400"/>
          <a:ext cx="2892240" cy="1293840"/>
        </p:xfrm>
        <a:graphic>
          <a:graphicData uri="http://schemas.openxmlformats.org/drawingml/2006/table">
            <a:tbl>
              <a:tblPr/>
              <a:tblGrid>
                <a:gridCol w="615960"/>
                <a:gridCol w="1263600"/>
                <a:gridCol w="1012680"/>
              </a:tblGrid>
              <a:tr h="4266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ractional standard dev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ractional max dev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S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omparison of outcome of different methods on the real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Different methods identified unique sets of common and distinct predictors 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for each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Graphical illustration of methods PCR, LASSO, and LMI in detection of significant predictors for output IL-6 in PP/cytokine experimental data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914400" y="2425680"/>
            <a:ext cx="3956040" cy="359424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5562720" y="3129120"/>
            <a:ext cx="243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nly the PCR method detects the true input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zone I provides validation and it highlights the common output of all the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ccuracy, G, and RMSE for different noise level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With increasing noise level, accuracy and </a:t>
            </a:r>
            <a:r>
              <a:rPr b="0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of LMI and LASSO decreases 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more rapidly with increasing noise level than accuracy and </a:t>
            </a:r>
            <a:r>
              <a:rPr b="0" i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of PCR do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With respect to RMSE, LMI gets the best score (0.94) and LASSO gets the 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worst score (0.56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Scores are computed as RMSE</a:t>
            </a:r>
            <a:r>
              <a:rPr b="0" lang="en-US" sz="14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method</a:t>
            </a:r>
            <a:r>
              <a:rPr b="0" lang="en-US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/ RMSE</a:t>
            </a:r>
            <a:r>
              <a:rPr b="0" lang="en-US" sz="14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LS</a:t>
            </a:r>
            <a:r>
              <a:rPr b="0" lang="en-US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omparison with respect to the distribution of estimated coefficient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MI method performs bes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numeric values of the coefficients obtained from LMI 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method are least affected due to the presence of noise as compared 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o other metho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ompared four methods for reconstruction of networks (LS, PCR, LASSO, and LMI) on two different data-se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least-squares method has lowest RM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ther three methods better in capturing most of the true inpu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PCR better for the synthetic data with increasing noi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PCR most robust for both the real data and the synthetic data with medium level of noi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MI method performs best according to comparison with respect to the distribution of estimated coeffic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ASSO is the most robust method in terms of RMSE</a:t>
            </a:r>
            <a:r>
              <a:rPr b="0" lang="en-US" sz="24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val 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when a portion of the dataset is missing/unavail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3" descr="logoUCSD.gif"/>
          <p:cNvPicPr/>
          <p:nvPr/>
        </p:nvPicPr>
        <p:blipFill>
          <a:blip r:embed="rId1"/>
          <a:stretch/>
        </p:blipFill>
        <p:spPr>
          <a:xfrm>
            <a:off x="8369280" y="6095880"/>
            <a:ext cx="774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National Heart, Lung and Blood Institute (NHLBI) grant 5 R33 HL087375-02 (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National Science Foundation (NSF) grant DBI-0641037 (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NSF collaborative grant DBI-0835541 (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3" descr="logoUCSD.gif"/>
          <p:cNvPicPr/>
          <p:nvPr/>
        </p:nvPicPr>
        <p:blipFill>
          <a:blip r:embed="rId1"/>
          <a:stretch/>
        </p:blipFill>
        <p:spPr>
          <a:xfrm>
            <a:off x="8369280" y="6095880"/>
            <a:ext cx="774720" cy="762120"/>
          </a:xfrm>
          <a:prstGeom prst="rect">
            <a:avLst/>
          </a:prstGeom>
          <a:ln w="0">
            <a:noFill/>
          </a:ln>
        </p:spPr>
      </p:pic>
      <p:sp>
        <p:nvSpPr>
          <p:cNvPr id="240" name="Content Placeholder 2"/>
          <p:cNvSpPr/>
          <p:nvPr/>
        </p:nvSpPr>
        <p:spPr>
          <a:xfrm>
            <a:off x="304920" y="41148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1f497d"/>
                </a:solidFill>
                <a:latin typeface="Calibri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Data-driven network re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Deriving relationships between input/output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Represent the relationships as a 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pplied in many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hemometr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i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ollection of different types of data related to signaling, gene regulatory, and metabolic path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logoUCSD.gif"/>
          <p:cNvPicPr/>
          <p:nvPr/>
        </p:nvPicPr>
        <p:blipFill>
          <a:blip r:embed="rId1"/>
          <a:stretch/>
        </p:blipFill>
        <p:spPr>
          <a:xfrm>
            <a:off x="8369280" y="6095880"/>
            <a:ext cx="7747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943920" y="6324480"/>
            <a:ext cx="68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* [Il-Gyo Chong, Chi-Hyuck Jun, Chemometrics and Intelligent Laboratory Systems, 2005,78,103-11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Various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ptimization-based approaches (leas-squar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Dimensionality reduction methods (PCR and P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Partial-correlation-relat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ayesian networks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Hybrid methods (LMI and LASSO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tatic, vs. dynamic networks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ome efforts to compare the performance of various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More systematic comparison needed with respect to properties of the data such as noise, size, missing da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logoUCSD.gif"/>
          <p:cNvPicPr/>
          <p:nvPr/>
        </p:nvPicPr>
        <p:blipFill>
          <a:blip r:embed="rId1"/>
          <a:stretch/>
        </p:blipFill>
        <p:spPr>
          <a:xfrm>
            <a:off x="8369280" y="6095880"/>
            <a:ext cx="774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et  </a:t>
            </a:r>
            <a:r>
              <a:rPr b="1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X</a:t>
            </a:r>
            <a:r>
              <a:rPr b="0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be an input data set (each column normalized to zero-mean and unit standard deviation) and </a:t>
            </a:r>
            <a:r>
              <a:rPr b="1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</a:t>
            </a:r>
            <a:r>
              <a:rPr b="0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(mean-centered) be the corresponding observed response (output) in all metho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tandard least-squares</a:t>
            </a:r>
            <a:r>
              <a:rPr b="1" lang="en-CA" sz="2200" spc="-1" strike="noStrike" baseline="30000">
                <a:solidFill>
                  <a:srgbClr val="1f497d"/>
                </a:solidFill>
                <a:latin typeface="Times New Roman"/>
                <a:ea typeface="Times New Roman"/>
              </a:rPr>
              <a:t>*</a:t>
            </a:r>
            <a:r>
              <a:rPr b="1" lang="en-CA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uppose that     is the candidate estimate for the parameter </a:t>
            </a:r>
            <a:r>
              <a:rPr b="1" lang="en-CA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</a:t>
            </a:r>
            <a:r>
              <a:rPr b="0" lang="en-CA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in a linear (affine) system. Then the linear regression model of the system becom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* [Å. Björck, SIAM, 1996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2778120" y="3165480"/>
          <a:ext cx="25236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8120" y="3165480"/>
                    <a:ext cx="2523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9" descr="logoUCSD.gif"/>
          <p:cNvPicPr/>
          <p:nvPr/>
        </p:nvPicPr>
        <p:blipFill>
          <a:blip r:embed="rId3"/>
          <a:stretch/>
        </p:blipFill>
        <p:spPr>
          <a:xfrm>
            <a:off x="8369280" y="6095880"/>
            <a:ext cx="77472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8"/>
          <p:cNvGraphicFramePr/>
          <p:nvPr/>
        </p:nvGraphicFramePr>
        <p:xfrm>
          <a:off x="1143000" y="4572000"/>
          <a:ext cx="4495680" cy="50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3000" y="4572000"/>
                    <a:ext cx="44956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10"/>
          <p:cNvGraphicFramePr/>
          <p:nvPr/>
        </p:nvGraphicFramePr>
        <p:xfrm>
          <a:off x="1162080" y="5164200"/>
          <a:ext cx="2114640" cy="501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62080" y="5164200"/>
                    <a:ext cx="211464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12"/>
          <p:cNvGraphicFramePr/>
          <p:nvPr/>
        </p:nvGraphicFramePr>
        <p:xfrm>
          <a:off x="4257720" y="5181480"/>
          <a:ext cx="4429080" cy="609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57720" y="5181480"/>
                    <a:ext cx="4429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370160"/>
            <a:ext cx="8229600" cy="45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Principal Component Regression (PCR)*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ased on principal component analy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Used when  </a:t>
            </a:r>
            <a:r>
              <a:rPr b="1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X</a:t>
            </a:r>
            <a:r>
              <a:rPr b="1" lang="en-CA" sz="2000" spc="-1" strike="noStrike" baseline="30000">
                <a:solidFill>
                  <a:srgbClr val="1f497d"/>
                </a:solidFill>
                <a:latin typeface="Times New Roman"/>
                <a:ea typeface="Times New Roman"/>
              </a:rPr>
              <a:t>T</a:t>
            </a:r>
            <a:r>
              <a:rPr b="1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X</a:t>
            </a:r>
            <a:r>
              <a:rPr b="0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is (nearly) singula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PCs corresponding to only the first several eigenvalues are used.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V</a:t>
            </a:r>
            <a:r>
              <a:rPr b="0" lang="en-CA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is the set of corresponding k eigenvectors, and </a:t>
            </a:r>
            <a:r>
              <a:rPr b="1" lang="en-CA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</a:t>
            </a:r>
            <a:r>
              <a:rPr b="0" lang="en-CA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is the matrix of latent varia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number of latent variables on the basis of fraction of cumulative variance (say 0.8 &lt; </a:t>
            </a:r>
            <a:r>
              <a:rPr b="0" i="1" lang="en-CA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r</a:t>
            </a:r>
            <a:r>
              <a:rPr b="0" lang="en-CA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&lt; 0.95) captur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Fit-error: root mean squared error (RM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Object 9"/>
          <p:cNvGraphicFramePr/>
          <p:nvPr/>
        </p:nvGraphicFramePr>
        <p:xfrm>
          <a:off x="1247760" y="3730680"/>
          <a:ext cx="158436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7760" y="3730680"/>
                    <a:ext cx="15843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Picture 9" descr="logoUCSD.gif"/>
          <p:cNvPicPr/>
          <p:nvPr/>
        </p:nvPicPr>
        <p:blipFill>
          <a:blip r:embed="rId3"/>
          <a:stretch/>
        </p:blipFill>
        <p:spPr>
          <a:xfrm>
            <a:off x="8369280" y="6095880"/>
            <a:ext cx="774720" cy="762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>
            <a:off x="457200" y="65530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* [Ian T. Jolliffe , Journal of the Royal Statistical Society, Series C (Applied Statistics)  1989, Vol. 31, No. 3) </a:t>
            </a:r>
            <a:r>
              <a:rPr b="1" i="1" lang="en-US" sz="1200" spc="-1" strike="noStrike">
                <a:solidFill>
                  <a:srgbClr val="1f497d"/>
                </a:solidFill>
                <a:latin typeface="Calibri"/>
              </a:rPr>
              <a:t>31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 (3): 300–303]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0"/>
          <p:cNvGraphicFramePr/>
          <p:nvPr/>
        </p:nvGraphicFramePr>
        <p:xfrm>
          <a:off x="1317600" y="3273480"/>
          <a:ext cx="4256280" cy="41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17600" y="3273480"/>
                    <a:ext cx="425628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1"/>
          <p:cNvGraphicFramePr/>
          <p:nvPr/>
        </p:nvGraphicFramePr>
        <p:xfrm>
          <a:off x="1328760" y="2743200"/>
          <a:ext cx="2328840" cy="412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28760" y="2743200"/>
                    <a:ext cx="23288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13"/>
          <p:cNvGraphicFramePr/>
          <p:nvPr/>
        </p:nvGraphicFramePr>
        <p:xfrm>
          <a:off x="1317600" y="5913360"/>
          <a:ext cx="3635280" cy="40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9" name="Object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17600" y="5913360"/>
                    <a:ext cx="36352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east Absolute Shrinkage and Selection Operator (LASSO)*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problem of reconstruction is cast into a quadratic optimization problem with an additional nonlinear constrain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controls the amount of shrinkage in the estimation of parameters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For certain values of </a:t>
            </a:r>
            <a:r>
              <a:rPr b="0" i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(                         obtained from LS</a:t>
            </a:r>
            <a:r>
              <a:rPr b="0" i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algorithm shrinks some of the larger parameter-values and sets some of the parameters to z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0" descr="logoUCSD.gif"/>
          <p:cNvPicPr/>
          <p:nvPr/>
        </p:nvPicPr>
        <p:blipFill>
          <a:blip r:embed="rId1"/>
          <a:stretch/>
        </p:blipFill>
        <p:spPr>
          <a:xfrm>
            <a:off x="8369280" y="6095880"/>
            <a:ext cx="7747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/>
          <p:cNvSpPr/>
          <p:nvPr/>
        </p:nvSpPr>
        <p:spPr>
          <a:xfrm>
            <a:off x="1219320" y="586728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* [Tibshirani, R., Journal of the Royal Statistical Society Series B-Methodological, 1996. </a:t>
            </a:r>
            <a:r>
              <a:rPr b="1" i="1" lang="en-US" sz="1200" spc="-1" strike="noStrike">
                <a:solidFill>
                  <a:srgbClr val="1f497d"/>
                </a:solidFill>
                <a:latin typeface="Calibri"/>
              </a:rPr>
              <a:t>58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(1): p. 267-288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7"/>
          <p:cNvGraphicFramePr/>
          <p:nvPr/>
        </p:nvGraphicFramePr>
        <p:xfrm>
          <a:off x="1295280" y="3124080"/>
          <a:ext cx="4918320" cy="6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124080"/>
                    <a:ext cx="49183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9"/>
          <p:cNvGraphicFramePr/>
          <p:nvPr/>
        </p:nvGraphicFramePr>
        <p:xfrm>
          <a:off x="3687840" y="4191120"/>
          <a:ext cx="1371600" cy="436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87840" y="4191120"/>
                    <a:ext cx="137160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28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inear Matrix Inequalities (LMI)</a:t>
            </a:r>
            <a:r>
              <a:rPr b="1" lang="en-US" sz="2200" spc="-1" strike="noStrike" baseline="30000">
                <a:solidFill>
                  <a:srgbClr val="1f497d"/>
                </a:solidFill>
                <a:latin typeface="Times New Roman"/>
                <a:ea typeface="Times New Roman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onverts a nonlinear optimization problem into a linear optimization probl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ongruence transform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Pre-existing knowledge of the system (e.g.                       ) can be added in the form of LMI constrain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reshold the coefficient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4924440" y="4245120"/>
          <a:ext cx="1173240" cy="2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4440" y="4245120"/>
                    <a:ext cx="117324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11" descr="logoUCSD.gif"/>
          <p:cNvPicPr/>
          <p:nvPr/>
        </p:nvPicPr>
        <p:blipFill>
          <a:blip r:embed="rId3"/>
          <a:stretch/>
        </p:blipFill>
        <p:spPr>
          <a:xfrm>
            <a:off x="8369280" y="6095880"/>
            <a:ext cx="774720" cy="7621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914400" y="62485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* [Cosentino, C., et al., IET Systems Biology, 2007. </a:t>
            </a:r>
            <a:r>
              <a:rPr b="1" i="1" lang="en-US" sz="12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(3): p. 164-17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11"/>
          <p:cNvGraphicFramePr/>
          <p:nvPr/>
        </p:nvGraphicFramePr>
        <p:xfrm>
          <a:off x="3344760" y="2538360"/>
          <a:ext cx="3132360" cy="43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4760" y="2538360"/>
                    <a:ext cx="31323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3"/>
          <p:cNvGraphicFramePr/>
          <p:nvPr/>
        </p:nvGraphicFramePr>
        <p:xfrm>
          <a:off x="4119480" y="3267000"/>
          <a:ext cx="1962360" cy="695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1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19480" y="3267000"/>
                    <a:ext cx="1962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5"/>
          <p:cNvGraphicFramePr/>
          <p:nvPr/>
        </p:nvGraphicFramePr>
        <p:xfrm>
          <a:off x="3686040" y="4572000"/>
          <a:ext cx="2105280" cy="338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4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86040" y="4572000"/>
                    <a:ext cx="210528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17"/>
          <p:cNvGraphicFramePr/>
          <p:nvPr/>
        </p:nvGraphicFramePr>
        <p:xfrm>
          <a:off x="6240600" y="4591080"/>
          <a:ext cx="1123920" cy="514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7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40600" y="4591080"/>
                    <a:ext cx="11239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9"/>
          <p:cNvGraphicFramePr/>
          <p:nvPr/>
        </p:nvGraphicFramePr>
        <p:xfrm>
          <a:off x="7581960" y="4610160"/>
          <a:ext cx="1104840" cy="495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0" name="Object 1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81960" y="4610160"/>
                    <a:ext cx="110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1"/>
          <p:cNvGraphicFramePr/>
          <p:nvPr/>
        </p:nvGraphicFramePr>
        <p:xfrm>
          <a:off x="3921120" y="5486400"/>
          <a:ext cx="2251080" cy="609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3" name="Object 2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921120" y="5486400"/>
                    <a:ext cx="2251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5228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Metrics for comparing the metho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Reconstruction  from 80% of datasets and 20% for validation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RMSE on the test set, and the number and the identity of the significant predictors as the basic metric to evaluate the performance of each metho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Fractional error in the estimating the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ensitivity, specificity, G, accura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1" descr="logoUCSD.gif"/>
          <p:cNvPicPr/>
          <p:nvPr/>
        </p:nvPicPr>
        <p:blipFill>
          <a:blip r:embed="rId1"/>
          <a:stretch/>
        </p:blipFill>
        <p:spPr>
          <a:xfrm>
            <a:off x="8369280" y="6095880"/>
            <a:ext cx="774720" cy="7621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9"/>
          <p:cNvGraphicFramePr/>
          <p:nvPr/>
        </p:nvGraphicFramePr>
        <p:xfrm>
          <a:off x="762120" y="3724200"/>
          <a:ext cx="215244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724200"/>
                    <a:ext cx="21524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Box 20"/>
          <p:cNvSpPr/>
          <p:nvPr/>
        </p:nvSpPr>
        <p:spPr>
          <a:xfrm>
            <a:off x="3276720" y="3733920"/>
            <a:ext cx="571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parameters smaller than 10% of the standard deviation of all  parameter values were set to 0 when generating the synthe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11"/>
          <p:cNvGraphicFramePr/>
          <p:nvPr/>
        </p:nvGraphicFramePr>
        <p:xfrm>
          <a:off x="762120" y="4876920"/>
          <a:ext cx="2286000" cy="14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4876920"/>
                    <a:ext cx="2286000" cy="14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Box 23"/>
          <p:cNvSpPr/>
          <p:nvPr/>
        </p:nvSpPr>
        <p:spPr>
          <a:xfrm>
            <a:off x="4114800" y="495288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P : True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FP : False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N : True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FN : False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6:40:21Z</dcterms:created>
  <dc:creator>Behrang Asadi</dc:creator>
  <dc:description/>
  <dc:language>en-US</dc:language>
  <cp:lastModifiedBy>Behrang Asadi</cp:lastModifiedBy>
  <dcterms:modified xsi:type="dcterms:W3CDTF">2011-02-18T23:34:51Z</dcterms:modified>
  <cp:revision>137</cp:revision>
  <dc:subject/>
  <dc:title>COMPARISON OF STATISTICAL AND OPTIMIZATION-BASED METHODS FOR DATA-DRIVEN NETWORK RECONSTRUCTION OF BIOCHEMICAL SYSTEMS </dc:title>
</cp:coreProperties>
</file>