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F826-C6DD-4DCD-9B2A-8849A4A3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E9C8-0731-4C9D-BEA7-CB4383B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CF5F-5C98-452F-81D5-6CB1C2E2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B440-857B-4B8F-9C78-2147AD53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39DC-E34C-4325-8841-F6F4746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7E7F-7D3D-4224-A2C7-A3FC2FC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35DF-C43C-4E0B-9CF2-695EC15B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8B0F-EF45-46C8-8C6A-9EEE522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5C3A-4021-4C65-BE67-E8961501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D49E-8306-4006-B6D3-63F53D4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0C53-8034-41BD-A44E-BC307F0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2351-23EF-41AA-A343-3661D50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EFB2-1095-4422-A48D-E710D06B8E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4400" spc="-1" strike="noStrike">
                <a:solidFill>
                  <a:srgbClr val="675e47"/>
                </a:solidFill>
                <a:latin typeface="Cambria"/>
              </a:rPr>
              <a:t>Networks and Temporal Data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675e47"/>
                </a:solidFill>
                <a:latin typeface="Cambria"/>
              </a:rPr>
              <a:t>Identification of Crosstalk between Phosphoprotein Signaling Pathway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57200" y="370044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Shakti Gupta, Mano Ram Maurya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Shankar Subramaniam 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Department of Bioengineering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University of California, San Diego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75e47"/>
                </a:solidFill>
                <a:latin typeface="Cambria"/>
              </a:rPr>
              <a:t>Identification of Signaling Connections</a:t>
            </a:r>
            <a:endParaRPr b="0" lang="en-US" sz="3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5" name="Picture 2" descr="\\vault.ad.sdsc.edu\shakti$\AFCS\Paper\Plos\submitted-figs\fig2.tif"/>
          <p:cNvPicPr/>
          <p:nvPr/>
        </p:nvPicPr>
        <p:blipFill>
          <a:blip r:embed="rId1"/>
          <a:stretch/>
        </p:blipFill>
        <p:spPr>
          <a:xfrm>
            <a:off x="380880" y="1143000"/>
            <a:ext cx="840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gnaling Networ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7" name="Picture 3" descr="PP_model0"/>
          <p:cNvPicPr/>
          <p:nvPr/>
        </p:nvPicPr>
        <p:blipFill>
          <a:blip r:embed="rId1"/>
          <a:stretch/>
        </p:blipFill>
        <p:spPr>
          <a:xfrm>
            <a:off x="685800" y="17524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169920" y="5765760"/>
            <a:ext cx="78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Captured most of the true edge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Some false positives as a result of high-correlation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6029280" y="76320"/>
            <a:ext cx="2290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gnaling Networ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2" descr="\\sc-vault\shgupta$\AFCS\Paper\Plos_final\revised\rev-2\ProofRead\PlosFigs\fig4.tif"/>
          <p:cNvPicPr/>
          <p:nvPr/>
        </p:nvPicPr>
        <p:blipFill>
          <a:blip r:embed="rId1"/>
          <a:srcRect l="3931" t="52764" r="0" b="0"/>
          <a:stretch/>
        </p:blipFill>
        <p:spPr>
          <a:xfrm>
            <a:off x="1314360" y="1838160"/>
            <a:ext cx="6053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e47"/>
                </a:solidFill>
                <a:latin typeface="Cambria"/>
              </a:rPr>
              <a:t>Signaling Network – Literature Validat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Rectangle 16087"/>
          <p:cNvSpPr/>
          <p:nvPr/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Connections validated with literature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Connections: AKT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GSK, ERK2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RSK, GSK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MOE, PKC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SMD2, PKC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EZR, PKC 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p38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Correlated groups/proteins: GSKA &amp; GSKB, EZR &amp; MOE; ERK1 &amp; ERK2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Correct correlation but not direction: p65 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PKC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Potentially novel connections: p38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RSK, p38</a:t>
            </a:r>
            <a:r>
              <a:rPr b="0" lang="en-US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GSK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4" name="Picture 2" descr="\\sc-vault\shgupta$\AFCS\Paper\Plos_final\revised\rev-2\ProofRead\PlosFigs\fig4.tif"/>
          <p:cNvPicPr/>
          <p:nvPr/>
        </p:nvPicPr>
        <p:blipFill>
          <a:blip r:embed="rId1"/>
          <a:srcRect l="3432" t="52766" r="0" b="0"/>
          <a:stretch/>
        </p:blipFill>
        <p:spPr>
          <a:xfrm>
            <a:off x="2505240" y="4264200"/>
            <a:ext cx="40240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Minimal Models and Their Predictive Power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6" name="Picture 2" descr="\\vault.ad.sdsc.edu\shakti$\AFCS\Paper\Plos\submitted-figs\fig4.tif"/>
          <p:cNvPicPr/>
          <p:nvPr/>
        </p:nvPicPr>
        <p:blipFill>
          <a:blip r:embed="rId1"/>
          <a:stretch/>
        </p:blipFill>
        <p:spPr>
          <a:xfrm>
            <a:off x="1752480" y="1371600"/>
            <a:ext cx="526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5e47"/>
                </a:solidFill>
                <a:latin typeface="Cambria"/>
              </a:rPr>
              <a:t>Prediction capability for extrapolat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rcRect l="5681" t="0" r="0" b="6422"/>
          <a:stretch/>
        </p:blipFill>
        <p:spPr>
          <a:xfrm>
            <a:off x="501480" y="914400"/>
            <a:ext cx="5295960" cy="553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 rot="16200000">
            <a:off x="-897480" y="2995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Predicted Data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057400" y="638640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Experimental Data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257800" y="5029200"/>
            <a:ext cx="2932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Arial"/>
              </a:rPr>
              <a:t>Numerical integration</a:t>
            </a: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 used to avoid discretization error </a:t>
            </a:r>
            <a:r>
              <a:rPr b="0" lang="en-US" sz="20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Resulted in improved fit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5943600" y="144792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Prediction of data at 10 min using data at 3 mi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gnaling Networ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4" name="Picture 2" descr="\\sc-vault\shgupta$\AFCS\Paper\Plos_final\revised\rev-2\ProofRead\PlosFigs\fig4.tif"/>
          <p:cNvPicPr/>
          <p:nvPr/>
        </p:nvPicPr>
        <p:blipFill>
          <a:blip r:embed="rId1"/>
          <a:srcRect l="0" t="52764" r="0" b="0"/>
          <a:stretch/>
        </p:blipFill>
        <p:spPr>
          <a:xfrm>
            <a:off x="1066680" y="1857240"/>
            <a:ext cx="6301080" cy="3733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762120" y="1857240"/>
            <a:ext cx="76176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3962520" y="2819520"/>
            <a:ext cx="2133360" cy="1600200"/>
          </a:xfrm>
          <a:prstGeom prst="ellipse">
            <a:avLst/>
          </a:prstGeom>
          <a:solidFill>
            <a:srgbClr val="a9a57c">
              <a:alpha val="25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Analysis of phosphorylation of GSKα/β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8" name="Picture 2" descr="\\vault.ad.sdsc.edu\shakti$\AFCS\Paper\Plos\submitted-figs\fig5.tif"/>
          <p:cNvPicPr/>
          <p:nvPr/>
        </p:nvPicPr>
        <p:blipFill>
          <a:blip r:embed="rId1"/>
          <a:stretch/>
        </p:blipFill>
        <p:spPr>
          <a:xfrm>
            <a:off x="1752480" y="2133720"/>
            <a:ext cx="511020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295280" y="13064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n edge from node i to node j is consistent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2f2b20"/>
                </a:solidFill>
                <a:latin typeface="Arial"/>
              </a:rPr>
              <a:t>sign(node i)*sign(edge(i</a:t>
            </a:r>
            <a:r>
              <a:rPr b="0" i="1" lang="en-US" sz="18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2f2b20"/>
                </a:solidFill>
                <a:latin typeface="Arial"/>
              </a:rPr>
              <a:t>j)) = sign(node j)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877000" y="3038400"/>
            <a:ext cx="380880" cy="1676520"/>
          </a:xfrm>
          <a:prstGeom prst="rect">
            <a:avLst/>
          </a:prstGeom>
          <a:solidFill>
            <a:srgbClr val="a9a57c">
              <a:alpha val="25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Analysis of phosphorylation of GSKα/β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04920" y="6211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rial"/>
              </a:rPr>
              <a:t>Hypothesis: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Experiment on P38 knockout cell line with ligand such as PGE would reduce or abolish the phosphorylation of GSKα/β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3" name="Picture 7" descr="\\sc-istorage02\mmaurya$\BKP-from-C\work-mano\tmp\Conferences\AIChE\2010\F-test-in-K-fold-CV_Shakti\aux-files\Paper\revised\submitted-figs\fig7.tif"/>
          <p:cNvPicPr/>
          <p:nvPr/>
        </p:nvPicPr>
        <p:blipFill>
          <a:blip r:embed="rId1"/>
          <a:stretch/>
        </p:blipFill>
        <p:spPr>
          <a:xfrm>
            <a:off x="677880" y="750960"/>
            <a:ext cx="686592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4495680" y="2590920"/>
            <a:ext cx="381240" cy="2514600"/>
          </a:xfrm>
          <a:prstGeom prst="rect">
            <a:avLst/>
          </a:prstGeom>
          <a:solidFill>
            <a:srgbClr val="a9a57c">
              <a:alpha val="25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nclus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Rectangle 16087"/>
          <p:cNvSpPr/>
          <p:nvPr/>
        </p:nvSpPr>
        <p:spPr>
          <a:xfrm>
            <a:off x="1522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Developed a data-driven approach to validate known interactions and decipher novel interactions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4540320"/>
                <a:tab algn="l" pos="908064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Generated map provides an integrated view of the sparse knowledge available in the literature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tabLst>
                <a:tab algn="l" pos="0"/>
                <a:tab algn="l" pos="4540320"/>
                <a:tab algn="l" pos="908064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Novel connections such as p38</a:t>
            </a:r>
            <a:r>
              <a:rPr b="0" lang="en-US" sz="28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 GSK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700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Ligand specific analysis can assist in designing focused experiments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0" descr="CellularSignaling-schematic"/>
          <p:cNvPicPr/>
          <p:nvPr/>
        </p:nvPicPr>
        <p:blipFill>
          <a:blip r:embed="rId1"/>
          <a:stretch/>
        </p:blipFill>
        <p:spPr>
          <a:xfrm>
            <a:off x="762120" y="1295280"/>
            <a:ext cx="459720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gnaling Pathway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Rectangle 16093"/>
          <p:cNvSpPr/>
          <p:nvPr/>
        </p:nvSpPr>
        <p:spPr>
          <a:xfrm>
            <a:off x="4952880" y="2057400"/>
            <a:ext cx="3505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6440"/>
                <a:tab algn="l" pos="90932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Motivation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6440"/>
                <a:tab algn="l" pos="90932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Making sense of  large amounts of dat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6440"/>
                <a:tab algn="l" pos="90932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Decipher the complex interconnectivity of signaling pathways and cross-talk among them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nk yo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816360" y="243828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2f2b2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Abbreviat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05120" y="1517760"/>
          <a:ext cx="5410080" cy="5035320"/>
        </p:xfrm>
        <a:graphic>
          <a:graphicData uri="http://schemas.openxmlformats.org/drawingml/2006/table">
            <a:tbl>
              <a:tblPr/>
              <a:tblGrid>
                <a:gridCol w="4154400"/>
                <a:gridCol w="1255680"/>
              </a:tblGrid>
              <a:tr h="33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Ligand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bbreviation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2-Methyl-thio-ATP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2M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esiquimod (R-848) 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84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Complement C5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C5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Granulocyte macrophage colony stimulating factor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GMF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leukin-4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04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leukin-6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06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leukin-10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10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leukin-1-bet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1B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feron-alpha 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F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feron-bet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FB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nterferon-gamm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FG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soproterenol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ISO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Lysophosphatidic acid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LP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Lipopolysaccharide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LPS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Macrophage colony stimulating factor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MCF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AM2CSK4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2C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AM3CSK4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3C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latelet Activating Factor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AF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rostaglandin E2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GE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phingosine-1-phosphate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1P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ransforming growth factor-bet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GF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ridine 5'-diphosphate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DP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990720" y="992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  <a:ea typeface="Times New Roman"/>
              </a:rPr>
              <a:t>Table 1. The names of the 22 ligands used in the AfCS experiment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Correlation Map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3" name="Picture 5" descr="\\vault.ad.sdsc.edu\shakti$\AFCS\Paper\Plos\submitted-figs\fig1.tif"/>
          <p:cNvPicPr/>
          <p:nvPr/>
        </p:nvPicPr>
        <p:blipFill>
          <a:blip r:embed="rId1"/>
          <a:stretch/>
        </p:blipFill>
        <p:spPr>
          <a:xfrm>
            <a:off x="1752480" y="990720"/>
            <a:ext cx="5986440" cy="4790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-38160" y="5505480"/>
            <a:ext cx="86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High correlation: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buClr>
                <a:srgbClr val="2f2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etween ERK1/2 and RSK, EZR and MOE and, GSK</a:t>
            </a:r>
            <a:r>
              <a:rPr b="0" lang="el-GR" sz="1800" spc="-1" strike="noStrike">
                <a:solidFill>
                  <a:srgbClr val="2f2b2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and GSK</a:t>
            </a:r>
            <a:r>
              <a:rPr b="0" lang="el-GR" sz="1800" spc="-1" strike="noStrike">
                <a:solidFill>
                  <a:srgbClr val="2f2b20"/>
                </a:solidFill>
                <a:latin typeface="Arial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, ST1A and ST1B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buClr>
                <a:srgbClr val="2f2b2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P38 to ERK1/2 and RSK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No correlation between PKCD and PKCM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86" descr=""/>
          <p:cNvPicPr/>
          <p:nvPr/>
        </p:nvPicPr>
        <p:blipFill>
          <a:blip r:embed="rId1"/>
          <a:stretch/>
        </p:blipFill>
        <p:spPr>
          <a:xfrm>
            <a:off x="154080" y="1152360"/>
            <a:ext cx="7694640" cy="524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FCS Dat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Rectangle 16339"/>
          <p:cNvSpPr/>
          <p:nvPr/>
        </p:nvSpPr>
        <p:spPr>
          <a:xfrm>
            <a:off x="4002120" y="4267080"/>
            <a:ext cx="4724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4546440"/>
                <a:tab algn="l" pos="909324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</a:rPr>
              <a:t>Data from the Alliance for Cellular Signaling (AfCS)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4546440"/>
                <a:tab algn="l" pos="909324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  <a:ea typeface="Arial"/>
              </a:rPr>
              <a:t>Mouse macrophage RAW 264.7 cell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4546440"/>
                <a:tab algn="l" pos="909324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  <a:ea typeface="Arial"/>
              </a:rPr>
              <a:t>Western-blot-based data on 17 phosphoproteins (PPs)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4546440"/>
                <a:tab algn="l" pos="909324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Arial"/>
                <a:ea typeface="Arial"/>
              </a:rPr>
              <a:t>22 ligands and their double-ligand combination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46440"/>
                <a:tab algn="l" pos="909324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92240" y="6519960"/>
            <a:ext cx="89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</a:rPr>
              <a:t>Available from: http://www.signaling-gateway.org/data/cgi-bin/table2.cgi?cellabbr=RW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FCS Dat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943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669760" y="586728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Time series data: 0, 1, 3, 10 and 30 mi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im / Object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95880" cy="5069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523880" y="6400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vailable from: UCSD-Nature Signaling-gateway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6087"/>
          <p:cNvSpPr/>
          <p:nvPr/>
        </p:nvSpPr>
        <p:spPr>
          <a:xfrm>
            <a:off x="228600" y="969840"/>
            <a:ext cx="82296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Network identification as an Input/Output modeling problem, using temporal dat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Develop (linear) dynamic input/output model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Select statistically significant coefficients/connection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Draw a network using significant connection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Model formulation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After discretization and rearrangement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Method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429000" y="3171960"/>
                <a:ext cx="1496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790720" y="4495680"/>
                <a:ext cx="366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X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5" name="Right Arrow 12"/>
          <p:cNvSpPr/>
          <p:nvPr/>
        </p:nvSpPr>
        <p:spPr>
          <a:xfrm>
            <a:off x="2133720" y="58672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"/>
              <p:cNvSpPr txBox="1"/>
              <p:nvPr/>
            </p:nvSpPr>
            <p:spPr>
              <a:xfrm>
                <a:off x="3124080" y="5381640"/>
                <a:ext cx="44625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6087"/>
          <p:cNvSpPr/>
          <p:nvPr/>
        </p:nvSpPr>
        <p:spPr>
          <a:xfrm>
            <a:off x="609480" y="1371600"/>
            <a:ext cx="7467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5800" indent="-342720">
              <a:lnSpc>
                <a:spcPct val="100000"/>
              </a:lnSpc>
              <a:spcBef>
                <a:spcPts val="649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Compute </a:t>
            </a:r>
            <a:r>
              <a:rPr b="1" lang="en-US" sz="2600" spc="-1" strike="noStrike">
                <a:solidFill>
                  <a:srgbClr val="2f2b2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 using partial least squares (PLS)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49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Develop model for all phosphoproteins (PPs) individually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Model selection criteria: model for a PP retained if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49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Input captured at least 50% variance in output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49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10-fold cross-validation was successful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marL="228600" indent="-22860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Criteria for statistical significance of coefficients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49"/>
              </a:spcBef>
              <a:buClr>
                <a:srgbClr val="2f2b20"/>
              </a:buClr>
              <a:buFont typeface="Arial"/>
              <a:buChar char="–"/>
              <a:tabLst>
                <a:tab algn="l" pos="4540320"/>
                <a:tab algn="l" pos="908064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Arial"/>
              </a:rPr>
              <a:t>p-value less than 0.01 when compared against the coefficients of random models</a:t>
            </a:r>
            <a:endParaRPr b="0" lang="en-US" sz="2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Method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Metho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apped  data at 1 min time point to 3 min time poin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ater time points (10 and 30 min) were neglected because those time points mostly contains effect of self degradation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dvantage of P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0" t="7029" r="0" b="0"/>
          <a:stretch/>
        </p:blipFill>
        <p:spPr>
          <a:xfrm>
            <a:off x="304920" y="1609560"/>
            <a:ext cx="41050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rcRect l="0" t="0" r="8801" b="0"/>
          <a:stretch/>
        </p:blipFill>
        <p:spPr>
          <a:xfrm>
            <a:off x="4533840" y="1679400"/>
            <a:ext cx="3876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5:46:21Z</dcterms:created>
  <dc:creator>profile</dc:creator>
  <dc:description/>
  <dc:language>en-US</dc:language>
  <cp:lastModifiedBy>Gupta, Shakti</cp:lastModifiedBy>
  <dcterms:modified xsi:type="dcterms:W3CDTF">2011-02-11T20:55:39Z</dcterms:modified>
  <cp:revision>49</cp:revision>
  <dc:subject/>
  <dc:title>Reconstruction of Phosphoprotein Network - AFCS</dc:title>
</cp:coreProperties>
</file>