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31"/>
          </p:nvPr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2"/>
          </p:nvPr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 type="sldNum" idx="33"/>
          </p:nvPr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85AC53-1016-48FF-BBED-C55136385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82FE8D-C3F0-4E5F-A7AE-C8DEBEF87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D10-7FFF-4C9A-9609-BEEA4122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CA4-09DA-44DD-B17F-34A77B4D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9A0-50C1-4E49-A0B2-D5BFC48B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FA5-2BB1-4F1A-B04D-6B144488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138-F16E-4E9E-BB32-6CA98184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4391E-662F-45FB-B665-ED89CD93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E91E2-0576-4A5B-9C67-359CC666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D1ED4-38EA-4883-BC3E-DEB96CD1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B0A37-0FA7-4C43-8045-490638AB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FAC29-3A1F-4BF8-B1B2-6F29DDFC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4CC-029C-4B3E-9916-F5B027E6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CC840-19FF-49FF-9A25-E89D64DB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5AFA2-161C-4C7D-8A0E-62708C0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238CF-F129-4305-9192-8FBE6AA8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FCD97-D4C2-4968-B4B9-6AE304C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F4764-E235-469E-ADDF-3DBD7C21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B8F46-081A-427B-A158-07071732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CB349-8124-4F64-9D9E-5D3E14EB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16F-110F-4B59-98AA-3E8985C8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624-F07A-439C-A728-A900E98A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6A9-E3BA-4034-A867-01174E37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9C2-9C1F-4ADD-AFEA-6E337964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996-755B-4CE1-B4E2-61ADF15A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EDD-F1B1-415A-B107-5820063A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F08B-DD35-4B93-8663-E45D47C2B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LMAPS LOGOS blue"/>
          <p:cNvPicPr/>
          <p:nvPr/>
        </p:nvPicPr>
        <p:blipFill>
          <a:blip r:embed="rId2"/>
          <a:stretch/>
        </p:blipFill>
        <p:spPr>
          <a:xfrm>
            <a:off x="8169120" y="6103800"/>
            <a:ext cx="974880" cy="75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2"/>
          </p:nvPr>
        </p:nvSpPr>
        <p:spPr>
          <a:xfrm>
            <a:off x="61718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4"/>
          </p:nvPr>
        </p:nvSpPr>
        <p:spPr>
          <a:xfrm>
            <a:off x="61718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6"/>
          </p:nvPr>
        </p:nvSpPr>
        <p:spPr>
          <a:xfrm>
            <a:off x="61718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8"/>
          </p:nvPr>
        </p:nvSpPr>
        <p:spPr>
          <a:xfrm>
            <a:off x="61718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0"/>
          </p:nvPr>
        </p:nvSpPr>
        <p:spPr>
          <a:xfrm>
            <a:off x="61718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1718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000E-E96A-4A07-8E2B-9D538D0C4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LMAPS LOGOS blue"/>
          <p:cNvPicPr/>
          <p:nvPr/>
        </p:nvPicPr>
        <p:blipFill>
          <a:blip r:embed="rId2"/>
          <a:stretch/>
        </p:blipFill>
        <p:spPr>
          <a:xfrm>
            <a:off x="8169120" y="6103800"/>
            <a:ext cx="974880" cy="75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0"/>
          </p:nvPr>
        </p:nvSpPr>
        <p:spPr>
          <a:xfrm>
            <a:off x="61718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5975280" y="6400800"/>
            <a:ext cx="316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61718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61718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8"/>
          </p:nvPr>
        </p:nvSpPr>
        <p:spPr>
          <a:xfrm>
            <a:off x="61718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61718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Scripps_Campus_4"/>
          <p:cNvPicPr/>
          <p:nvPr/>
        </p:nvPicPr>
        <p:blipFill>
          <a:blip r:embed="rId1"/>
          <a:stretch/>
        </p:blipFill>
        <p:spPr>
          <a:xfrm>
            <a:off x="-304920" y="0"/>
            <a:ext cx="10134720" cy="74422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4"/>
          <p:cNvSpPr/>
          <p:nvPr/>
        </p:nvSpPr>
        <p:spPr>
          <a:xfrm>
            <a:off x="0" y="0"/>
            <a:ext cx="868680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hankar Subraman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versity of California at San D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-304920" y="0"/>
            <a:ext cx="10134720" cy="129528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to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FOUR “BIOLOGY DRIVEN” CHALLENGES FOR  THE STC CS RESEAR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9600" y="1476000"/>
            <a:ext cx="84870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KNOWLEDGE EXTRACTION FROM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HOW CAN BIOLOGICAL DATA BE INTEGR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FINING THE GRANULARITY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UNBIASED STATISTIC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IOLOGY-CONSTRAINE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INFORMATION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HOW DO WE DEAL WITH CONT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FOUR “BIOLOGY DRIVEN” CHALLENGES FOR  THE STC CS RESEAR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9600" y="1342800"/>
            <a:ext cx="836316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NOIS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AN WE DEFINE HOW MUCH NOISE AND WHAT TYPE OF NOISE CAN BE TOLERATED IN EXTRACTING KNOWLED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S MISSING DATA TANTAMOUNT TO NOISE? IF NOT HOW DO WE DEAL WITH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FOUR “BIOLOGY DRIVEN” CHALLENGES FOR  THE STC CS RESEAR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99600" y="1342800"/>
            <a:ext cx="836316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ASSIFICATION OF MODULARITY FROM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HOW CAN WE DEFINE MODULES (FUNCTIONAL, SPATIAL, TEMPORAL, ETC.) FROM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HAT IS THE INFORMATION CONTENT IN THE MOD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AN WE COMPARE MODULES QUANTITATIVE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FOUR “BIOLOGY DRIVEN” CHALLENGES FOR  THE STC CS RESEAR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99600" y="1342800"/>
            <a:ext cx="836316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EALING WITH DYNAMIC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HOW DO WE DEAL WITH TIME SERIES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HOW IS INFORMATION PROCESSED IN TIME SERIES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HAT GRANULARITY AND CONTEXT IS NECESSARY TO ANALYZE THIS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ankar</dc:creator>
  <dc:description/>
  <dc:language>en-US</dc:language>
  <cp:lastModifiedBy>Subramaniam, Shankar</cp:lastModifiedBy>
  <dcterms:modified xsi:type="dcterms:W3CDTF">2011-02-11T20:29:52Z</dcterms:modified>
  <cp:revision>2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